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E0A-8435-429A-9DB5-5D40DD41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A92-F5A6-4B27-95BC-5EE652CC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959-AA07-4E1C-B5B4-ABAC7F54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C33-1ABB-46A1-8206-17A09ECA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5F9-DA61-4543-A6CB-20690BEE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BE1-AA18-405C-B261-7609BD86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A7C-2AC7-4FB7-919F-1E088127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53D-560A-4E19-9B94-D40329D8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610-4A75-44FB-B15F-E6C00E83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512-EDAF-4ACE-B88D-D8AFD4E3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882-A738-4CA3-AD2B-03008A9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C07-442E-403C-9BE3-95A90A5F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14C3-7B55-4E17-8F53-CC7D473C4E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0"/>
          <p:cNvSpPr/>
          <p:nvPr/>
        </p:nvSpPr>
        <p:spPr>
          <a:xfrm>
            <a:off x="358920" y="311796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24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спользование ИОС Учи.ру для повышения уровня образовательных результатов обучающихся в начальной шк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58920" y="33480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3780000" y="5097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 семинар в рамках интернет-фестиваля «Интерактивные среды в образовательной деятельности: опыт, проблемы, перспекти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95640" y="58420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2.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8604360" y="6245280"/>
            <a:ext cx="8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User\Desktop\1.png"/>
          <p:cNvPicPr/>
          <p:nvPr/>
        </p:nvPicPr>
        <p:blipFill>
          <a:blip r:embed="rId1"/>
          <a:stretch/>
        </p:blipFill>
        <p:spPr>
          <a:xfrm>
            <a:off x="4859280" y="992160"/>
            <a:ext cx="3921120" cy="549756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9D69-A144-43F3-8CBA-B9000090BA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ser\Desktop\2.png"/>
          <p:cNvPicPr/>
          <p:nvPr/>
        </p:nvPicPr>
        <p:blipFill>
          <a:blip r:embed="rId2"/>
          <a:stretch/>
        </p:blipFill>
        <p:spPr>
          <a:xfrm>
            <a:off x="395280" y="404640"/>
            <a:ext cx="403236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User\Desktop\3.png"/>
          <p:cNvPicPr/>
          <p:nvPr/>
        </p:nvPicPr>
        <p:blipFill>
          <a:blip r:embed="rId1"/>
          <a:stretch/>
        </p:blipFill>
        <p:spPr>
          <a:xfrm rot="387600">
            <a:off x="4374720" y="604800"/>
            <a:ext cx="4010040" cy="569448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292C-427F-44EC-9C16-128352B366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User\Desktop\2.png"/>
          <p:cNvPicPr/>
          <p:nvPr/>
        </p:nvPicPr>
        <p:blipFill>
          <a:blip r:embed="rId2"/>
          <a:stretch/>
        </p:blipFill>
        <p:spPr>
          <a:xfrm rot="21210000">
            <a:off x="704880" y="606240"/>
            <a:ext cx="4021200" cy="571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79640" y="2276640"/>
            <a:ext cx="622944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денции развития образования, которые определяют вектор развития современного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44400" y="1557360"/>
            <a:ext cx="79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е темпы обновления научных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изация и персонализац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 парадигма сдвигается в сторону использования моделей онлайн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ция учащегося становится более а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образовательное пространство ребёнка не ограничивается образовательной средо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ие концепции «эдьютеймент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 учащихся предметных, метапредметных и личностных качеств, формируемых в специализированной информационной образовательной среде, требования к которой прописаны в ФГ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A628-4DE7-4582-9DCF-B6DD9EDE3E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4365" r="0" b="11250"/>
          <a:stretch/>
        </p:blipFill>
        <p:spPr>
          <a:xfrm>
            <a:off x="250920" y="641520"/>
            <a:ext cx="8713800" cy="473220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7441-57D0-4546-8097-F624B4155A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468360" y="1197000"/>
            <a:ext cx="8178840" cy="412416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9A4D-6680-41EE-86E1-951DB7AC1C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395280" y="1089000"/>
            <a:ext cx="835344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7924-CF7C-4EFB-A642-D7C90D2DE4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371520" y="836640"/>
            <a:ext cx="8372520" cy="46083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22C3-040E-4D5E-93CC-D41117B486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2FC5-15CD-4D1D-B98B-8D26C93028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-30240" y="907920"/>
            <a:ext cx="921708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7DE1-9ED1-42E0-8C07-077A229EB0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ст.png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46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468360" y="1182600"/>
            <a:ext cx="8207280" cy="438480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D447-6AE1-42BD-B338-CBD663D9E1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2-24T19:52:15Z</dcterms:modified>
  <cp:revision>798</cp:revision>
  <dc:subject/>
  <dc:title>Diapositiva 1</dc:title>
</cp:coreProperties>
</file>