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04D5-4258-4244-8AB6-9942F05C4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828D-A16F-4FA6-89F8-5BE2D07F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FD9D-D554-4584-BFD8-7BAB1E372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201F-BA29-47F6-9D2D-5CD0EE593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D1A6-ECBB-458C-858D-13118F3C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D9BF-B265-4AE5-AFCD-3F89851F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6DD6-63E5-4FFC-A1DB-C63B53DE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B8B1-48BE-4890-972F-03F680BF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16AA-EC88-4F2F-A78F-17222053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1C27-FD46-4B24-87AC-3DB47DCF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BA41-6164-44FF-A49D-466E0550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4746-C30C-417E-BEBA-902B2519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75E5-3EBA-4FBF-BC4C-5E128170882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70"/>
          <p:cNvSpPr/>
          <p:nvPr/>
        </p:nvSpPr>
        <p:spPr>
          <a:xfrm>
            <a:off x="358920" y="3117960"/>
            <a:ext cx="8569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Bef>
                <a:spcPts val="2401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Использование ИОС Учи.ру для повышения уровня образовательных результатов обучающихся в начальной школ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1" descr=""/>
          <p:cNvPicPr/>
          <p:nvPr/>
        </p:nvPicPr>
        <p:blipFill>
          <a:blip r:embed="rId1"/>
          <a:stretch/>
        </p:blipFill>
        <p:spPr>
          <a:xfrm>
            <a:off x="358920" y="334800"/>
            <a:ext cx="1547640" cy="154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3780000" y="509760"/>
            <a:ext cx="46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ий семинар в рамках интернет-фестиваля «Интерактивные среды в образовательной деятельности: опыт, проблемы, перспектив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3995640" y="58420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1.02.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рг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Номер слайда 4"/>
          <p:cNvSpPr/>
          <p:nvPr/>
        </p:nvSpPr>
        <p:spPr>
          <a:xfrm>
            <a:off x="8604360" y="6245280"/>
            <a:ext cx="82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C:\Users\User\Desktop\1.png"/>
          <p:cNvPicPr/>
          <p:nvPr/>
        </p:nvPicPr>
        <p:blipFill>
          <a:blip r:embed="rId1"/>
          <a:stretch/>
        </p:blipFill>
        <p:spPr>
          <a:xfrm>
            <a:off x="4859280" y="992160"/>
            <a:ext cx="3921120" cy="5497560"/>
          </a:xfrm>
          <a:prstGeom prst="rect">
            <a:avLst/>
          </a:prstGeom>
          <a:ln w="0">
            <a:noFill/>
          </a:ln>
        </p:spPr>
      </p:pic>
      <p:sp>
        <p:nvSpPr>
          <p:cNvPr id="64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8293-04C0-4D7D-9825-EBBE4D23C74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Users\User\Desktop\2.png"/>
          <p:cNvPicPr/>
          <p:nvPr/>
        </p:nvPicPr>
        <p:blipFill>
          <a:blip r:embed="rId2"/>
          <a:stretch/>
        </p:blipFill>
        <p:spPr>
          <a:xfrm>
            <a:off x="395280" y="404640"/>
            <a:ext cx="4032360" cy="573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Users\User\Desktop\3.png"/>
          <p:cNvPicPr/>
          <p:nvPr/>
        </p:nvPicPr>
        <p:blipFill>
          <a:blip r:embed="rId1"/>
          <a:stretch/>
        </p:blipFill>
        <p:spPr>
          <a:xfrm rot="387600">
            <a:off x="4374720" y="604800"/>
            <a:ext cx="4010040" cy="5694480"/>
          </a:xfrm>
          <a:prstGeom prst="rect">
            <a:avLst/>
          </a:prstGeom>
          <a:ln w="0">
            <a:noFill/>
          </a:ln>
        </p:spPr>
      </p:pic>
      <p:sp>
        <p:nvSpPr>
          <p:cNvPr id="67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EFA7-AFFF-45E1-AC27-96A81BEDF4A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C:\Users\User\Desktop\2.png"/>
          <p:cNvPicPr/>
          <p:nvPr/>
        </p:nvPicPr>
        <p:blipFill>
          <a:blip r:embed="rId2"/>
          <a:stretch/>
        </p:blipFill>
        <p:spPr>
          <a:xfrm rot="21210000">
            <a:off x="704880" y="606240"/>
            <a:ext cx="4021200" cy="5713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979640" y="2276640"/>
            <a:ext cx="6229440" cy="32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нденции развития образования, которые определяют вектор развития современного образ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644400" y="1557360"/>
            <a:ext cx="7993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окие темпы обновления научных зна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ивидуализация и персонализация образовательно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овательная парадигма сдвигается в сторону использования моделей онлайн обуч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иция учащегося становится более актив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чное образовательное пространство ребёнка не ограничивается образовательной средой школ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остранение концепции «эдьютеймент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у учащихся предметных, метапредметных и личностных качеств, формируемых в специализированной информационной образовательной среде, требования к которой прописаны в ФГО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50A2-EF5D-4B62-A90D-05E27EDF776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rcRect l="0" t="4365" r="0" b="11250"/>
          <a:stretch/>
        </p:blipFill>
        <p:spPr>
          <a:xfrm>
            <a:off x="250920" y="641520"/>
            <a:ext cx="8713800" cy="4732200"/>
          </a:xfrm>
          <a:prstGeom prst="rect">
            <a:avLst/>
          </a:prstGeom>
          <a:ln w="0">
            <a:noFill/>
          </a:ln>
        </p:spPr>
      </p:pic>
      <p:sp>
        <p:nvSpPr>
          <p:cNvPr id="50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1FC6-2777-425B-B69C-D4422C4239F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C:\Users\USER\Desktop\Безымянный.png"/>
          <p:cNvPicPr/>
          <p:nvPr/>
        </p:nvPicPr>
        <p:blipFill>
          <a:blip r:embed="rId1"/>
          <a:stretch/>
        </p:blipFill>
        <p:spPr>
          <a:xfrm>
            <a:off x="468360" y="1197000"/>
            <a:ext cx="8178840" cy="4124160"/>
          </a:xfrm>
          <a:prstGeom prst="rect">
            <a:avLst/>
          </a:prstGeom>
          <a:ln w="0">
            <a:noFill/>
          </a:ln>
        </p:spPr>
      </p:pic>
      <p:sp>
        <p:nvSpPr>
          <p:cNvPr id="52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A8B1-0D87-40A3-9DA7-A29DBFA1330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C:\Users\USER\Desktop\Безымянный.png"/>
          <p:cNvPicPr/>
          <p:nvPr/>
        </p:nvPicPr>
        <p:blipFill>
          <a:blip r:embed="rId1"/>
          <a:stretch/>
        </p:blipFill>
        <p:spPr>
          <a:xfrm>
            <a:off x="395280" y="1089000"/>
            <a:ext cx="8353440" cy="4579920"/>
          </a:xfrm>
          <a:prstGeom prst="rect">
            <a:avLst/>
          </a:prstGeom>
          <a:ln w="0">
            <a:noFill/>
          </a:ln>
        </p:spPr>
      </p:pic>
      <p:sp>
        <p:nvSpPr>
          <p:cNvPr id="54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4B53-A87E-4E9E-9309-59AAF6C18D5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USER\Desktop\Безымянный.png"/>
          <p:cNvPicPr/>
          <p:nvPr/>
        </p:nvPicPr>
        <p:blipFill>
          <a:blip r:embed="rId1"/>
          <a:stretch/>
        </p:blipFill>
        <p:spPr>
          <a:xfrm>
            <a:off x="371520" y="836640"/>
            <a:ext cx="8372520" cy="4608360"/>
          </a:xfrm>
          <a:prstGeom prst="rect">
            <a:avLst/>
          </a:prstGeom>
          <a:ln w="0">
            <a:noFill/>
          </a:ln>
        </p:spPr>
      </p:pic>
      <p:sp>
        <p:nvSpPr>
          <p:cNvPr id="56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9369-5672-4FA5-9FA8-3317D9A78F4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BAB8-D0DB-47EE-A154-4DEA7FAF33A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C:\Users\USER\Desktop\Безымянный.png"/>
          <p:cNvPicPr/>
          <p:nvPr/>
        </p:nvPicPr>
        <p:blipFill>
          <a:blip r:embed="rId1"/>
          <a:stretch/>
        </p:blipFill>
        <p:spPr>
          <a:xfrm>
            <a:off x="-30240" y="907920"/>
            <a:ext cx="9217080" cy="5024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0E50-57B8-44CF-9C18-6613B66A199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C:\Users\USER\Desktop\ст.png"/>
          <p:cNvPicPr/>
          <p:nvPr/>
        </p:nvPicPr>
        <p:blipFill>
          <a:blip r:embed="rId1"/>
          <a:stretch/>
        </p:blipFill>
        <p:spPr>
          <a:xfrm>
            <a:off x="0" y="958680"/>
            <a:ext cx="9144000" cy="4600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User\Desktop\Безымянный.png"/>
          <p:cNvPicPr/>
          <p:nvPr/>
        </p:nvPicPr>
        <p:blipFill>
          <a:blip r:embed="rId1"/>
          <a:stretch/>
        </p:blipFill>
        <p:spPr>
          <a:xfrm>
            <a:off x="468360" y="1182600"/>
            <a:ext cx="8207280" cy="4384800"/>
          </a:xfrm>
          <a:prstGeom prst="rect">
            <a:avLst/>
          </a:prstGeom>
          <a:ln w="0">
            <a:noFill/>
          </a:ln>
        </p:spPr>
      </p:pic>
      <p:sp>
        <p:nvSpPr>
          <p:cNvPr id="62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D575E-1746-4AD9-A551-87E56532BAB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USER</cp:lastModifiedBy>
  <dcterms:modified xsi:type="dcterms:W3CDTF">2020-02-24T19:52:15Z</dcterms:modified>
  <cp:revision>798</cp:revision>
  <dc:subject/>
  <dc:title>Diapositiva 1</dc:title>
</cp:coreProperties>
</file>