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58.png" ContentType="image/png"/>
  <Override PartName="/ppt/media/image56.jpeg" ContentType="image/jpeg"/>
  <Override PartName="/ppt/media/image53.png" ContentType="image/png"/>
  <Override PartName="/ppt/media/image55.jpeg" ContentType="image/jpeg"/>
  <Override PartName="/ppt/media/image43.png" ContentType="image/png"/>
  <Override PartName="/ppt/media/image51.png" ContentType="image/png"/>
  <Override PartName="/ppt/media/image49.jpeg" ContentType="image/jpeg"/>
  <Override PartName="/ppt/media/image34.png" ContentType="image/png"/>
  <Override PartName="/ppt/media/image4.png" ContentType="image/png"/>
  <Override PartName="/ppt/media/image32.png" ContentType="image/png"/>
  <Override PartName="/ppt/media/image25.jpeg" ContentType="image/jpeg"/>
  <Override PartName="/ppt/media/image30.png" ContentType="image/png"/>
  <Override PartName="/ppt/media/image37.jpeg" ContentType="image/jpeg"/>
  <Override PartName="/ppt/media/image20.png" ContentType="image/png"/>
  <Override PartName="/ppt/media/image11.jpeg" ContentType="image/jpeg"/>
  <Override PartName="/ppt/media/image2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66.png" ContentType="image/png"/>
  <Override PartName="/ppt/media/image64.jpeg" ContentType="image/jpeg"/>
  <Override PartName="/ppt/media/image28.png" ContentType="image/png"/>
  <Override PartName="/ppt/media/image29.jpeg" ContentType="image/jpeg"/>
  <Override PartName="/ppt/media/image62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6.jpeg" ContentType="image/jpeg"/>
  <Override PartName="/ppt/media/image61.jpeg" ContentType="image/jpeg"/>
  <Override PartName="/ppt/media/image26.png" ContentType="image/png"/>
  <Override PartName="/ppt/media/image12.png" ContentType="image/png"/>
  <Override PartName="/ppt/media/image19.jpeg" ContentType="image/jpeg"/>
  <Override PartName="/ppt/media/image42.jpeg" ContentType="image/jpeg"/>
  <Override PartName="/ppt/media/image65.png" ContentType="image/png"/>
  <Override PartName="/ppt/media/image21.jpeg" ContentType="image/jpeg"/>
  <Override PartName="/ppt/media/image2.png" ContentType="image/png"/>
  <Override PartName="/ppt/media/image14.png" ContentType="image/png"/>
  <Override PartName="/ppt/media/image27.jpeg" ContentType="image/jpeg"/>
  <Override PartName="/ppt/media/image50.jpeg" ContentType="image/jpeg"/>
  <Override PartName="/ppt/media/image10.png" ContentType="image/png"/>
  <Override PartName="/ppt/media/image35.jpeg" ContentType="image/jpeg"/>
  <Override PartName="/ppt/media/image23.jpeg" ContentType="image/jpeg"/>
  <Override PartName="/ppt/media/image8.png" ContentType="image/png"/>
  <Override PartName="/ppt/media/image39.jpeg" ContentType="image/jpeg"/>
  <Override PartName="/ppt/media/image17.png" ContentType="image/png"/>
  <Override PartName="/ppt/media/image5.png" ContentType="image/png"/>
  <Override PartName="/ppt/media/image48.png" ContentType="image/png"/>
  <Override PartName="/ppt/media/image52.jpeg" ContentType="image/jpeg"/>
  <Override PartName="/ppt/media/image1.png" ContentType="image/png"/>
  <Override PartName="/ppt/media/image13.png" ContentType="image/png"/>
  <Override PartName="/ppt/media/image54.jpeg" ContentType="image/jpeg"/>
  <Override PartName="/ppt/media/image7.png" ContentType="image/png"/>
  <Override PartName="/ppt/media/image31.jpeg" ContentType="image/jpeg"/>
  <Override PartName="/ppt/media/image33.jpeg" ContentType="image/jpeg"/>
  <Override PartName="/ppt/media/image9.jpeg" ContentType="image/jpeg"/>
  <Override PartName="/ppt/media/image36.png" ContentType="image/png"/>
  <Override PartName="/ppt/media/image40.jpeg" ContentType="image/jpeg"/>
  <Override PartName="/ppt/media/image3.jpeg" ContentType="image/jpeg"/>
  <Override PartName="/ppt/media/image41.png" ContentType="image/png"/>
  <Override PartName="/ppt/media/image63.png" ContentType="image/png"/>
  <Override PartName="/ppt/media/image57.jpeg" ContentType="image/jpeg"/>
  <Override PartName="/ppt/media/image38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4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7CDC-ECD0-407D-B773-8A20BE32E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842A-4ED8-4164-9B89-8534060C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8B78-E3A2-458D-9A0E-0CDBFC99B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6DC5-600B-4A7E-9AAC-86928FD0B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0419-45C8-472A-BD52-4C4D0A833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CD081-1026-49A2-B475-4B204A41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1285-B317-4F61-A78D-83145522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26CD-482C-4BD2-BA88-A9628AE9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C9067-970A-4851-8ADC-55422A85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11A4B-8CE7-47AD-80A8-2FC465DC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1527-863E-44D7-BFAF-47E967B4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6810-C97C-453C-822C-837401C6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991E-89DD-4AAA-9480-48F3652A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DC027-FAC8-4886-B988-AA82F46F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0F584-D2F3-446B-BE90-E73BAB07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E738-0D8D-47E6-9089-43F1EA770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93BE6-71D8-42D1-BE24-7CB2FDE46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00ECC-8FB9-424B-A075-1D1931D0C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91855-C3C6-4AE7-BFF7-3500F68C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46255-D46B-4012-9BF2-69CAC0D6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77145-FBCD-44B7-9F5A-AFF91763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F8188-CBEA-459E-8CD9-FCE524FF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5813-089B-48AF-8C7B-D4DCC9A5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7F729-5C20-431B-A5B0-077B5BBD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BDB65-212B-4341-B91E-BE26CAF8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1D166-4553-4FDC-8E66-210F8B6E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43609-DC56-4C3C-BDDE-B1FC1340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EFC4D-EEA0-4F4D-B9AC-276B5580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F5A76-27F8-41BD-9AB7-E059A9010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DCA0A-D20B-4B4F-8C1B-368482BEF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6F077-A4D7-4971-9F07-F100AF3FE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03B94-5299-492A-846B-89FF00D1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2B428-5E7F-4BF8-AD4A-B2A6131A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5111-3697-4CB1-9BCC-0C479352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E2106-BD21-4FA2-BD93-0D5BB771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EB32E-5EE3-4E17-AC27-CB04DD76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CC7EB-6564-47B2-917C-4EEEDC48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F2A07-AA67-480B-9D34-F16ED262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123D9-0788-46E4-93A1-C36C009A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15638-F0AB-48BD-9B48-377B3967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CFD7D-1BA9-4D24-968F-48BCAF5E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BE29F-D8A3-4848-A8EB-207052FCD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EEE55-8F7D-4A92-926C-ACD7131A3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67B3D-BFAF-48F3-AE1E-0D5147A79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1E21-2502-4819-AD81-1F0DAF25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68F86-DD2D-4037-86C5-C9E7A71E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94FBB-53A2-4390-9395-43CBDFAE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17C16-050F-452E-B795-FF6C2434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95C38-EF25-4BAE-9AC5-330CBCEE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5DC5E-D79D-40D8-88D3-95A652C4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A3627-B5D5-469C-9026-7EDAFC2C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19281-7583-4F08-A8AC-1871F37A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7679F-F476-46B3-BD7E-CC9EE707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523B3-C207-446E-9E3A-0AEA07DD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068AF-150C-4B08-AC22-B905BDD12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1AB1-F1F8-4169-9E17-68AB5690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65D8F-CF5E-4461-995C-E5ED88D03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94D2-BA1E-45C7-856E-5AC51F66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4EF3-1190-42F2-BF9C-F999424B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5D15-8078-4B69-8A7A-7B139A36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BBEB-E255-45D6-A6D9-CF97C17F548E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2" descr="2"/>
          <p:cNvPicPr/>
          <p:nvPr/>
        </p:nvPicPr>
        <p:blipFill>
          <a:blip r:embed="rId3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Прямоугольник 9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6" name="Прямоугольник 9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Прямая соединительная линия 10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1"/>
          <p:cNvPicPr/>
          <p:nvPr/>
        </p:nvPicPr>
        <p:blipFill>
          <a:blip r:embed="rId4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095E-C529-405D-B81E-A8710709FB0B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2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2" descr="2"/>
          <p:cNvPicPr/>
          <p:nvPr/>
        </p:nvPicPr>
        <p:blipFill>
          <a:blip r:embed="rId3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6D60-786C-492C-8AD2-2A70F7051837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9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0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6452-7A1E-45CC-A9F5-97AB8E6A1440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8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Picture 2" descr="2"/>
          <p:cNvPicPr/>
          <p:nvPr/>
        </p:nvPicPr>
        <p:blipFill>
          <a:blip r:embed="rId3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D4FF-E9C9-4627-A0A6-35C3C6F87474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go.mail.ru/redir?q=&#1082;&#1072;&#1088;&#1090;&#1080;&#1085;&#1082;&#1072;%20&#1089;&#1086;&#1083;&#1085;&#1077;&#1095;&#1085;&#1099;&#1093;%20&#1095;&#1072;&#1089;&#1086;&#1074;&amp;via_page=1&amp;type=sr&amp;redir=eJzLKCkpsNLXz0_PL8pP0cvNLCpJLU7N0ysq1U_KyU_XNzE2sDSzMDewNDbRD87PyUtNzsirzEzVTc5ILK7M1M1L1E1JTM5IZbiw68KGiw0Xmy7suLAXxFa42Hhh34XdQM7Wi-0X9l7svtiqAGRsAAtvYjA0sTAxsjS3MLVgqD8m5y52py6TTXeeE2905VQAcgNAzw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http://go.mail.ru/redir?q=&#1082;&#1072;&#1088;&#1090;&#1080;&#1085;&#1082;&#1072;%20&#1089;&#1086;&#1083;&#1085;&#1077;&#1095;&#1085;&#1099;&#1093;%20&#1095;&#1072;&#1089;&#1086;&#1074;&amp;via_page=1&amp;type=sr&amp;redir=eJzLKCkpsNLXLy8v10tKTKrUKyrVT8rJTy_WL8gvLtE3srQwNbawNDTSNTUyMzW0MDTRZ7iw68KGiw0Xmy7suLAXxFa42Hhh34XdQM7Wi-0X9l7svtiqAGRsAAtvYjA0sTAxsjS3MLVgCF7ry_gk5qydtxpj8rfnzdUA9GY4oA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hyperlink" Target="http://go.mail.ru/redir?q=&#1082;&#1072;&#1088;&#1090;&#1080;&#1085;&#1082;&#1072;%20&#1087;&#1077;&#1089;&#1086;&#1095;&#1085;&#1099;&#1077;%20&#1095;&#1072;&#1089;&#1099;&amp;via_page=1&amp;type=sr&amp;redir=eJzLKCkpsNLXT8spLUgt0isq1S9JTNdXdTFQdXIDk6aqLoaqFoZgtiuYbQ5mu4DZThA1DBd2XdhwseFi04UdF_aC2AoX9l_YerHxwr6L7Rf2Xuy-sFUByNhwsfFiN4OhiYWJkaW5pbkFQ9ixmTmKzNWvFnokq3buPxQNAKZ5OEY" TargetMode="External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hyperlink" Target="http://go.mail.ru/redir?q=&#1082;&#1072;&#1088;&#1090;&#1080;&#1085;&#1082;&#1072;%20&#1089;&#1086;&#1074;&#1088;&#1077;&#1084;&#1077;&#1085;&#1085;&#1099;&#1077;%20&#1085;&#1072;&#1089;&#1090;&#1077;&#1085;&#1085;&#1099;&#1077;%20&#1095;&#1072;&#1089;&#1099;&amp;via_page=1&amp;type=sr&amp;redir=eJzLKCkpsNLXLyrVS8zJTK0oKEotLtZLzs_VL9cvz8jPSS1OzEnVzS9LzNEtLE0sKqnSLchJLC7JTNYtT8zJ0U3OyU_O1ssoyc1huLDrwoaLDRebLuy4sBfEVrjYeGHfhU0XGy5svbAHiPde2Hux-8JWBSBjw8VGoDqE0MV2sFA3g6GJhYmRpYWBpQFDxn_FSHZv1y_iX6bcylYy6gMAIE1T5Q" TargetMode="External"/><Relationship Id="rId3" Type="http://schemas.openxmlformats.org/officeDocument/2006/relationships/image" Target="../media/image39.jpeg"/><Relationship Id="rId4" Type="http://schemas.openxmlformats.org/officeDocument/2006/relationships/hyperlink" Target="http://go.mail.ru/redir?q=&#1082;&#1072;&#1088;&#1090;&#1080;&#1085;&#1082;&#1072;%20&#1089;&#1086;&#1074;&#1088;&#1077;&#1084;&#1077;&#1085;&#1085;&#1099;&#1077;%20&#1085;&#1072;&#1087;&#1086;&#1083;&#1100;&#1085;&#1099;&#1077;%20&#1095;&#1072;&#1089;&#1099;&amp;via_page=1&amp;type=sr&amp;redir=eJzLKCkpsNLXL8pMSsypTM7QKyrVNzIwNNE3MALS-nmJBfk5eZWpuskZicWVusWZeZkV-gwXdl3YcLHhYtOFHRf2gtgKFxsv7Luw6WLDha0X9gDx3gt7L3Zf2KoAZGy4sB8otftiD1ToYjtQa-PFbgZDEwsTI0sLQ3Mzhq-KERNcZr-8ufnP4luNTo1sAD2BS9M" TargetMode="External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go.mail.ru/redir?q=&#1082;&#1072;&#1088;&#1090;&#1080;&#1085;&#1082;&#1072;%20&#1079;&#1074;&#1086;&#1085;&#1103;&#1097;&#1077;&#1075;&#1086;%20&#1073;&#1091;&#1076;&#1080;&#1083;&#1100;&#1085;&#1080;&#1082;&#1072;&amp;via_page=1&amp;type=sr&amp;redir=eJzLKCkpsNLXz63UTUvMK0ksrtRLyUwsqtQrKtUvMLQ0NDQ2tDA31MsoyWW4sOvChosNF5su7LiwF8RWuLD9wqYL-y7svdh_sfPC1gubL-xTuLDxYvOFLUAVuy_2AFXtAKljMDSxMDGyNDcxsmCo_WGx6-Xf_Zr-QR9OmlZ_fgkAIYRCOQ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hyperlink" Target="http://go.mail.ru/redir?q=&#1082;&#1072;&#1088;&#1090;&#1080;&#1085;&#1082;&#1080;%20&#1089;&#1086;&#1074;&#1088;&#1077;&#1084;&#1077;&#1085;&#1085;&#1099;&#1077;%20%20&#1095;&#1072;&#1089;&#1099;&amp;via_page=1&amp;type=sr&amp;redir=eJzLKCkpsNLXT04sKslNzNMrKdMvLskvSkxP1c_MK0ktSi3Oy9fPTIk3NLE0NYjPScxLjy8qjS8oAkrGV6YW62WU5OYwXNh1YcPFhotNF3Zc2Atk71C42Hhh34VNFxsubL2wB4j3Xth7sfvCVgWFi-1AhY0XuxkMTSxMjCwtjMzNGUTU5r_gu22eqvo2vVXd5Hk9AIrpRF0" TargetMode="External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hyperlink" Target="http://go.mail.ru/redir?q=&#1082;&#1072;&#1088;&#1090;&#1080;&#1085;&#1082;&#1072;%20&#1082;&#1091;&#1088;&#1072;&#1085;&#1090;&#1086;&#1074;&amp;via_page=1&amp;type=sr&amp;redir=eJzLKCkpsNLXLy8v10vKzynOyK8syy8oyi_WKyrVLyxNLS7JzM8r1jc0sjQ1NTTSzU7Mzk_P1y1KrMpNLUrULS5ILC7OzkzVzS4tSswrqdTNLkrNzclK1Msoyc1huLDrwoaLDRebLuy4sBfEVriw62LzxYYLGy7sBQruu7CJwdDEwsTI0sLYwoIh9qrAxK_dXt_5VSvvmO8IWwMAzDZDl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hyperlink" Target="https://mpwatch.ru/images/cms/data/raznoe140715/lowell_21504.jpg" TargetMode="External"/><Relationship Id="rId3" Type="http://schemas.openxmlformats.org/officeDocument/2006/relationships/image" Target="../media/image49.jpeg"/><Relationship Id="rId4" Type="http://schemas.openxmlformats.org/officeDocument/2006/relationships/hyperlink" Target="http://go.mail.ru/redir?q=&#1089;&#1080;&#1084;&#1074;&#1086;&#1083;&#1099;%20&#1101;&#1083;&#1077;&#1082;&#1090;&#1088;&#1086;&#1085;&#1085;&#1099;&#1093;%20&#1095;&#1072;&#1089;&#1086;&#1074;%20&#1082;&#1072;&#1088;&#1090;&#1080;&#1085;&#1082;&#1072;&amp;via_page=1&amp;type=sr&amp;redir=eJzLKCkpsNLXL8lPzigoykzKL9LLL0rXT04sSczJT9fPTU3MK47PT4vPzEvLL8pNLMnMz4tPySwuyEms1M8oys_Lz00tKdJPzslPzo5PzUnNLinKjy8ryS_St3f1cfV19QuxNVE1MmC42Hhhx4U9FzZd2Hdh98VuhYu9F3Zf2Hph18Wmiw1Aob0X9l7svtiqcLH9wgagyn0XNilc2AVkNlxsAmrbC2IzGJpYmBhZWpiaWTK4zdd-k8Zyxvono43Ofa_WQgAq_1zd" TargetMode="External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hyperlink" Target="http://go.mail.ru/redir?q=&#1082;&#1072;&#1088;&#1090;&#1080;&#1085;&#1082;&#1072;%20&#1095;&#1072;&#1089;&#1086;&#1074;&#1097;&#1080;&#1082;&#1072;&amp;via_page=1&amp;type=sr&amp;redir=eJzLKCkpsNLXLy8v10vOyU_O1gURekWl-pbmFkZGehkluTkMF3Zd2HCx4WLThR0X9oLYChfbgQKNF_Zd2HSxEygIFGIwNLEwMbK0MDMzYsiNmLd5p-xLuRur5l3MM2kJBwDYRy-H" TargetMode="External"/><Relationship Id="rId3" Type="http://schemas.openxmlformats.org/officeDocument/2006/relationships/image" Target="../media/image54.jpeg"/><Relationship Id="rId4" Type="http://schemas.openxmlformats.org/officeDocument/2006/relationships/hyperlink" Target="http://go.mail.ru/redir?q=&#1082;&#1072;&#1088;&#1090;&#1080;&#1085;&#1082;&#1072;%20&#1095;&#1072;&#1089;&#1086;&#1074;&#1097;&#1080;&#1082;&#1072;&amp;via_page=1&amp;type=sr&amp;redir=eJzLKCkpsNLXTywuKcrPyU_P1ysq1S_Oz8vLzNZ3zkgszi8rzgAyGS7surDhYsPFpgs7LuwFsRUutgMFGi_su7DpYidQECjEYGhiYWJkaWFmZsSwsMDT01Zn5dpXM1lnn1JwNgYApDwwhA" TargetMode="External"/><Relationship Id="rId5" Type="http://schemas.openxmlformats.org/officeDocument/2006/relationships/image" Target="../media/image55.jpeg"/><Relationship Id="rId6" Type="http://schemas.openxmlformats.org/officeDocument/2006/relationships/image" Target="../media/image56.jpeg"/><Relationship Id="rId7" Type="http://schemas.openxmlformats.org/officeDocument/2006/relationships/image" Target="../media/image57.jpe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go.mail.ru/redir?q=&#1082;&#1072;&#1088;&#1090;&#1080;&#1085;&#1082;&#1072;%20&#1082;&#1091;&#1088;&#1072;&#1085;&#1090;&#1086;&#1074;&amp;via_page=1&amp;type=sr&amp;redir=eJzLKCkpsNLXLy8v10vKzynOyK8syy8oyi_WKyrVLyxNLS7JzM8r1jc0sjQ1NTTSzU7Mzk_P1y1KrMpNLUrULS5ILC7OzkzVzS4tSswrqdTNLkrNzclK1Msoyc1huLDrwoaLDRebLuy4sBfEVriw62LzxYYLGy7sBQruu7CJwdDEwsTI0sLYwoIh9qrAxK_dXt_5VSvvmO8IWwMAzDZDl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go.mail.ru/redir?q=&#1082;&#1072;&#1088;&#1090;&#1080;&#1085;&#1082;&#1072;%20&#1087;&#1077;&#1090;&#1091;&#1093;&#1072;&amp;via_page=1&amp;type=sr&amp;redir=eJzLKCkpKLbS1y8q1UspSk3MLS7JzE3VS87P1Vd1MVS1MASTRqouBqpOrmDSEYltBJZ1ArNNdcEcE5g0QpsumHKDqIJJAEljMGmqm5mbmJ5qZGJmZGpmZsxwYdeFDRcbLjZd2HFhL4itcGH_ha0Xmy42X2y9sIHB0MTCxMjS3NTcgqHOtStngh_Lq7yVzz47-ZldBQA7HEEN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go.mail.ru/redir?q=&#1082;&#1072;&#1088;&#1090;&#1080;&#1085;&#1082;&#1072;%20&#1087;&#1077;&#1074;&#1095;&#1080;&#1077;%20&#1087;&#1090;&#1080;&#1094;&#1099;%20&#1088;&#1086;&#1089;&#1089;&#1080;&#1080;&amp;via_page=1&amp;type=sr&amp;redir=eJzLKCkpsNLXN83OSSwu1stLLdHPzy4qrcpIzCotTs7IzNLNzSzSNdQFS-uHZaZU6haUZJYU6xsYWuoGpJYBlaRCRCp1g_KLizMz9TJKcnMYLuy6sOFiw8WmCzsu7AWxFS7sv7D1wqaL7UCBrUAOSOZi28VuhYsNF_ZdbLzYCBTfwWBoYmFiZGlubmDKsCXZwWRFxfe5F4Mu9M2USfEDAO9wTrk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go.mail.ru/redir?q=&#1082;&#1072;&#1088;&#1090;&#1080;&#1085;&#1082;&#1072;%20&#1086;&#1076;&#1091;&#1074;&#1072;&#1085;&#1095;&#1080;&#1082;&#1072;&amp;via_page=1&amp;type=sr&amp;redir=eJzLKCkpsNLXzy4tzixLzE7UKyrVT08tSCzJLNHPSU3OSM3LTNUtgDB0c_OLsvPL8ipzdYvzs_Nz9Rku7Lqw4WLDxaYLOy7sBbEVLuy7sOVi84VNFzZc2HuxHSgMFGQwNLEwMbI0N7c0YWh9feboZkGONI-lPzKvHVIuBAAMQzyT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530280" y="1511280"/>
            <a:ext cx="7827840" cy="504828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533520" y="6854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МБОУ СОШ №1 СЕЛА НОВОСЫСОЕВКА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165240" y="433440"/>
            <a:ext cx="8454960" cy="11761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5335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rebuchet MS"/>
              </a:rPr>
              <a:t>Более 250 лет назад знаменитый естествоиспытатель Карл Линней составил свои первые «Часы Флоры». На клумбе в городе Упсале росли цветы, венчики которых открывались в определенной последовательности с 3—5 часов утра до полуночи. Там росли всем знакомый одуванчик, лен, картофель, яркая сарана, скромная кисличка...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Picture 4" descr="cc[1]"/>
          <p:cNvPicPr/>
          <p:nvPr/>
        </p:nvPicPr>
        <p:blipFill>
          <a:blip r:embed="rId2"/>
          <a:stretch/>
        </p:blipFill>
        <p:spPr>
          <a:xfrm>
            <a:off x="293760" y="1295280"/>
            <a:ext cx="8427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244440" y="433440"/>
            <a:ext cx="8691480" cy="11761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380880" y="12949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амые первые часы на земле- солнечные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ни были гениально простыми: воткнутый в землю шест. Вокруг него нарисована шкала времени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ревние греки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начали и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спользовать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еще в 1459 году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о нашей эры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0" name="preview-image" descr="http://mtdata.ru/u20/photo9C1A/20267429735-0/big.jpe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95480" y="2514600"/>
            <a:ext cx="57913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Я у солнышка спросила –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Сколько времени сейчас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Солнце палку осветило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оказала! Вот так раз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Но потом я догадалась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алочку воткнула в грунт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Круг вокруг нарисовала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Числа, циферки – все тут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ень от палочки мгновенно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оказала мне тот час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олько помнить нужно – север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На 12 у нас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3" name="preview-image" descr="http://cs33.babysfera.ru/7/8/2/0/52651814.298534248.jpe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1523880"/>
            <a:ext cx="4191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244440" y="-85680"/>
            <a:ext cx="7461360" cy="15541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457200" y="20109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rebuchet MS"/>
              </a:rPr>
              <a:t>Андрей Усачёв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rebuchet MS"/>
              </a:rPr>
              <a:t>«Песочные часы»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Люблю часы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есочны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ускай они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еточные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о радуют приятно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згляд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 время может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течь назад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6" name="Picture 5" descr="11125[1]"/>
          <p:cNvPicPr/>
          <p:nvPr/>
        </p:nvPicPr>
        <p:blipFill>
          <a:blip r:embed="rId2"/>
          <a:stretch/>
        </p:blipFill>
        <p:spPr>
          <a:xfrm>
            <a:off x="4724280" y="1671480"/>
            <a:ext cx="3429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Заголовок 1" descr=""/>
          <p:cNvPicPr/>
          <p:nvPr/>
        </p:nvPicPr>
        <p:blipFill>
          <a:blip r:embed="rId1"/>
          <a:stretch/>
        </p:blipFill>
        <p:spPr>
          <a:xfrm>
            <a:off x="285840" y="450720"/>
            <a:ext cx="8486640" cy="10796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45720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имвол греческого бога времени Кроноса, которого древние греки считали главным судьей и великим целителем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Песочные часы и история неразделимы. Вот уже больше двух тысячелетий часы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верно служат человечеству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Они по-прежнему остаются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незаменимым предмето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обихода человека.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Они находят применение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в медицине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психологии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9" name="preview-image" descr="http://fluper.ru/ffh/41/pesochnye_chasy_prev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14800" y="3048120"/>
            <a:ext cx="43815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Во 2-м и 1-м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тысячелетиях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до н.э. в Египте,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Китае, Индии и Греци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строили водяные часы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Из одного сосуда в другой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равномерно, по каплям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переливалась вода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Поплавок со стрелко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опускался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или поднималс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2" name="Picture 8" descr="2[1]"/>
          <p:cNvPicPr/>
          <p:nvPr/>
        </p:nvPicPr>
        <p:blipFill>
          <a:blip r:embed="rId2"/>
          <a:stretch/>
        </p:blipFill>
        <p:spPr>
          <a:xfrm>
            <a:off x="4800600" y="1600200"/>
            <a:ext cx="4129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Заголовок 1" descr=""/>
          <p:cNvPicPr/>
          <p:nvPr/>
        </p:nvPicPr>
        <p:blipFill>
          <a:blip r:embed="rId1"/>
          <a:stretch/>
        </p:blipFill>
        <p:spPr>
          <a:xfrm>
            <a:off x="317520" y="658800"/>
            <a:ext cx="8454960" cy="1176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100px-Klepsidra"/>
          <p:cNvPicPr/>
          <p:nvPr/>
        </p:nvPicPr>
        <p:blipFill>
          <a:blip r:embed="rId2"/>
          <a:stretch/>
        </p:blipFill>
        <p:spPr>
          <a:xfrm>
            <a:off x="228600" y="1828800"/>
            <a:ext cx="4000680" cy="480060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оугольник 4"/>
          <p:cNvSpPr/>
          <p:nvPr/>
        </p:nvSpPr>
        <p:spPr>
          <a:xfrm>
            <a:off x="4343400" y="205740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ервый будильник на земле был водяным, он  был и будильником и школьным звонком одновременно. Его изобретателем считают древнегреческого философа Платона, жившего за 400 лет до нашей эры. Этот прибор, придуманный Платоном для созыва своих учеников на заня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1" descr=""/>
          <p:cNvPicPr/>
          <p:nvPr/>
        </p:nvPicPr>
        <p:blipFill>
          <a:blip r:embed="rId1"/>
          <a:stretch/>
        </p:blipFill>
        <p:spPr>
          <a:xfrm>
            <a:off x="212760" y="450720"/>
            <a:ext cx="8480520" cy="774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1271490_large"/>
          <p:cNvPicPr/>
          <p:nvPr/>
        </p:nvPicPr>
        <p:blipFill>
          <a:blip r:embed="rId2"/>
          <a:stretch/>
        </p:blipFill>
        <p:spPr>
          <a:xfrm>
            <a:off x="380880" y="1295280"/>
            <a:ext cx="3505320" cy="542952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ольник 4"/>
          <p:cNvSpPr/>
          <p:nvPr/>
        </p:nvSpPr>
        <p:spPr>
          <a:xfrm>
            <a:off x="4114800" y="1447920"/>
            <a:ext cx="426708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имо солнечных и водяных часов, с начал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. появились и первые огневые - свечные часы. Эти очень простые часы в виде длинной тонкой свечи с нанесенной по ее длине шкалой, сравнительно удовлетворительно показывали время, а в ночные часы они еще и освещали жилищ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Заголовок 1" descr=""/>
          <p:cNvPicPr/>
          <p:nvPr/>
        </p:nvPicPr>
        <p:blipFill>
          <a:blip r:embed="rId1"/>
          <a:stretch/>
        </p:blipFill>
        <p:spPr>
          <a:xfrm>
            <a:off x="317520" y="585720"/>
            <a:ext cx="7461360" cy="11764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karelka130big[1]"/>
          <p:cNvPicPr/>
          <p:nvPr/>
        </p:nvPicPr>
        <p:blipFill>
          <a:blip r:embed="rId2"/>
          <a:stretch/>
        </p:blipFill>
        <p:spPr>
          <a:xfrm>
            <a:off x="533520" y="1312920"/>
            <a:ext cx="3182760" cy="516420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оугольник 6"/>
          <p:cNvSpPr/>
          <p:nvPr/>
        </p:nvSpPr>
        <p:spPr>
          <a:xfrm>
            <a:off x="4038480" y="182880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1657 году голландский мастер Христиан Гюйгенс изобрел часы с маятником. Это стало возможным благодаря экспериментам и исследованиям, проводимым знаменитым математиком и астрономом Галилео Галилеем в 1580-м году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Заголовок 1" descr=""/>
          <p:cNvPicPr/>
          <p:nvPr/>
        </p:nvPicPr>
        <p:blipFill>
          <a:blip r:embed="rId1"/>
          <a:stretch/>
        </p:blipFill>
        <p:spPr>
          <a:xfrm>
            <a:off x="285840" y="530280"/>
            <a:ext cx="7669080" cy="11523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. Часы, которые висят      2. Напольны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 стене, называются –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стенны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4" name="preview-image" descr="http://g02.a.alicdn.com/kf/HTB1BAAmIXXXXXbvXFXXq6xXFXXXK/Black-cat-font-b-wall-b-font-font-b-clock-b-font-modern-design-cat-s.jpg">
            <a:hlinkClick r:id="rId2"/>
          </p:cNvPr>
          <p:cNvPicPr/>
          <p:nvPr/>
        </p:nvPicPr>
        <p:blipFill>
          <a:blip r:embed="rId3"/>
          <a:srcRect l="21807" t="9239" r="16623" b="5776"/>
          <a:stretch/>
        </p:blipFill>
        <p:spPr>
          <a:xfrm>
            <a:off x="457200" y="3124080"/>
            <a:ext cx="3809880" cy="3200400"/>
          </a:xfrm>
          <a:prstGeom prst="rect">
            <a:avLst/>
          </a:prstGeom>
          <a:ln w="0">
            <a:noFill/>
          </a:ln>
        </p:spPr>
      </p:pic>
      <p:pic>
        <p:nvPicPr>
          <p:cNvPr id="275" name="preview-image" descr="http://go1.imgsmail.ru/imgpreview?key=4ddbcbcae8534c0f&amp;mb=imgdb_preview_1619">
            <a:hlinkClick r:id="rId4"/>
          </p:cNvPr>
          <p:cNvPicPr/>
          <p:nvPr/>
        </p:nvPicPr>
        <p:blipFill>
          <a:blip r:embed="rId5"/>
          <a:srcRect l="21259" t="-1682" r="0" b="0"/>
          <a:stretch/>
        </p:blipFill>
        <p:spPr>
          <a:xfrm>
            <a:off x="4648320" y="2133720"/>
            <a:ext cx="40384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244440" y="-8620200"/>
            <a:ext cx="8375760" cy="15106680"/>
          </a:xfrm>
          <a:prstGeom prst="rect">
            <a:avLst/>
          </a:prstGeom>
          <a:ln w="0">
            <a:noFill/>
          </a:ln>
        </p:spPr>
      </p:pic>
      <p:pic>
        <p:nvPicPr>
          <p:cNvPr id="227" name="preview-image" descr="http://pp.vk.me/c413728/v413728611/2dbf/Ru_k3jSj2qM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43400" y="1676520"/>
            <a:ext cx="401472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77" name="preview-image" descr="http://cartman.tv/img_215925.jpe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14600" y="1752480"/>
            <a:ext cx="42670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6" descr="moskva-karmannye_chasy_hromirovannye_i_pozolochennye_322228"/>
          <p:cNvPicPr/>
          <p:nvPr/>
        </p:nvPicPr>
        <p:blipFill>
          <a:blip r:embed="rId2"/>
          <a:stretch/>
        </p:blipFill>
        <p:spPr>
          <a:xfrm>
            <a:off x="457200" y="1523880"/>
            <a:ext cx="4038480" cy="4038840"/>
          </a:xfrm>
          <a:prstGeom prst="rect">
            <a:avLst/>
          </a:prstGeom>
          <a:ln w="0">
            <a:noFill/>
          </a:ln>
        </p:spPr>
      </p:pic>
      <p:sp>
        <p:nvSpPr>
          <p:cNvPr id="280" name="Прямоугольник 4"/>
          <p:cNvSpPr/>
          <p:nvPr/>
        </p:nvSpPr>
        <p:spPr>
          <a:xfrm>
            <a:off x="4876920" y="1523880"/>
            <a:ext cx="3581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арманные часы изобрели немного раньше, ч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вычные для нас часы с браслетом. Они появились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XVI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еке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 Такие часы носили на цепочке. Карманные часы бы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зные: круглые, в виде книги, креста, разных фигур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арманные часы являли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едметом роскоши и были атрибутом богатых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82" name="preview-image" descr="http://cdn01.ru/files/users/images/16/7a/167a222fc422b82a0153999c454a94d6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05120" y="1523880"/>
            <a:ext cx="57909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Заголовок 1" descr=""/>
          <p:cNvPicPr/>
          <p:nvPr/>
        </p:nvPicPr>
        <p:blipFill>
          <a:blip r:embed="rId1"/>
          <a:stretch/>
        </p:blipFill>
        <p:spPr>
          <a:xfrm>
            <a:off x="244440" y="506520"/>
            <a:ext cx="8448840" cy="11761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58194951_1272119975_2171"/>
          <p:cNvPicPr/>
          <p:nvPr/>
        </p:nvPicPr>
        <p:blipFill>
          <a:blip r:embed="rId2"/>
          <a:stretch/>
        </p:blipFill>
        <p:spPr>
          <a:xfrm>
            <a:off x="380880" y="1295280"/>
            <a:ext cx="4496040" cy="4496040"/>
          </a:xfrm>
          <a:prstGeom prst="rect">
            <a:avLst/>
          </a:prstGeom>
          <a:ln w="0">
            <a:noFill/>
          </a:ln>
        </p:spPr>
      </p:pic>
      <p:sp>
        <p:nvSpPr>
          <p:cNvPr id="285" name="Прямоугольник 4"/>
          <p:cNvSpPr/>
          <p:nvPr/>
        </p:nvSpPr>
        <p:spPr>
          <a:xfrm>
            <a:off x="5029200" y="1447920"/>
            <a:ext cx="365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рвое упоминание о механических часах относится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 концу 6 столетия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Современные механические часы были созданы нидерландским ученым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Христианом Гюйгенсом в 1657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5"/>
          <p:cNvSpPr/>
          <p:nvPr/>
        </p:nvSpPr>
        <p:spPr>
          <a:xfrm>
            <a:off x="4952880" y="4343400"/>
            <a:ext cx="350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искусстве механические часы являются символом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6"/>
          <p:cNvSpPr/>
          <p:nvPr/>
        </p:nvSpPr>
        <p:spPr>
          <a:xfrm>
            <a:off x="5556240" y="373536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6ecee"/>
                </a:solidFill>
                <a:latin typeface="Arial"/>
              </a:rPr>
              <a:t>В искусстве ханические часы являются символом врем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Заголовок 1" descr=""/>
          <p:cNvPicPr/>
          <p:nvPr/>
        </p:nvPicPr>
        <p:blipFill>
          <a:blip r:embed="rId1"/>
          <a:stretch/>
        </p:blipFill>
        <p:spPr>
          <a:xfrm>
            <a:off x="853920" y="738360"/>
            <a:ext cx="7461360" cy="1176120"/>
          </a:xfrm>
          <a:prstGeom prst="rect">
            <a:avLst/>
          </a:prstGeom>
          <a:ln w="0">
            <a:noFill/>
          </a:ln>
        </p:spPr>
      </p:pic>
      <p:pic>
        <p:nvPicPr>
          <p:cNvPr id="289" name="Содержимое 3" descr="Lowell 21504">
            <a:hlinkClick r:id="rId2"/>
          </p:cNvPr>
          <p:cNvPicPr/>
          <p:nvPr/>
        </p:nvPicPr>
        <p:blipFill>
          <a:blip r:embed="rId3"/>
          <a:srcRect l="10006" t="13118" r="10006" b="14756"/>
          <a:stretch/>
        </p:blipFill>
        <p:spPr>
          <a:xfrm>
            <a:off x="380880" y="1981080"/>
            <a:ext cx="3886200" cy="3962520"/>
          </a:xfrm>
          <a:prstGeom prst="rect">
            <a:avLst/>
          </a:prstGeom>
          <a:ln w="0">
            <a:noFill/>
          </a:ln>
        </p:spPr>
      </p:pic>
      <p:pic>
        <p:nvPicPr>
          <p:cNvPr id="290" name="preview-image" descr="http://go1.imgsmail.ru/imgpreview?key=6662d6e89d23f044&amp;mb=imgdb_preview_45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95680" y="2286000"/>
            <a:ext cx="3962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Заголовок 1" descr=""/>
          <p:cNvPicPr/>
          <p:nvPr/>
        </p:nvPicPr>
        <p:blipFill>
          <a:blip r:embed="rId1"/>
          <a:stretch/>
        </p:blipFill>
        <p:spPr>
          <a:xfrm>
            <a:off x="244440" y="585720"/>
            <a:ext cx="8448840" cy="11764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000038-13[1]"/>
          <p:cNvPicPr/>
          <p:nvPr/>
        </p:nvPicPr>
        <p:blipFill>
          <a:blip r:embed="rId2"/>
          <a:stretch/>
        </p:blipFill>
        <p:spPr>
          <a:xfrm>
            <a:off x="533520" y="1371600"/>
            <a:ext cx="3809880" cy="4976640"/>
          </a:xfrm>
          <a:prstGeom prst="rect">
            <a:avLst/>
          </a:prstGeom>
          <a:ln w="0">
            <a:noFill/>
          </a:ln>
        </p:spPr>
      </p:pic>
      <p:sp>
        <p:nvSpPr>
          <p:cNvPr id="293" name="Прямоугольник 4"/>
          <p:cNvSpPr/>
          <p:nvPr/>
        </p:nvSpPr>
        <p:spPr>
          <a:xfrm>
            <a:off x="4876920" y="1523880"/>
            <a:ext cx="38862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ейчас точность времени хранят атомные часы. Атомные часы имеют погрешность в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одну секунду за шесть миллионов лет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Заголовок 1" descr=""/>
          <p:cNvPicPr/>
          <p:nvPr/>
        </p:nvPicPr>
        <p:blipFill>
          <a:blip r:embed="rId1"/>
          <a:stretch/>
        </p:blipFill>
        <p:spPr>
          <a:xfrm>
            <a:off x="622440" y="506520"/>
            <a:ext cx="7461000" cy="1176120"/>
          </a:xfrm>
          <a:prstGeom prst="rect">
            <a:avLst/>
          </a:prstGeom>
          <a:ln w="0">
            <a:noFill/>
          </a:ln>
        </p:spPr>
      </p:pic>
      <p:pic>
        <p:nvPicPr>
          <p:cNvPr id="295" name="preview-image" descr="http://watches.ru/img/papers/chasovschik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1752480"/>
            <a:ext cx="3333600" cy="2219400"/>
          </a:xfrm>
          <a:prstGeom prst="rect">
            <a:avLst/>
          </a:prstGeom>
          <a:ln w="0">
            <a:noFill/>
          </a:ln>
        </p:spPr>
      </p:pic>
      <p:pic>
        <p:nvPicPr>
          <p:cNvPr id="296" name="preview-image" descr="http://astrologo.ru/imason/Chasovshik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19720" y="1752480"/>
            <a:ext cx="3479760" cy="2590920"/>
          </a:xfrm>
          <a:prstGeom prst="rect">
            <a:avLst/>
          </a:prstGeom>
          <a:ln w="0">
            <a:noFill/>
          </a:ln>
        </p:spPr>
      </p:pic>
      <p:pic>
        <p:nvPicPr>
          <p:cNvPr id="297" name="preview-image" descr="http://24gadget.ru/uploads/posts/2012-04/1334214054_clipboard01.jpg"/>
          <p:cNvPicPr/>
          <p:nvPr/>
        </p:nvPicPr>
        <p:blipFill>
          <a:blip r:embed="rId6"/>
          <a:stretch/>
        </p:blipFill>
        <p:spPr>
          <a:xfrm>
            <a:off x="533520" y="4114800"/>
            <a:ext cx="4190760" cy="2513160"/>
          </a:xfrm>
          <a:prstGeom prst="rect">
            <a:avLst/>
          </a:prstGeom>
          <a:ln w="0">
            <a:noFill/>
          </a:ln>
        </p:spPr>
      </p:pic>
      <p:pic>
        <p:nvPicPr>
          <p:cNvPr id="298" name="preview-image" descr="http://cartman.tv/img_104526.jpeg"/>
          <p:cNvPicPr/>
          <p:nvPr/>
        </p:nvPicPr>
        <p:blipFill>
          <a:blip r:embed="rId7"/>
          <a:stretch/>
        </p:blipFill>
        <p:spPr>
          <a:xfrm>
            <a:off x="5867280" y="4191120"/>
            <a:ext cx="28958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Заголовок 1" descr=""/>
          <p:cNvPicPr/>
          <p:nvPr/>
        </p:nvPicPr>
        <p:blipFill>
          <a:blip r:embed="rId1"/>
          <a:stretch/>
        </p:blipFill>
        <p:spPr>
          <a:xfrm>
            <a:off x="450720" y="-390600"/>
            <a:ext cx="8016840" cy="29876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 txBox="1"/>
          <p:nvPr/>
        </p:nvSpPr>
        <p:spPr>
          <a:xfrm>
            <a:off x="457200" y="15998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rebuchet MS"/>
              </a:rPr>
              <a:t>1.Анкетирование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Часы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Компьютер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Ноутбук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Термометр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1" name="Диаграмма 7" descr=""/>
          <p:cNvPicPr/>
          <p:nvPr/>
        </p:nvPicPr>
        <p:blipFill>
          <a:blip r:embed="rId2"/>
          <a:stretch/>
        </p:blipFill>
        <p:spPr>
          <a:xfrm>
            <a:off x="3429000" y="1981080"/>
            <a:ext cx="518148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Заголовок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" descr="C:\Users\NP300v5as05\Pictures\i3.jpg"/>
          <p:cNvPicPr/>
          <p:nvPr/>
        </p:nvPicPr>
        <p:blipFill>
          <a:blip r:embed="rId2"/>
          <a:stretch/>
        </p:blipFill>
        <p:spPr>
          <a:xfrm>
            <a:off x="1076400" y="1523880"/>
            <a:ext cx="648180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Заголовок 1" descr=""/>
          <p:cNvPicPr/>
          <p:nvPr/>
        </p:nvPicPr>
        <p:blipFill>
          <a:blip r:embed="rId1"/>
          <a:stretch/>
        </p:blipFill>
        <p:spPr>
          <a:xfrm>
            <a:off x="165240" y="317520"/>
            <a:ext cx="7540560" cy="11509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Моя гипотеза полностью подтвердилась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.Необходимость часов на сегодняшний день очевидна! Мы живём во  временном ритме, сверяя со временем каждый свой шаг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.Привычный прибор «часы» имеют интересную историю создани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На стене висят часы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Но они не для красы –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Для того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чтоб время мерить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И часам должны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мы верить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preview-image" descr="http://cdn01.ru/files/users/images/16/7a/167a222fc422b82a0153999c454a94d6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1905120"/>
            <a:ext cx="396216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66"/>
                </a:solidFill>
                <a:latin typeface="Trebuchet MS"/>
              </a:rPr>
              <a:t>Дорожи минутой каждого дня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66"/>
                </a:solidFill>
                <a:latin typeface="Trebuchet MS"/>
              </a:rPr>
              <a:t>Сегодня, постарайся ничего не забыть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66"/>
                </a:solidFill>
                <a:latin typeface="Trebuchet MS"/>
              </a:rPr>
              <a:t>Проживи этот день не зря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66"/>
                </a:solidFill>
                <a:latin typeface="Trebuchet MS"/>
              </a:rPr>
              <a:t>Ведь завтра может не быть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66"/>
                </a:solidFill>
                <a:latin typeface="Trebuchet MS"/>
              </a:rPr>
              <a:t>Уходит сегодня во вчера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66"/>
                </a:solidFill>
                <a:latin typeface="Trebuchet MS"/>
              </a:rPr>
              <a:t>В бездне времени утопает все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66"/>
                </a:solidFill>
                <a:latin typeface="Trebuchet MS"/>
              </a:rPr>
              <a:t>Она поглощает дни навсегда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66"/>
                </a:solidFill>
                <a:latin typeface="Trebuchet MS"/>
              </a:rPr>
              <a:t>Береги, бегущее время сво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8" name="preview-image" descr="http://luxediamond.ru/wp-content/uploads/2015/01/karmannye-chasy-na-cepochke_2.jpg"/>
          <p:cNvPicPr/>
          <p:nvPr/>
        </p:nvPicPr>
        <p:blipFill>
          <a:blip r:embed="rId2"/>
          <a:stretch/>
        </p:blipFill>
        <p:spPr>
          <a:xfrm>
            <a:off x="6553080" y="2666880"/>
            <a:ext cx="22291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Заголовок 1" descr=""/>
          <p:cNvPicPr/>
          <p:nvPr/>
        </p:nvPicPr>
        <p:blipFill>
          <a:blip r:embed="rId1"/>
          <a:stretch/>
        </p:blipFill>
        <p:spPr>
          <a:xfrm>
            <a:off x="324000" y="109440"/>
            <a:ext cx="8648640" cy="1158840"/>
          </a:xfrm>
          <a:prstGeom prst="rect">
            <a:avLst/>
          </a:prstGeom>
          <a:ln w="0">
            <a:noFill/>
          </a:ln>
        </p:spPr>
      </p:pic>
      <p:pic>
        <p:nvPicPr>
          <p:cNvPr id="310" name="preview-image" descr="http://pp.vk.me/c413728/v413728611/2dbf/Ru_k3jSj2qM.jpg"/>
          <p:cNvPicPr/>
          <p:nvPr/>
        </p:nvPicPr>
        <p:blipFill>
          <a:blip r:embed="rId2"/>
          <a:stretch/>
        </p:blipFill>
        <p:spPr>
          <a:xfrm>
            <a:off x="1981080" y="1523880"/>
            <a:ext cx="462456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599840"/>
            <a:ext cx="830592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1. Собрать и систематизировать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материал по теме проекта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2. Подготовить презентацию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по теме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Изучить историю создания такого прибора, как часы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Осветить тему «многообразие видов прибора для счета времени»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Проверить свою гипотезу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66"/>
                </a:solidFill>
                <a:uFillTx/>
                <a:latin typeface="Trebuchet MS"/>
              </a:rPr>
              <a:t>ГИПОТЕЗА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«Я считаю в современном мире без часов не обойтись»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165240" y="317520"/>
            <a:ext cx="7540560" cy="11509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1. Поисковая работа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2. Историческая справка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3. Мини – исследование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4. Вывод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5. Эпилог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212760" y="450720"/>
            <a:ext cx="8858160" cy="13845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Trebuchet MS"/>
              </a:rPr>
              <a:t>Петух.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е будильник и не мам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днимает утром рано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удет Петя – петушок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амый звонкий  голосок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. Никитина  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review-image" descr="https://thumbs.dreamstime.com/z/%D0%BF%D0%B5%D1%82%D1%83%D1%85-2462566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175248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41" name="preview-image" descr="http://5klass.net/datas/okruzhajuschij-mir/Vidy-ptits/0019-019-Pevchie-ptitsy-Rossii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90720" y="1371600"/>
            <a:ext cx="7086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У реки - зелёный луг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дуванчики вокруг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осами умылись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Дружно приоткрылись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ак фонарики горят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м с тобою говорят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«На часах ровно пять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ожете ещё поспать!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4" name="preview-image" descr="http://doctorflora.ru/img/cliparts/oduvanchik_0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19720" y="1752480"/>
            <a:ext cx="4114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3-01-01T00:00:00Z</dcterms:created>
  <dc:creator/>
  <dc:description/>
  <cp:keywords/>
  <dc:language>en-US</dc:language>
  <cp:lastModifiedBy>NP300v5as05</cp:lastModifiedBy>
  <cp:lastPrinted>1899-12-30T00:00:00Z</cp:lastPrinted>
  <dcterms:modified xsi:type="dcterms:W3CDTF">2017-02-05T09:58:00Z</dcterms:modified>
  <cp:revision>5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  <property fmtid="{D5CDD505-2E9C-101B-9397-08002B2CF9AE}" pid="3" name="Version">
    <vt:r8>1</vt:r8>
  </property>
</Properties>
</file>