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386-A513-4166-AE63-B1AD6DF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1DE-B1C4-4C89-BE80-DDFEA548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AEE-0741-488E-B728-26B95D11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FD5-1E7D-4780-AA65-8FFDA182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118-7E35-46FB-AF91-0E30F7F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F96-BCDC-4238-8101-2C862BB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F28-3C48-49D4-A1C2-93FB8E7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F47-1AB2-4B25-B109-3C0C1FD7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EDF-7E42-4F13-8EE7-BA0C380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E4A-3356-45A3-AD66-E638D50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BE1-FD2E-4DDC-B991-8D6C320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583-73C7-4435-B01F-50B9FB5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C58-5C0E-41B8-93B8-99BDE4E848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1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1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ла человека в его знаниях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1 вариан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76 упр. 9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844640"/>
            <a:ext cx="8424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текст. Вставь пропущенные по смыслу существительные. Спиши текст в тетрадь. Подчеркни имена существительные  одной черт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о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тёпла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к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яли дощечки и сдела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ыла по во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ли за ней и весело крича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мотрели под н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ли в луж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9640" y="112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2 вариан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5" descr="000db081.jpg"/>
          <p:cNvPicPr/>
          <p:nvPr/>
        </p:nvPicPr>
        <p:blipFill>
          <a:blip r:embed="rId1"/>
          <a:stretch/>
        </p:blipFill>
        <p:spPr>
          <a:xfrm>
            <a:off x="2714760" y="0"/>
            <a:ext cx="350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5" descr="000db081.jpg"/>
          <p:cNvPicPr/>
          <p:nvPr/>
        </p:nvPicPr>
        <p:blipFill>
          <a:blip r:embed="rId1"/>
          <a:stretch/>
        </p:blipFill>
        <p:spPr>
          <a:xfrm>
            <a:off x="0" y="0"/>
            <a:ext cx="35002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Пользователь\Desktop\11.jpg"/>
          <p:cNvPicPr/>
          <p:nvPr/>
        </p:nvPicPr>
        <p:blipFill>
          <a:blip r:embed="rId2"/>
          <a:stretch/>
        </p:blipFill>
        <p:spPr>
          <a:xfrm>
            <a:off x="3000240" y="357120"/>
            <a:ext cx="1575000" cy="1857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4572000" y="50004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ля вас урок  полезен, вы узнали новое, вам было интере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Пользователь\Desktop\12.jpg"/>
          <p:cNvPicPr/>
          <p:nvPr/>
        </p:nvPicPr>
        <p:blipFill>
          <a:blip r:embed="rId3"/>
          <a:stretch/>
        </p:blipFill>
        <p:spPr>
          <a:xfrm>
            <a:off x="3071880" y="2786040"/>
            <a:ext cx="1619280" cy="1500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786200" y="271476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рок прошёл неплохо для вас, но вы чего-то не поняли, вам требуетс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Пользователь\Desktop\13.jpg"/>
          <p:cNvPicPr/>
          <p:nvPr/>
        </p:nvPicPr>
        <p:blipFill>
          <a:blip r:embed="rId4"/>
          <a:stretch/>
        </p:blipFill>
        <p:spPr>
          <a:xfrm>
            <a:off x="3143160" y="4929120"/>
            <a:ext cx="1524240" cy="1643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1"/>
          <p:cNvSpPr/>
          <p:nvPr/>
        </p:nvSpPr>
        <p:spPr>
          <a:xfrm>
            <a:off x="4714920" y="492912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  урока ничего не взяли, было не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8031F957"/>
          <p:cNvPicPr/>
          <p:nvPr/>
        </p:nvPicPr>
        <p:blipFill>
          <a:blip r:embed="rId1"/>
          <a:srcRect l="26991" t="20934" r="17242" b="62288"/>
          <a:stretch/>
        </p:blipFill>
        <p:spPr>
          <a:xfrm>
            <a:off x="1332000" y="1413000"/>
            <a:ext cx="68166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_суда, за_ц, к_ртина, м_розный,л_па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5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верно записаны 5 с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4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верно записаны 4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верно записаны 3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а, за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, 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ина, м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ый,л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а, за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, 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ина, л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+» - я знаю</a:t>
            </a:r>
            <a:br>
              <a:rPr sz="8600"/>
            </a:br>
            <a:r>
              <a:rPr b="1" i="1" lang="ru-RU" sz="8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!»-  для меня      новое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8031F957"/>
          <p:cNvPicPr/>
          <p:nvPr/>
        </p:nvPicPr>
        <p:blipFill>
          <a:blip r:embed="rId1"/>
          <a:srcRect l="26991" t="20934" r="52302" b="62288"/>
          <a:stretch/>
        </p:blipFill>
        <p:spPr>
          <a:xfrm>
            <a:off x="285840" y="4000680"/>
            <a:ext cx="1857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а, за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, 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ина, л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ют, роще, часто, в, дет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B63C2A0A"/>
          <p:cNvPicPr/>
          <p:nvPr/>
        </p:nvPicPr>
        <p:blipFill>
          <a:blip r:embed="rId1">
            <a:lum bright="-10000"/>
          </a:blip>
          <a:srcRect l="38400" t="35715" r="44298" b="32121"/>
          <a:stretch/>
        </p:blipFill>
        <p:spPr>
          <a:xfrm>
            <a:off x="428760" y="285840"/>
            <a:ext cx="30715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7:28:29Z</dcterms:created>
  <dc:creator>Пользователь</dc:creator>
  <dc:description/>
  <dc:language>en-US</dc:language>
  <cp:lastModifiedBy>Пользователь</cp:lastModifiedBy>
  <dcterms:modified xsi:type="dcterms:W3CDTF">2013-04-11T15:32:23Z</dcterms:modified>
  <cp:revision>54</cp:revision>
  <dc:subject/>
  <dc:title>Сила человека в его знаниях?</dc:title>
</cp:coreProperties>
</file>