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81DC1-B5A4-4079-A79D-0161F3190D2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214C9-A44F-44CB-A7A1-F5598A339BB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DA45E-0F84-4F37-AEEC-C902D8E767C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12731-59EF-4E86-AAC3-860989AECE0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4B10A-80A2-4004-A009-EAFCCEAA95F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64B-B185-4076-AA9A-DD34C90E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0D2-1A62-4E4F-B7CC-64B17344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C621-54EB-4ABA-8C38-C70DC1E7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FB33-E323-406E-B760-EF83AA4D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8D4D-181C-486E-A786-F3A09FE4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D032-CDD8-4B98-91CF-56A3AEDB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B9FF-42D1-4045-88ED-680DCE91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F666-2370-4061-BF7E-8D155782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65E8-3D1F-494A-8013-53CA1449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0960" cy="84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2800-551B-4578-8935-4AEE1273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9059-8519-43E1-89C5-27899C2D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F389-388D-407F-B878-49ECB719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370E-6847-4B6B-A342-873E3F87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DF78-CB19-4114-84EE-BB7DCCCC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066E-3B5D-44D5-A971-8A79297C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A64A-6C95-4B25-9BCD-ED54B18C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5611-F9C2-4BCF-BFE1-66DB48DB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544-8E5B-4A0C-A7F9-B1D8F49A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C84-A430-45B7-B4F1-ED3352B3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820-A2F8-4D20-AE75-DC895283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0960" cy="84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B8A-C8CF-4F21-A1B1-4276C95C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EB97-7C89-4EB6-BDFE-2BC29E3B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F40-C6B5-4919-A0E2-0C51FD3E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70B-00B9-4A3F-B5B7-B7C5E392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CADF19-8A30-4E02-9076-7D9C49869F57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B89CFBC-DAFB-4578-B147-3A9AFAA3EA7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1835280" y="260280"/>
            <a:ext cx="590544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ужба народов Росси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25274" t="28459" r="25533" b="10298"/>
          <a:stretch/>
        </p:blipFill>
        <p:spPr>
          <a:xfrm>
            <a:off x="2627280" y="2708280"/>
            <a:ext cx="39830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8381880" y="6477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042920" y="189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мы едины, мы непобедим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8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9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10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/>
          <p:cNvPicPr/>
          <p:nvPr/>
        </p:nvPicPr>
        <p:blipFill>
          <a:blip r:embed="rId1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"/>
          <p:cNvPicPr/>
          <p:nvPr/>
        </p:nvPicPr>
        <p:blipFill>
          <a:blip r:embed="rId12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3"/>
          <p:cNvSpPr/>
          <p:nvPr/>
        </p:nvSpPr>
        <p:spPr>
          <a:xfrm>
            <a:off x="8153280" y="6477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Картинки по запросу народы россии их национальные костюмы"/>
          <p:cNvPicPr/>
          <p:nvPr/>
        </p:nvPicPr>
        <p:blipFill>
          <a:blip r:embed="rId1"/>
          <a:stretch/>
        </p:blipFill>
        <p:spPr>
          <a:xfrm>
            <a:off x="324000" y="477720"/>
            <a:ext cx="4032000" cy="5772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s://fs3.ppt4web.ru/images/133572/194337/640/img10.jpg"/>
          <p:cNvPicPr/>
          <p:nvPr/>
        </p:nvPicPr>
        <p:blipFill>
          <a:blip r:embed="rId2"/>
          <a:stretch/>
        </p:blipFill>
        <p:spPr>
          <a:xfrm>
            <a:off x="4572000" y="477720"/>
            <a:ext cx="44402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Картинки по запросу народы россии их национальные костюмы"/>
          <p:cNvPicPr/>
          <p:nvPr/>
        </p:nvPicPr>
        <p:blipFill>
          <a:blip r:embed="rId1"/>
          <a:stretch/>
        </p:blipFill>
        <p:spPr>
          <a:xfrm>
            <a:off x="133200" y="271440"/>
            <a:ext cx="80391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Картинки по запросу народы россии их национальные костюмы"/>
          <p:cNvPicPr/>
          <p:nvPr/>
        </p:nvPicPr>
        <p:blipFill>
          <a:blip r:embed="rId1"/>
          <a:stretch/>
        </p:blipFill>
        <p:spPr>
          <a:xfrm>
            <a:off x="123840" y="260280"/>
            <a:ext cx="83628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Картинки по запросу народы россии их национальные костюмы"/>
          <p:cNvPicPr/>
          <p:nvPr/>
        </p:nvPicPr>
        <p:blipFill>
          <a:blip r:embed="rId1"/>
          <a:stretch/>
        </p:blipFill>
        <p:spPr>
          <a:xfrm>
            <a:off x="539640" y="765000"/>
            <a:ext cx="3463920" cy="5072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Картинки по запросу народы россии их национальные костюмы"/>
          <p:cNvPicPr/>
          <p:nvPr/>
        </p:nvPicPr>
        <p:blipFill>
          <a:blip r:embed="rId2"/>
          <a:stretch/>
        </p:blipFill>
        <p:spPr>
          <a:xfrm>
            <a:off x="549360" y="747720"/>
            <a:ext cx="34639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Картинки по запросу народы россии их национальные костюмы"/>
          <p:cNvPicPr/>
          <p:nvPr/>
        </p:nvPicPr>
        <p:blipFill>
          <a:blip r:embed="rId1"/>
          <a:stretch/>
        </p:blipFill>
        <p:spPr>
          <a:xfrm>
            <a:off x="171360" y="260280"/>
            <a:ext cx="79441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6480" y="25560"/>
            <a:ext cx="4911480" cy="6597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7696080" y="6477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Толковый словарь Ожегова Друг – человек, который связан с кем-нибудь дружбой; сторонник, защитник кого-нибудь. Дружба — близкие отношения, основанные на взаимном доверии, привязанности, общности интересов.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3" descr="Живут в России разные народы с давних пор. Одним - тайга по нраву, другим - с..."/>
          <p:cNvPicPr/>
          <p:nvPr/>
        </p:nvPicPr>
        <p:blipFill>
          <a:blip r:embed="rId1"/>
          <a:stretch/>
        </p:blipFill>
        <p:spPr>
          <a:xfrm>
            <a:off x="324000" y="309600"/>
            <a:ext cx="8496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Всех людей, живущих в нашей стране, можно назвать россиянами. Но национальности у них разные. Россия — единое многонациональное государство. Ее населяют более 180 национальностей."/>
          <p:cNvPicPr/>
          <p:nvPr/>
        </p:nvPicPr>
        <p:blipFill>
          <a:blip r:embed="rId1"/>
          <a:stretch/>
        </p:blipFill>
        <p:spPr>
          <a:xfrm>
            <a:off x="755640" y="620640"/>
            <a:ext cx="7632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Картинки по запросу международный день толерантности"/>
          <p:cNvPicPr/>
          <p:nvPr/>
        </p:nvPicPr>
        <p:blipFill>
          <a:blip r:embed="rId1"/>
          <a:stretch/>
        </p:blipFill>
        <p:spPr>
          <a:xfrm>
            <a:off x="-237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Картинки по запросу международный день толерантности"/>
          <p:cNvPicPr/>
          <p:nvPr/>
        </p:nvPicPr>
        <p:blipFill>
          <a:blip r:embed="rId1"/>
          <a:stretch/>
        </p:blipFill>
        <p:spPr>
          <a:xfrm>
            <a:off x="395280" y="135000"/>
            <a:ext cx="81374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96007C-A200-4840-A9AA-88EBAA6F15F9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оссия – наша Роди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539640" y="1163520"/>
            <a:ext cx="8172720" cy="56944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3"/>
          <p:cNvSpPr/>
          <p:nvPr/>
        </p:nvSpPr>
        <p:spPr>
          <a:xfrm>
            <a:off x="0" y="6553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8381880" y="6477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Картинки по запросу многонациональность россии"/>
          <p:cNvPicPr/>
          <p:nvPr/>
        </p:nvPicPr>
        <p:blipFill>
          <a:blip r:embed="rId1"/>
          <a:stretch/>
        </p:blipFill>
        <p:spPr>
          <a:xfrm>
            <a:off x="-28440" y="324000"/>
            <a:ext cx="914400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3" descr="Вот вам мои примеры: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ma</dc:creator>
  <dc:description/>
  <dc:language>en-US</dc:language>
  <cp:lastModifiedBy>USER</cp:lastModifiedBy>
  <dcterms:modified xsi:type="dcterms:W3CDTF">2026-01-28T17:53:47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