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4.png" ContentType="image/png"/>
  <Override PartName="/ppt/media/image8.jpeg" ContentType="image/jpeg"/>
  <Override PartName="/ppt/media/image26.jpeg" ContentType="image/jpeg"/>
  <Override PartName="/ppt/media/image5.jpeg" ContentType="image/jpeg"/>
  <Override PartName="/ppt/media/image16.jpeg" ContentType="image/jpeg"/>
  <Override PartName="/ppt/media/wind.wav" ContentType="audio/x-wav"/>
  <Override PartName="/ppt/media/image7.jpeg" ContentType="image/jpeg"/>
  <Override PartName="/ppt/media/image28.jpeg" ContentType="image/jpeg"/>
  <Override PartName="/ppt/media/image11.png" ContentType="image/png"/>
  <Override PartName="/ppt/media/image19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drumroll.wav" ContentType="audio/x-wav"/>
  <Override PartName="/ppt/media/image24.jpeg" ContentType="image/jpeg"/>
  <Override PartName="/ppt/media/image1.png" ContentType="image/png"/>
  <Override PartName="/ppt/media/image20.jpeg" ContentType="image/jpeg"/>
  <Override PartName="/ppt/media/image13.png" ContentType="image/png"/>
  <Override PartName="/ppt/media/image14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chimes.wav" ContentType="audio/x-wav"/>
  <Override PartName="/ppt/media/image21.jpeg" ContentType="image/jpeg"/>
  <Override PartName="/ppt/media/image9.png" ContentType="image/png"/>
  <Override PartName="/ppt/media/image2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A939-D1E9-49DB-A4DE-6A2B737D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67BD-7E9E-41E1-89D7-5D020226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2D9CC-C35C-4D7F-B6E8-FDDACBE4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E9868-31D6-4172-A981-92E2E113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4E727-5098-4C0E-8CB3-CA62CCCB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0E92A-3F0D-4B8E-918F-5D8C7748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ACB51-D3E8-42EA-B472-DB57DFC4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44297-82A1-4D0B-8385-7C1DBC39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5866D-56BF-4665-B519-4EDAD5BB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C1A46-7777-4747-AB79-9B822A1D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10272-8389-4A71-BA38-FE4C6D21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F9DEE-F95E-4FD6-B6EB-4672E366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8C3B-7960-4A90-B4A4-A458E906D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25923-82BE-4B64-A2CB-607F72BC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C0630-0339-41EF-9634-706E9544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473D8-10DC-45C5-A6BF-341FB51D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EADD7-FD4C-4C3A-B984-7D59C975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7BB57-5FB7-4B1F-A305-228EF504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FAB6C-48E9-478D-990E-8D2896CF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E9AFC-432A-4C9C-8736-B2C61F5F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61F2B-4F4F-4403-AF03-BB9D2437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8EF04-3FE2-4331-A510-44DD5315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B0CF7-4AB8-40F4-9DC0-2FA64BEB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DDDA-7F69-48A4-A052-2AF6EC41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1595E-5C57-49E9-A3CA-78646AFC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F6E5-1F91-42FB-9F9C-2A107F25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1177-6060-4843-9FB7-423E6654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6AC1-26AD-4FD3-AB62-2ED6DA6F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8766-5876-4C89-B609-B191DC1F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734C-C0E1-46E2-87F7-676B799E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07D2-BA15-479B-A226-4A9B9981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2D65-3BA7-4612-8A5D-8539889A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19C0-A0F9-4DAE-B36E-5CD365A3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448E-CBF5-410C-A808-DFE16C5D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DC93-8A61-495F-A4FD-DAEBD37B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8688-5FB6-4F9B-8212-21677F31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B7FA-4850-46CA-BA8A-3AB58347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E108-6DEF-4A61-820C-25FA796A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34254-F13C-465A-8DCC-00F2AFB4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5F805-6CD3-40F7-AA11-D39D591D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D029A-B2FA-472D-9B4A-0FC16D95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3AAF1-1920-439C-B889-0045AF40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CB971-8994-4E93-AFC3-93B3BFF0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7797-DA52-4BC4-A0FA-1BDE8FFB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96726-D9F1-4DA0-953C-31C669F0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6EA3E-55DD-4E7C-AFC1-5DC0B80C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0276D-6E37-4536-8B10-7F1BE796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62C36-7FEE-42B7-A475-C0682970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26098-C073-48A5-9C5F-0F485E6E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920C0-5B67-4AC6-81B4-AB5EB35F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4644A-3D49-4D36-811A-61AE8727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40BB9-69C6-4BAF-96E9-D8856FCB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6E90A-7FC7-4271-9BBB-0B345AF4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B9625-3114-43D8-9346-FD48FC30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EF60-6A8F-453E-9870-AB6BD770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936DF-386B-4139-82DB-9DE654D2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6384F-ECB4-4E15-9A44-7FF5CE32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8E952-A464-409B-8ADD-C8328B50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C536C-42A6-4548-86E1-38AF95E7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6F10B-AE35-4A79-A024-D3839D62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F7233-8D2E-4EB2-AB1A-CB5FCF86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09C28-7280-4178-8F1B-59481A70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7FAC1-1E64-4BA1-B889-C2B48C57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FC60D-2830-4DB7-83EA-43342606D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D30E3-BBDB-427A-9D19-33E6E2E1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D1C4-65A1-40A6-8DDB-49C541D0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C7D87-DE63-4E4C-8065-9A41BFAD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01F04-FE94-4423-96B6-67DF7897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5F91B-C04B-47DD-B391-B1B2B3CB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1160E-D92C-4FEC-AA8F-ADAE294F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561CC-DCBC-46CE-88F0-00C10FA5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7645C-5D2D-428F-A633-AFB061BB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814D7-AE66-46A0-9E6F-03DB9C8D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29728-5F46-48A1-806D-ED9B5F0F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B9045-D83B-411B-AE63-513B8F57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3F8AA-D106-4700-A803-D15F4DA9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982D-407D-42E0-87FB-CD1B6810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0BC0B-B881-4FA3-88E4-99EB9EBE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0E580-122F-486B-8F9B-71317052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953E2-B612-4A2D-A8C4-9E8A2CEB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82D29-0ED1-4B58-AEB0-966C9685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50E95-2F7A-42B4-8C1D-33AD6224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7DB66-ABC0-4CE1-9664-FC8D326B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35B1C-B90C-4833-A0AF-35B0B6F9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3C46F-8C1C-482D-A07E-F219293D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D1481-EB87-4FE8-8246-DC692FE6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C38B7-AF42-4482-9E31-2E379FB5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40EA-33F2-4006-A776-156E51E2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FBF4F-91A0-4499-97CF-32144945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78DAE-D88E-4FB7-98C1-D3753050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02F2A-E0D8-44C2-9533-B3DB19D7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38A42-ECAC-4B77-9DC0-6F9C8833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621BD-63A5-4112-B154-8333B276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1FC0D-2AFA-410B-A8F7-E26EE8D2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CC979-A699-4C20-AB17-EEF9E3C3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5EA75-D9E0-4047-8041-931B4914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1FB70-E6E8-4FEE-8614-9CE946E1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11C4F-EAE1-4101-89AE-C0EE7451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9B1F-BB4D-43E7-8E30-E51A5293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70B45-0059-4D6A-A620-ECDE17E2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18EBA-2032-4F54-BDFC-9FD7708C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0809A-21BC-473F-BC5A-C7BF9D3B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9AEA0-EA4B-486D-A9DE-1DE01633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53940-8B03-4796-AA9B-83724E48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E74D1-74C8-414C-B0FE-DA1D58ED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5EB59-BEB1-44BD-8472-884685A0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A9804-995C-4351-92F1-D1D084BD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8CD38-148F-42D0-AF41-5450250C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AF2F4-5DEA-4B74-A92B-078C8D0E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7EB3-5D49-473F-B9FE-59C1B863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7F966-FEB8-4F6F-84C9-ABCA2A2B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F4C3B-C39E-4B14-ABD4-8BF0D36A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0BF71-EAF4-4198-BF47-BB03875E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EF22F-77D8-4F8F-9087-39E9FB26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CF70D-E1D9-4F07-B659-6A6A1D9F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243DD-B9BB-43CF-B549-3889DFB3D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866F8-7C9C-4C49-869D-FD5AEC98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5CD42-5665-4AFD-9C81-F1504D00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68354-AC24-4B5F-ACE3-0585FFAF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8F407-F6E2-4637-82AD-08E39B7F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D7D4-3660-492A-A1C3-8D53C5C7311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FE7E-2FA8-4362-A182-2E4BF228DAF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5C13-15A7-49C3-9919-47F855D18AC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92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4D11-21A1-4C1C-ABE8-3FAE5EEB2ED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6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4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6C27-1F2E-4EEE-AFBB-A5CE8665E3B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86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210A-261D-4D53-8F8F-8215B3CFEEE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0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A1E3-E472-4442-9B42-749D75A0015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ABD5-031C-474B-A719-20F8FAAE143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15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89AD-C85B-4459-AFA7-581C638328B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E36A-325F-4941-95FA-498647B0225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WordArt 4"/>
          <p:cNvSpPr txBox="1"/>
          <p:nvPr/>
        </p:nvSpPr>
        <p:spPr>
          <a:xfrm>
            <a:off x="179280" y="260280"/>
            <a:ext cx="8713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pperplate Gothic Bold"/>
              </a:rPr>
              <a:t>The  connoisseurs  of  Great  Britain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pperplate Gothic Bold"/>
              <a:ea typeface="Copperplate Gothic Bold"/>
            </a:endParaRPr>
          </a:p>
        </p:txBody>
      </p:sp>
      <p:pic>
        <p:nvPicPr>
          <p:cNvPr id="441" name="Picture 5" descr="https://avatars.dzeninfra.ru/get-zen_doc/3512190/pub_62b0b173cbd9197865e542a1_62b0b31992892e6ea4c311f1/scale_1200"/>
          <p:cNvPicPr/>
          <p:nvPr/>
        </p:nvPicPr>
        <p:blipFill>
          <a:blip r:embed="rId1"/>
          <a:stretch/>
        </p:blipFill>
        <p:spPr>
          <a:xfrm>
            <a:off x="1332000" y="1557360"/>
            <a:ext cx="6467400" cy="4118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Заголовок 1" descr=""/>
          <p:cNvPicPr/>
          <p:nvPr/>
        </p:nvPicPr>
        <p:blipFill>
          <a:blip r:embed="rId1"/>
          <a:stretch/>
        </p:blipFill>
        <p:spPr>
          <a:xfrm>
            <a:off x="291960" y="-6480"/>
            <a:ext cx="8699760" cy="154944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It is the most populous city in Scotland, and the third most populous city in the United Kingdom. It is the fifth most visited city in the UK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8" name="Рисунок 4" descr="Глазго"/>
          <p:cNvPicPr/>
          <p:nvPr/>
        </p:nvPicPr>
        <p:blipFill>
          <a:blip r:embed="rId2"/>
          <a:stretch/>
        </p:blipFill>
        <p:spPr>
          <a:xfrm>
            <a:off x="4859280" y="1844640"/>
            <a:ext cx="3816360" cy="3529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Заголовок 1" descr=""/>
          <p:cNvPicPr/>
          <p:nvPr/>
        </p:nvPicPr>
        <p:blipFill>
          <a:blip r:embed="rId1"/>
          <a:stretch/>
        </p:blipFill>
        <p:spPr>
          <a:xfrm>
            <a:off x="291960" y="182520"/>
            <a:ext cx="8699760" cy="145116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0" y="1599840"/>
            <a:ext cx="5292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It is noted for its culture, architecture, and transport links.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It is closely associated with the arts, particularly music; the popularity of the Beatles, who are regarded as the most influential band in history, contributed to the city's status as a tourist destination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1" name="Рисунок 4" descr="https://wikiway.com/upload/hl-photo/12c/ead/leverpool_103.jpg"/>
          <p:cNvPicPr/>
          <p:nvPr/>
        </p:nvPicPr>
        <p:blipFill>
          <a:blip r:embed="rId2"/>
          <a:stretch/>
        </p:blipFill>
        <p:spPr>
          <a:xfrm>
            <a:off x="5364000" y="2276640"/>
            <a:ext cx="3456000" cy="33843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ASK 3. </a:t>
            </a:r>
            <a:r>
              <a:rPr b="1" i="1" lang="en-US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he longest, the largest, the oldest…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94920" y="1071720"/>
            <a:ext cx="7605720" cy="49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The largest city of Great Britain is…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What is the highest mountain in the United Kingdom?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What is the longest river in the UK?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Who is one of the best-known English writers?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Where is Loch Ness?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The largest city of Great Britain i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Lond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What is the highest mountain in the United Kingdom? </a:t>
            </a:r>
            <a:r>
              <a:rPr b="1" i="1" lang="en-US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Ben Nevi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What is the longest river in the UK? </a:t>
            </a:r>
            <a:r>
              <a:rPr b="1" i="1" lang="en-US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The Sever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Who is one of the best-known English writers? </a:t>
            </a:r>
            <a:r>
              <a:rPr b="1" i="1" lang="en-US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William Shakespear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Where is Loch Ness? </a:t>
            </a:r>
            <a:r>
              <a:rPr b="1" i="1" lang="en-US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Scotlan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188640"/>
            <a:ext cx="8686800" cy="110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                </a:t>
            </a:r>
            <a:r>
              <a:rPr b="0" lang="en-US" sz="4400" spc="-1" strike="noStrike">
                <a:solidFill>
                  <a:srgbClr val="4e3b30"/>
                </a:solidFill>
                <a:latin typeface="Arial Black"/>
              </a:rPr>
              <a:t>TASK 4. </a:t>
            </a:r>
            <a:r>
              <a:rPr b="0" i="1" lang="en-US" sz="4400" spc="-1" strike="noStrike">
                <a:solidFill>
                  <a:srgbClr val="4e3b30"/>
                </a:solidFill>
                <a:latin typeface="Arial Black"/>
              </a:rPr>
              <a:t>The box</a:t>
            </a: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76" name="Picture 3" descr="C:\Documents and Settings\User\Рабочий стол\imgpreview.jpeg"/>
          <p:cNvPicPr/>
          <p:nvPr/>
        </p:nvPicPr>
        <p:blipFill>
          <a:blip r:embed="rId1"/>
          <a:stretch/>
        </p:blipFill>
        <p:spPr>
          <a:xfrm>
            <a:off x="2428920" y="1714680"/>
            <a:ext cx="4452840" cy="4452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official name of the country which we call Great Britain?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 flipV="1" rot="10800000">
            <a:off x="0" y="553608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333333"/>
                </a:solidFill>
                <a:latin typeface="Arial"/>
                <a:ea typeface="Times New Roman"/>
              </a:rPr>
              <a:t>The United Kingdom of Great Britain and Northern Irelan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13" descr="https://i.pinimg.com/originals/94/6e/96/946e9630be4128faf6af71419ff85233.jpg"/>
          <p:cNvPicPr/>
          <p:nvPr/>
        </p:nvPicPr>
        <p:blipFill>
          <a:blip r:embed="rId1"/>
          <a:stretch/>
        </p:blipFill>
        <p:spPr>
          <a:xfrm>
            <a:off x="2700360" y="2205000"/>
            <a:ext cx="3600360" cy="3299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362800" cy="14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are the main colours of the Union flag?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6" descr="https://avatars.dzeninfra.ru/get-zen_doc/3512190/pub_62b0b173cbd9197865e542a1_62b0b31992892e6ea4c311f1/scale_1200"/>
          <p:cNvPicPr/>
          <p:nvPr/>
        </p:nvPicPr>
        <p:blipFill>
          <a:blip r:embed="rId1"/>
          <a:stretch/>
        </p:blipFill>
        <p:spPr>
          <a:xfrm>
            <a:off x="1763640" y="1628640"/>
            <a:ext cx="5345280" cy="3405240"/>
          </a:xfrm>
          <a:prstGeom prst="rect">
            <a:avLst/>
          </a:prstGeom>
          <a:ln w="0">
            <a:noFill/>
          </a:ln>
        </p:spPr>
      </p:pic>
      <p:sp>
        <p:nvSpPr>
          <p:cNvPr id="484" name="TextBox 5"/>
          <p:cNvSpPr/>
          <p:nvPr/>
        </p:nvSpPr>
        <p:spPr>
          <a:xfrm>
            <a:off x="684360" y="5661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lue, red and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is favourite hot drink in Britain?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4"/>
          <p:cNvSpPr/>
          <p:nvPr/>
        </p:nvSpPr>
        <p:spPr>
          <a:xfrm>
            <a:off x="1571760" y="5929200"/>
            <a:ext cx="587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https://podacha-blud.com/uploads/posts/2022-10/1665601489_35-podacha-blud-com-p-chaya-po-angliiski-krasivie-foto-42.jpg"/>
          <p:cNvPicPr/>
          <p:nvPr/>
        </p:nvPicPr>
        <p:blipFill>
          <a:blip r:embed="rId1"/>
          <a:stretch/>
        </p:blipFill>
        <p:spPr>
          <a:xfrm>
            <a:off x="1692360" y="1628640"/>
            <a:ext cx="5688000" cy="3630600"/>
          </a:xfrm>
          <a:prstGeom prst="rect">
            <a:avLst/>
          </a:prstGeom>
          <a:ln w="0">
            <a:noFill/>
          </a:ln>
        </p:spPr>
      </p:pic>
      <p:sp>
        <p:nvSpPr>
          <p:cNvPr id="488" name="TextBox 5"/>
          <p:cNvSpPr/>
          <p:nvPr/>
        </p:nvSpPr>
        <p:spPr>
          <a:xfrm>
            <a:off x="4788000" y="5732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o was the Head of Great Britain and ruled for 70 years?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Box 3"/>
          <p:cNvSpPr/>
          <p:nvPr/>
        </p:nvSpPr>
        <p:spPr>
          <a:xfrm>
            <a:off x="4427640" y="537372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Queen Elizabeth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6" descr="https://gorodovoy.ru/k2/news/1200/upload/upload/news/520694511265.jpg"/>
          <p:cNvPicPr/>
          <p:nvPr/>
        </p:nvPicPr>
        <p:blipFill>
          <a:blip r:embed="rId1"/>
          <a:stretch/>
        </p:blipFill>
        <p:spPr>
          <a:xfrm>
            <a:off x="1523880" y="1989000"/>
            <a:ext cx="5888160" cy="3311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is the largest part of the UK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Picture 6" descr="https://motellook.ru/wp-content/uploads/6/4/0/6400cfccf1595f91748f4b1d5791ff53.jpeg"/>
          <p:cNvPicPr/>
          <p:nvPr/>
        </p:nvPicPr>
        <p:blipFill>
          <a:blip r:embed="rId1"/>
          <a:stretch/>
        </p:blipFill>
        <p:spPr>
          <a:xfrm>
            <a:off x="4284720" y="1557360"/>
            <a:ext cx="3735360" cy="4444920"/>
          </a:xfrm>
          <a:prstGeom prst="rect">
            <a:avLst/>
          </a:prstGeom>
          <a:ln w="0">
            <a:noFill/>
          </a:ln>
        </p:spPr>
      </p:pic>
      <p:sp>
        <p:nvSpPr>
          <p:cNvPr id="494" name="TextBox 5"/>
          <p:cNvSpPr/>
          <p:nvPr/>
        </p:nvSpPr>
        <p:spPr>
          <a:xfrm>
            <a:off x="395280" y="515772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Заголовок 1" descr=""/>
          <p:cNvPicPr/>
          <p:nvPr/>
        </p:nvPicPr>
        <p:blipFill>
          <a:blip r:embed="rId1"/>
          <a:stretch/>
        </p:blipFill>
        <p:spPr>
          <a:xfrm>
            <a:off x="298440" y="365040"/>
            <a:ext cx="8699400" cy="138456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6" descr="https://sportishka.com/uploads/posts/2022-04/1650651918_67-sportishka-com-p-londonskii-krasivo-foto-72.jpg"/>
          <p:cNvPicPr/>
          <p:nvPr/>
        </p:nvPicPr>
        <p:blipFill>
          <a:blip r:embed="rId2"/>
          <a:stretch/>
        </p:blipFill>
        <p:spPr>
          <a:xfrm>
            <a:off x="395280" y="1484280"/>
            <a:ext cx="3816360" cy="216072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7" descr="https://fb.ru/media/i/3/5/1/2/1/5/i/351215.jpg"/>
          <p:cNvPicPr/>
          <p:nvPr/>
        </p:nvPicPr>
        <p:blipFill>
          <a:blip r:embed="rId3"/>
          <a:stretch/>
        </p:blipFill>
        <p:spPr>
          <a:xfrm>
            <a:off x="5076720" y="1557360"/>
            <a:ext cx="3397320" cy="215892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8" descr="https://traveltimes.ru/wp-content/uploads/2021/12/cardiffPierheadMODIF-shutterstock_551048935.jpg"/>
          <p:cNvPicPr/>
          <p:nvPr/>
        </p:nvPicPr>
        <p:blipFill>
          <a:blip r:embed="rId4"/>
          <a:stretch/>
        </p:blipFill>
        <p:spPr>
          <a:xfrm>
            <a:off x="468360" y="4292640"/>
            <a:ext cx="3672000" cy="199548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9" descr="https://stella-clothes.ru/wp-content/uploads/b/0/0/b00f21fc7b9b08cc5be466b6dc93d601.jpeg"/>
          <p:cNvPicPr/>
          <p:nvPr/>
        </p:nvPicPr>
        <p:blipFill>
          <a:blip r:embed="rId5"/>
          <a:stretch/>
        </p:blipFill>
        <p:spPr>
          <a:xfrm>
            <a:off x="4859280" y="4076640"/>
            <a:ext cx="3457800" cy="2225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is the favorite topic to discuss in Great Britai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Picture 6" descr="https://image.winudf.com/v2/image/Y29tLndlYXRoZXIudG9tb3Jyb3cuZm9yZWNhc3QucmVkYXJfc2NyZWVuXzFfMTUzNDU2OTg0NV8wMjk/screen-1.jpg?fakeurl=1&amp;type=.jpg"/>
          <p:cNvPicPr/>
          <p:nvPr/>
        </p:nvPicPr>
        <p:blipFill>
          <a:blip r:embed="rId1"/>
          <a:stretch/>
        </p:blipFill>
        <p:spPr>
          <a:xfrm>
            <a:off x="1692360" y="1773360"/>
            <a:ext cx="6221160" cy="38876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6"/>
          <p:cNvSpPr/>
          <p:nvPr/>
        </p:nvSpPr>
        <p:spPr>
          <a:xfrm>
            <a:off x="5219640" y="61657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 Black"/>
              </a:rPr>
              <a:t>TASK.5 </a:t>
            </a:r>
            <a:r>
              <a:rPr b="1" i="1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LACES OF INTEREST</a:t>
            </a: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99" name="Picture 10" descr="https://wikiway.com/upload/hl-photo/451/147/big-ben_68.jpg"/>
          <p:cNvPicPr/>
          <p:nvPr/>
        </p:nvPicPr>
        <p:blipFill>
          <a:blip r:embed="rId1"/>
          <a:stretch/>
        </p:blipFill>
        <p:spPr>
          <a:xfrm>
            <a:off x="6588000" y="2421000"/>
            <a:ext cx="2154240" cy="31687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2" descr="https://wikiway.com/upload/hl-photo/53d/fb1/trafalgarskaya-ploshchad_98.jpg"/>
          <p:cNvPicPr/>
          <p:nvPr/>
        </p:nvPicPr>
        <p:blipFill>
          <a:blip r:embed="rId2"/>
          <a:stretch/>
        </p:blipFill>
        <p:spPr>
          <a:xfrm>
            <a:off x="2556000" y="1484280"/>
            <a:ext cx="3789360" cy="25210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4" descr="https://sportishka.com/uploads/posts/2022-04/1650551626_4-sportishka-com-p-gaid-park-v-londone-krasivo-foto-5.jpg"/>
          <p:cNvPicPr/>
          <p:nvPr/>
        </p:nvPicPr>
        <p:blipFill>
          <a:blip r:embed="rId3"/>
          <a:stretch/>
        </p:blipFill>
        <p:spPr>
          <a:xfrm>
            <a:off x="2556000" y="4145040"/>
            <a:ext cx="3744720" cy="24969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6" descr="https://wikiway.com/upload/hl-photo/708/78d/kafedralnyy-sobor-svyatogo-pavla_112.jpg"/>
          <p:cNvPicPr/>
          <p:nvPr/>
        </p:nvPicPr>
        <p:blipFill>
          <a:blip r:embed="rId4"/>
          <a:stretch/>
        </p:blipFill>
        <p:spPr>
          <a:xfrm>
            <a:off x="250920" y="2060640"/>
            <a:ext cx="2098440" cy="316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23"/>
          <p:cNvSpPr/>
          <p:nvPr/>
        </p:nvSpPr>
        <p:spPr>
          <a:xfrm>
            <a:off x="684360" y="1989000"/>
            <a:ext cx="777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e3b30"/>
                </a:solidFill>
                <a:latin typeface="Arial"/>
              </a:rPr>
              <a:t>Thank you for attention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 Black"/>
              </a:rPr>
              <a:t>TOWNS AND CITIES</a:t>
            </a: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8" name="Прямоугольник 7"/>
          <p:cNvSpPr/>
          <p:nvPr/>
        </p:nvSpPr>
        <p:spPr>
          <a:xfrm>
            <a:off x="1187280" y="2198520"/>
            <a:ext cx="73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chester                      Cardi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pool                          Edinbur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asgow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Bel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 Black"/>
              </a:rPr>
              <a:t>TASK 2.</a:t>
            </a:r>
            <a:r>
              <a:rPr b="1" i="1" lang="en-US" sz="4400" spc="-1" strike="noStrike">
                <a:solidFill>
                  <a:srgbClr val="660066"/>
                </a:solidFill>
                <a:latin typeface="Arial Black"/>
              </a:rPr>
              <a:t>GUESS THE CITIES</a:t>
            </a: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0" spc="-1" strike="noStrike">
                <a:solidFill>
                  <a:srgbClr val="660066"/>
                </a:solidFill>
                <a:latin typeface="Franklin Gothic Book"/>
              </a:rPr>
              <a:t>?</a:t>
            </a:r>
            <a:r>
              <a:rPr b="0" lang="en-US" sz="30000" spc="-1" strike="noStrike">
                <a:solidFill>
                  <a:srgbClr val="660066"/>
                </a:solidFill>
                <a:latin typeface="Franklin Gothic Book"/>
              </a:rPr>
              <a:t> </a:t>
            </a:r>
            <a:r>
              <a:rPr b="0" lang="ru-RU" sz="30000" spc="-1" strike="noStrike">
                <a:solidFill>
                  <a:srgbClr val="660066"/>
                </a:solidFill>
                <a:latin typeface="Franklin Gothic Book"/>
              </a:rPr>
              <a:t>?</a:t>
            </a:r>
            <a:r>
              <a:rPr b="0" lang="en-US" sz="30000" spc="-1" strike="noStrike">
                <a:solidFill>
                  <a:srgbClr val="660066"/>
                </a:solidFill>
                <a:latin typeface="Franklin Gothic Book"/>
              </a:rPr>
              <a:t> </a:t>
            </a:r>
            <a:r>
              <a:rPr b="0" lang="ru-RU" sz="30000" spc="-1" strike="noStrike">
                <a:solidFill>
                  <a:srgbClr val="660066"/>
                </a:solidFill>
                <a:latin typeface="Franklin Gothic Book"/>
              </a:rPr>
              <a:t>?</a:t>
            </a:r>
            <a:endParaRPr b="0" lang="en-US" sz="30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Rectangle 6" descr=""/>
          <p:cNvPicPr/>
          <p:nvPr/>
        </p:nvPicPr>
        <p:blipFill>
          <a:blip r:embed="rId1"/>
          <a:stretch/>
        </p:blipFill>
        <p:spPr>
          <a:xfrm>
            <a:off x="298440" y="255600"/>
            <a:ext cx="8699400" cy="141444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395280" y="1599840"/>
            <a:ext cx="4248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It is the capital and largest city of England and the United Kingdom. It stands on the River Thames.</a:t>
            </a:r>
            <a:r>
              <a:rPr b="1" i="1" lang="en-US" sz="36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                              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3" name="Рисунок 4" descr="https://sportishka.com/uploads/posts/2022-04/1650651918_67-sportishka-com-p-londonskii-krasivo-foto-72.jpg"/>
          <p:cNvPicPr/>
          <p:nvPr/>
        </p:nvPicPr>
        <p:blipFill>
          <a:blip r:embed="rId2"/>
          <a:stretch/>
        </p:blipFill>
        <p:spPr>
          <a:xfrm>
            <a:off x="5003640" y="1773360"/>
            <a:ext cx="3529080" cy="3240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Rectangle 6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699760" cy="14079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0" y="1125360"/>
            <a:ext cx="529272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It is the capital of Scotland. The city has long been a centre of education, particularly in the fields of medicine,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literature, philosophy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and engineering. It is Scotland's second most populous city and the seventh most populous in the United Kingdom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6" name="Рисунок 4" descr="https://fb.ru/media/i/3/5/1/2/1/5/i/351215.jpg"/>
          <p:cNvPicPr/>
          <p:nvPr/>
        </p:nvPicPr>
        <p:blipFill>
          <a:blip r:embed="rId2"/>
          <a:stretch/>
        </p:blipFill>
        <p:spPr>
          <a:xfrm>
            <a:off x="5219640" y="2276640"/>
            <a:ext cx="3745080" cy="3024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1" descr=""/>
          <p:cNvPicPr/>
          <p:nvPr/>
        </p:nvPicPr>
        <p:blipFill>
          <a:blip r:embed="rId1"/>
          <a:stretch/>
        </p:blipFill>
        <p:spPr>
          <a:xfrm>
            <a:off x="291960" y="-6480"/>
            <a:ext cx="8699760" cy="154944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357120" y="1196640"/>
            <a:ext cx="428616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It is the capital of Wales and its largest city. It is the eleventh-largest city in the United Kingdom. It is a significant tourist centre and the most popular visitor destination in Wal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9" name="Рисунок 4" descr="https://traveltimes.ru/wp-content/uploads/2021/12/cardiffPierheadMODIF-shutterstock_551048935.jpg"/>
          <p:cNvPicPr/>
          <p:nvPr/>
        </p:nvPicPr>
        <p:blipFill>
          <a:blip r:embed="rId2"/>
          <a:stretch/>
        </p:blipFill>
        <p:spPr>
          <a:xfrm>
            <a:off x="4859280" y="1916280"/>
            <a:ext cx="3857760" cy="302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1"/>
          <a:stretch/>
        </p:blipFill>
        <p:spPr>
          <a:xfrm>
            <a:off x="244440" y="-6480"/>
            <a:ext cx="8680320" cy="154944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It is the capital and largest city of Northern Ireland. It is the 12th-largest city in the United Kingdom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2" name="Содержимое 5" descr="https://stella-clothes.ru/wp-content/uploads/b/0/0/b00f21fc7b9b08cc5be466b6dc93d601.jpeg"/>
          <p:cNvPicPr/>
          <p:nvPr/>
        </p:nvPicPr>
        <p:blipFill>
          <a:blip r:embed="rId2"/>
          <a:stretch/>
        </p:blipFill>
        <p:spPr>
          <a:xfrm>
            <a:off x="4500720" y="1844640"/>
            <a:ext cx="4228920" cy="31402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Заголовок 1" descr=""/>
          <p:cNvPicPr/>
          <p:nvPr/>
        </p:nvPicPr>
        <p:blipFill>
          <a:blip r:embed="rId1"/>
          <a:stretch/>
        </p:blipFill>
        <p:spPr>
          <a:xfrm>
            <a:off x="291960" y="182520"/>
            <a:ext cx="8699760" cy="145116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It is the third most visited city in the UK, after London and Edinburgh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It is well known as a city of sport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5" name="Рисунок 4" descr="https://wikiway.com/upload/hl-photo/acb/bb1/manchester_94.jpg"/>
          <p:cNvPicPr/>
          <p:nvPr/>
        </p:nvPicPr>
        <p:blipFill>
          <a:blip r:embed="rId2"/>
          <a:stretch/>
        </p:blipFill>
        <p:spPr>
          <a:xfrm>
            <a:off x="4716360" y="1773360"/>
            <a:ext cx="3768840" cy="3311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5:03:44Z</dcterms:created>
  <dc:creator>User</dc:creator>
  <dc:description/>
  <dc:language>en-US</dc:language>
  <cp:lastModifiedBy>User</cp:lastModifiedBy>
  <dcterms:modified xsi:type="dcterms:W3CDTF">2023-02-20T09:12:49Z</dcterms:modified>
  <cp:revision>125</cp:revision>
  <dc:subject/>
  <dc:title>Слайд 1</dc:title>
</cp:coreProperties>
</file>