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9F09-6C20-4183-B0AC-B7A326124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2BFF-DF9B-4A2B-8520-E74DFBA1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5223-FABA-46C9-98AF-4C429C416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0B84-BF13-453D-BE16-7FB5F93BA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D7A3-2192-4F05-B0FC-95F0FDA1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8D9A-13DF-4CB1-872E-79A6D853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4984-991F-4001-9042-20CA10EE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63CF-42EC-4D09-AF5F-39487D1F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EB86-5083-4BD1-8350-3B2ABC27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3A7C-5319-418E-AC52-639517E1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8FF4-CE3C-4967-AB08-8AC73F6A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28C5-CC23-4393-B2DE-BA336194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DE32-278B-4244-80A1-669BAF0BA3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8"/>
          <p:cNvSpPr/>
          <p:nvPr/>
        </p:nvSpPr>
        <p:spPr>
          <a:xfrm>
            <a:off x="609480" y="990720"/>
            <a:ext cx="655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00000"/>
                </a:solidFill>
                <a:latin typeface="Century Schoolbook"/>
              </a:rPr>
              <a:t>В царстве грибо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9" descr=""/>
          <p:cNvPicPr/>
          <p:nvPr/>
        </p:nvPicPr>
        <p:blipFill>
          <a:blip r:embed="rId1"/>
          <a:stretch/>
        </p:blipFill>
        <p:spPr>
          <a:xfrm>
            <a:off x="5562720" y="297180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857232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"/>
          <p:cNvPicPr/>
          <p:nvPr/>
        </p:nvPicPr>
        <p:blipFill>
          <a:blip r:embed="rId1"/>
          <a:stretch/>
        </p:blipFill>
        <p:spPr>
          <a:xfrm>
            <a:off x="533520" y="67140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"/>
          <p:cNvPicPr/>
          <p:nvPr/>
        </p:nvPicPr>
        <p:blipFill>
          <a:blip r:embed="rId1"/>
          <a:stretch/>
        </p:blipFill>
        <p:spPr>
          <a:xfrm>
            <a:off x="152280" y="460440"/>
            <a:ext cx="8771040" cy="57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3" descr=""/>
          <p:cNvPicPr/>
          <p:nvPr/>
        </p:nvPicPr>
        <p:blipFill>
          <a:blip r:embed="rId1"/>
          <a:stretch/>
        </p:blipFill>
        <p:spPr>
          <a:xfrm>
            <a:off x="930240" y="609480"/>
            <a:ext cx="729000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2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"/>
          <p:cNvPicPr/>
          <p:nvPr/>
        </p:nvPicPr>
        <p:blipFill>
          <a:blip r:embed="rId1"/>
          <a:stretch/>
        </p:blipFill>
        <p:spPr>
          <a:xfrm>
            <a:off x="457200" y="282600"/>
            <a:ext cx="83278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7626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066680" y="347760"/>
            <a:ext cx="7086600" cy="62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2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315200" cy="55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i (5)"/>
          <p:cNvPicPr/>
          <p:nvPr/>
        </p:nvPicPr>
        <p:blipFill>
          <a:blip r:embed="rId1"/>
          <a:stretch/>
        </p:blipFill>
        <p:spPr>
          <a:xfrm>
            <a:off x="380880" y="457200"/>
            <a:ext cx="3479760" cy="2610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17896_2"/>
          <p:cNvPicPr/>
          <p:nvPr/>
        </p:nvPicPr>
        <p:blipFill>
          <a:blip r:embed="rId2"/>
          <a:stretch/>
        </p:blipFill>
        <p:spPr>
          <a:xfrm>
            <a:off x="2666880" y="2362320"/>
            <a:ext cx="3733920" cy="2485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1_8"/>
          <p:cNvPicPr/>
          <p:nvPr/>
        </p:nvPicPr>
        <p:blipFill>
          <a:blip r:embed="rId3"/>
          <a:srcRect l="12196" t="8662" r="9760" b="5897"/>
          <a:stretch/>
        </p:blipFill>
        <p:spPr>
          <a:xfrm>
            <a:off x="5943600" y="4495680"/>
            <a:ext cx="320040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4"/>
          <p:cNvSpPr/>
          <p:nvPr/>
        </p:nvSpPr>
        <p:spPr>
          <a:xfrm>
            <a:off x="2603520" y="2281320"/>
            <a:ext cx="4389480" cy="12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entury Schoolbook"/>
              </a:rPr>
              <a:t>ГРИ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04920" y="609480"/>
            <a:ext cx="4321080" cy="1055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Строение и размн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10"/>
          <p:cNvSpPr/>
          <p:nvPr/>
        </p:nvSpPr>
        <p:spPr>
          <a:xfrm>
            <a:off x="5486400" y="665280"/>
            <a:ext cx="2971800" cy="880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11"/>
          <p:cNvSpPr/>
          <p:nvPr/>
        </p:nvSpPr>
        <p:spPr>
          <a:xfrm>
            <a:off x="546120" y="3772080"/>
            <a:ext cx="2700360" cy="799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Взаимосвя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14"/>
          <p:cNvSpPr/>
          <p:nvPr/>
        </p:nvSpPr>
        <p:spPr>
          <a:xfrm>
            <a:off x="6094440" y="3733920"/>
            <a:ext cx="2887560" cy="838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Роль в при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5"/>
          <p:cNvSpPr/>
          <p:nvPr/>
        </p:nvSpPr>
        <p:spPr>
          <a:xfrm>
            <a:off x="2698920" y="5105520"/>
            <a:ext cx="3817800" cy="838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Разнообразие</a:t>
            </a:r>
            <a:r>
              <a:rPr b="1" lang="ru-RU" sz="2400" spc="-1" strike="noStrike">
                <a:solidFill>
                  <a:srgbClr val="9900cc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гриб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0"/>
          <p:cNvSpPr/>
          <p:nvPr/>
        </p:nvSpPr>
        <p:spPr>
          <a:xfrm>
            <a:off x="2514600" y="2362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39"/>
          <p:cNvSpPr/>
          <p:nvPr/>
        </p:nvSpPr>
        <p:spPr>
          <a:xfrm>
            <a:off x="5486400" y="533520"/>
            <a:ext cx="609480" cy="7596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Прямая со стрелкой 3"/>
          <p:cNvCxnSpPr/>
          <p:nvPr/>
        </p:nvCxnSpPr>
        <p:spPr>
          <a:xfrm flipH="1" flipV="1">
            <a:off x="3504600" y="1752120"/>
            <a:ext cx="229320" cy="5292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52" name="Прямая со стрелкой 5"/>
          <p:cNvCxnSpPr/>
          <p:nvPr/>
        </p:nvCxnSpPr>
        <p:spPr>
          <a:xfrm flipH="1" flipV="1">
            <a:off x="2971080" y="1775520"/>
            <a:ext cx="726120" cy="5058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3" name="Прямая со стрелкой 29"/>
          <p:cNvCxnSpPr/>
          <p:nvPr/>
        </p:nvCxnSpPr>
        <p:spPr>
          <a:xfrm>
            <a:off x="6972120" y="3200400"/>
            <a:ext cx="379800" cy="5342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4" name="Прямая со стрелкой 30"/>
          <p:cNvCxnSpPr/>
          <p:nvPr/>
        </p:nvCxnSpPr>
        <p:spPr>
          <a:xfrm flipH="1">
            <a:off x="1794960" y="3238560"/>
            <a:ext cx="867600" cy="496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5" name="Прямая со стрелкой 31"/>
          <p:cNvCxnSpPr/>
          <p:nvPr/>
        </p:nvCxnSpPr>
        <p:spPr>
          <a:xfrm>
            <a:off x="4686120" y="3733920"/>
            <a:ext cx="1080" cy="10929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6" name="Прямая со стрелкой 38"/>
          <p:cNvCxnSpPr/>
          <p:nvPr/>
        </p:nvCxnSpPr>
        <p:spPr>
          <a:xfrm flipV="1">
            <a:off x="6095880" y="1752120"/>
            <a:ext cx="610560" cy="5644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6" descr="post-48268-1223288072.jpg"/>
          <p:cNvPicPr/>
          <p:nvPr/>
        </p:nvPicPr>
        <p:blipFill>
          <a:blip r:embed="rId1"/>
          <a:stretch/>
        </p:blipFill>
        <p:spPr>
          <a:xfrm>
            <a:off x="914400" y="838080"/>
            <a:ext cx="7176960" cy="53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Oval 4"/>
          <p:cNvSpPr/>
          <p:nvPr/>
        </p:nvSpPr>
        <p:spPr>
          <a:xfrm>
            <a:off x="2603520" y="2281320"/>
            <a:ext cx="4389480" cy="12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entury Schoolbook"/>
              </a:rPr>
              <a:t>ГРИ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284040" y="303120"/>
            <a:ext cx="4321440" cy="1057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Строение и размн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0"/>
          <p:cNvSpPr/>
          <p:nvPr/>
        </p:nvSpPr>
        <p:spPr>
          <a:xfrm>
            <a:off x="5486400" y="392040"/>
            <a:ext cx="2971800" cy="879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1"/>
          <p:cNvSpPr/>
          <p:nvPr/>
        </p:nvSpPr>
        <p:spPr>
          <a:xfrm>
            <a:off x="546120" y="3772080"/>
            <a:ext cx="2700360" cy="799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Взаимосвя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4"/>
          <p:cNvSpPr/>
          <p:nvPr/>
        </p:nvSpPr>
        <p:spPr>
          <a:xfrm>
            <a:off x="6094440" y="3733920"/>
            <a:ext cx="2887560" cy="838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Роль в при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5"/>
          <p:cNvSpPr/>
          <p:nvPr/>
        </p:nvSpPr>
        <p:spPr>
          <a:xfrm>
            <a:off x="2351160" y="4818240"/>
            <a:ext cx="3537000" cy="838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Разнообразие</a:t>
            </a:r>
            <a:r>
              <a:rPr b="1" lang="ru-RU" sz="2400" spc="-1" strike="noStrike">
                <a:solidFill>
                  <a:srgbClr val="9900cc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гриб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0"/>
          <p:cNvSpPr/>
          <p:nvPr/>
        </p:nvSpPr>
        <p:spPr>
          <a:xfrm>
            <a:off x="2514600" y="2362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Прямая со стрелкой 3"/>
          <p:cNvCxnSpPr/>
          <p:nvPr/>
        </p:nvCxnSpPr>
        <p:spPr>
          <a:xfrm flipH="1" flipV="1">
            <a:off x="3504600" y="1752120"/>
            <a:ext cx="229320" cy="5292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10" name="Прямая со стрелкой 5"/>
          <p:cNvCxnSpPr/>
          <p:nvPr/>
        </p:nvCxnSpPr>
        <p:spPr>
          <a:xfrm flipH="1" flipV="1">
            <a:off x="2971080" y="1775520"/>
            <a:ext cx="726120" cy="5058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1" name="Прямая со стрелкой 29"/>
          <p:cNvCxnSpPr/>
          <p:nvPr/>
        </p:nvCxnSpPr>
        <p:spPr>
          <a:xfrm>
            <a:off x="6972120" y="3200400"/>
            <a:ext cx="379800" cy="5342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2" name="Прямая со стрелкой 30"/>
          <p:cNvCxnSpPr/>
          <p:nvPr/>
        </p:nvCxnSpPr>
        <p:spPr>
          <a:xfrm flipH="1">
            <a:off x="1794960" y="3238560"/>
            <a:ext cx="867600" cy="496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3" name="Прямая со стрелкой 31"/>
          <p:cNvCxnSpPr/>
          <p:nvPr/>
        </p:nvCxnSpPr>
        <p:spPr>
          <a:xfrm>
            <a:off x="4686120" y="3733920"/>
            <a:ext cx="1080" cy="10850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4" name="Прямая со стрелкой 38"/>
          <p:cNvCxnSpPr/>
          <p:nvPr/>
        </p:nvCxnSpPr>
        <p:spPr>
          <a:xfrm flipV="1">
            <a:off x="6095880" y="1752120"/>
            <a:ext cx="610560" cy="5644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15" name="Oval 15"/>
          <p:cNvSpPr/>
          <p:nvPr/>
        </p:nvSpPr>
        <p:spPr>
          <a:xfrm>
            <a:off x="284040" y="1216080"/>
            <a:ext cx="2160720" cy="132876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гриб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лодовое т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п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6"/>
          <p:cNvSpPr/>
          <p:nvPr/>
        </p:nvSpPr>
        <p:spPr>
          <a:xfrm>
            <a:off x="6705720" y="1027080"/>
            <a:ext cx="2286000" cy="152388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глощ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итате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з поч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9"/>
          <p:cNvSpPr/>
          <p:nvPr/>
        </p:nvSpPr>
        <p:spPr>
          <a:xfrm>
            <a:off x="6083280" y="4513320"/>
            <a:ext cx="2895480" cy="129528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ужны деревья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животны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челове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7"/>
          <p:cNvSpPr/>
          <p:nvPr/>
        </p:nvSpPr>
        <p:spPr>
          <a:xfrm>
            <a:off x="387360" y="4513320"/>
            <a:ext cx="2057400" cy="60948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 деревь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23"/>
          <p:cNvSpPr/>
          <p:nvPr/>
        </p:nvSpPr>
        <p:spPr>
          <a:xfrm>
            <a:off x="1301760" y="5715000"/>
            <a:ext cx="2057400" cy="91440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ъедоб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съедоб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3"/>
          <p:cNvSpPr/>
          <p:nvPr/>
        </p:nvSpPr>
        <p:spPr>
          <a:xfrm>
            <a:off x="3657600" y="5562720"/>
            <a:ext cx="2057400" cy="129528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шляпо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лесне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рожже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араз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2"/>
          <p:cNvSpPr/>
          <p:nvPr/>
        </p:nvSpPr>
        <p:spPr>
          <a:xfrm>
            <a:off x="3276720" y="2133720"/>
            <a:ext cx="75960" cy="759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3"/>
          <p:cNvSpPr/>
          <p:nvPr/>
        </p:nvSpPr>
        <p:spPr>
          <a:xfrm>
            <a:off x="3505320" y="1981080"/>
            <a:ext cx="75960" cy="763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4"/>
          <p:cNvSpPr/>
          <p:nvPr/>
        </p:nvSpPr>
        <p:spPr>
          <a:xfrm>
            <a:off x="3809880" y="2133720"/>
            <a:ext cx="76320" cy="759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5"/>
          <p:cNvSpPr/>
          <p:nvPr/>
        </p:nvSpPr>
        <p:spPr>
          <a:xfrm>
            <a:off x="5257800" y="2286000"/>
            <a:ext cx="76320" cy="763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6"/>
          <p:cNvSpPr/>
          <p:nvPr/>
        </p:nvSpPr>
        <p:spPr>
          <a:xfrm>
            <a:off x="6019920" y="2057400"/>
            <a:ext cx="75960" cy="763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7"/>
          <p:cNvSpPr/>
          <p:nvPr/>
        </p:nvSpPr>
        <p:spPr>
          <a:xfrm>
            <a:off x="5791320" y="2286000"/>
            <a:ext cx="75960" cy="763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8"/>
          <p:cNvSpPr/>
          <p:nvPr/>
        </p:nvSpPr>
        <p:spPr>
          <a:xfrm>
            <a:off x="5410080" y="2057400"/>
            <a:ext cx="76320" cy="763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"/>
          <p:cNvPicPr/>
          <p:nvPr/>
        </p:nvPicPr>
        <p:blipFill>
          <a:blip r:embed="rId1"/>
          <a:stretch/>
        </p:blipFill>
        <p:spPr>
          <a:xfrm>
            <a:off x="27000" y="3733920"/>
            <a:ext cx="9117000" cy="3124080"/>
          </a:xfrm>
          <a:prstGeom prst="rect">
            <a:avLst/>
          </a:prstGeom>
          <a:ln w="0">
            <a:noFill/>
          </a:ln>
        </p:spPr>
      </p:pic>
      <p:sp>
        <p:nvSpPr>
          <p:cNvPr id="65" name="Freeform 10"/>
          <p:cNvSpPr/>
          <p:nvPr/>
        </p:nvSpPr>
        <p:spPr>
          <a:xfrm>
            <a:off x="63360" y="4102200"/>
            <a:ext cx="4203720" cy="2070000"/>
          </a:xfrm>
          <a:custGeom>
            <a:avLst/>
            <a:gdLst/>
            <a:ahLst/>
            <a:rect l="l" t="t" r="r" b="b"/>
            <a:pathLst>
              <a:path w="2632" h="1312">
                <a:moveTo>
                  <a:pt x="2504" y="440"/>
                </a:moveTo>
                <a:cubicBezTo>
                  <a:pt x="2416" y="480"/>
                  <a:pt x="2184" y="600"/>
                  <a:pt x="2024" y="632"/>
                </a:cubicBezTo>
                <a:cubicBezTo>
                  <a:pt x="1864" y="664"/>
                  <a:pt x="1616" y="672"/>
                  <a:pt x="1544" y="632"/>
                </a:cubicBezTo>
                <a:cubicBezTo>
                  <a:pt x="1472" y="592"/>
                  <a:pt x="1608" y="440"/>
                  <a:pt x="1592" y="392"/>
                </a:cubicBezTo>
                <a:cubicBezTo>
                  <a:pt x="1576" y="344"/>
                  <a:pt x="1496" y="328"/>
                  <a:pt x="1448" y="344"/>
                </a:cubicBezTo>
                <a:cubicBezTo>
                  <a:pt x="1400" y="360"/>
                  <a:pt x="1304" y="440"/>
                  <a:pt x="1304" y="488"/>
                </a:cubicBezTo>
                <a:cubicBezTo>
                  <a:pt x="1304" y="536"/>
                  <a:pt x="1456" y="608"/>
                  <a:pt x="1448" y="632"/>
                </a:cubicBezTo>
                <a:cubicBezTo>
                  <a:pt x="1440" y="656"/>
                  <a:pt x="1352" y="680"/>
                  <a:pt x="1256" y="632"/>
                </a:cubicBezTo>
                <a:cubicBezTo>
                  <a:pt x="1160" y="584"/>
                  <a:pt x="920" y="424"/>
                  <a:pt x="872" y="344"/>
                </a:cubicBezTo>
                <a:cubicBezTo>
                  <a:pt x="824" y="264"/>
                  <a:pt x="960" y="208"/>
                  <a:pt x="968" y="152"/>
                </a:cubicBezTo>
                <a:cubicBezTo>
                  <a:pt x="976" y="96"/>
                  <a:pt x="968" y="16"/>
                  <a:pt x="920" y="8"/>
                </a:cubicBezTo>
                <a:cubicBezTo>
                  <a:pt x="872" y="0"/>
                  <a:pt x="704" y="48"/>
                  <a:pt x="680" y="104"/>
                </a:cubicBezTo>
                <a:cubicBezTo>
                  <a:pt x="656" y="160"/>
                  <a:pt x="872" y="320"/>
                  <a:pt x="776" y="344"/>
                </a:cubicBezTo>
                <a:cubicBezTo>
                  <a:pt x="680" y="368"/>
                  <a:pt x="200" y="256"/>
                  <a:pt x="104" y="248"/>
                </a:cubicBezTo>
                <a:cubicBezTo>
                  <a:pt x="8" y="240"/>
                  <a:pt x="112" y="272"/>
                  <a:pt x="200" y="296"/>
                </a:cubicBezTo>
                <a:cubicBezTo>
                  <a:pt x="288" y="320"/>
                  <a:pt x="504" y="360"/>
                  <a:pt x="632" y="392"/>
                </a:cubicBezTo>
                <a:cubicBezTo>
                  <a:pt x="760" y="424"/>
                  <a:pt x="944" y="448"/>
                  <a:pt x="968" y="488"/>
                </a:cubicBezTo>
                <a:cubicBezTo>
                  <a:pt x="992" y="528"/>
                  <a:pt x="848" y="592"/>
                  <a:pt x="776" y="632"/>
                </a:cubicBezTo>
                <a:cubicBezTo>
                  <a:pt x="704" y="672"/>
                  <a:pt x="600" y="680"/>
                  <a:pt x="536" y="728"/>
                </a:cubicBezTo>
                <a:cubicBezTo>
                  <a:pt x="472" y="776"/>
                  <a:pt x="448" y="872"/>
                  <a:pt x="392" y="920"/>
                </a:cubicBezTo>
                <a:cubicBezTo>
                  <a:pt x="336" y="968"/>
                  <a:pt x="264" y="968"/>
                  <a:pt x="200" y="1016"/>
                </a:cubicBezTo>
                <a:cubicBezTo>
                  <a:pt x="136" y="1064"/>
                  <a:pt x="16" y="1200"/>
                  <a:pt x="8" y="1208"/>
                </a:cubicBezTo>
                <a:cubicBezTo>
                  <a:pt x="0" y="1216"/>
                  <a:pt x="88" y="1104"/>
                  <a:pt x="152" y="1064"/>
                </a:cubicBezTo>
                <a:cubicBezTo>
                  <a:pt x="216" y="1024"/>
                  <a:pt x="328" y="1008"/>
                  <a:pt x="392" y="968"/>
                </a:cubicBezTo>
                <a:cubicBezTo>
                  <a:pt x="456" y="928"/>
                  <a:pt x="488" y="856"/>
                  <a:pt x="536" y="824"/>
                </a:cubicBezTo>
                <a:cubicBezTo>
                  <a:pt x="584" y="792"/>
                  <a:pt x="680" y="736"/>
                  <a:pt x="680" y="776"/>
                </a:cubicBezTo>
                <a:cubicBezTo>
                  <a:pt x="680" y="816"/>
                  <a:pt x="560" y="976"/>
                  <a:pt x="536" y="1064"/>
                </a:cubicBezTo>
                <a:cubicBezTo>
                  <a:pt x="512" y="1152"/>
                  <a:pt x="528" y="1312"/>
                  <a:pt x="536" y="1304"/>
                </a:cubicBezTo>
                <a:cubicBezTo>
                  <a:pt x="544" y="1296"/>
                  <a:pt x="560" y="1080"/>
                  <a:pt x="584" y="1016"/>
                </a:cubicBezTo>
                <a:cubicBezTo>
                  <a:pt x="608" y="952"/>
                  <a:pt x="640" y="976"/>
                  <a:pt x="680" y="920"/>
                </a:cubicBezTo>
                <a:cubicBezTo>
                  <a:pt x="720" y="864"/>
                  <a:pt x="768" y="720"/>
                  <a:pt x="824" y="680"/>
                </a:cubicBezTo>
                <a:cubicBezTo>
                  <a:pt x="880" y="640"/>
                  <a:pt x="968" y="648"/>
                  <a:pt x="1016" y="680"/>
                </a:cubicBezTo>
                <a:cubicBezTo>
                  <a:pt x="1064" y="712"/>
                  <a:pt x="1096" y="824"/>
                  <a:pt x="1112" y="872"/>
                </a:cubicBezTo>
                <a:cubicBezTo>
                  <a:pt x="1128" y="920"/>
                  <a:pt x="1104" y="968"/>
                  <a:pt x="1112" y="968"/>
                </a:cubicBezTo>
                <a:cubicBezTo>
                  <a:pt x="1120" y="968"/>
                  <a:pt x="1168" y="928"/>
                  <a:pt x="1160" y="872"/>
                </a:cubicBezTo>
                <a:cubicBezTo>
                  <a:pt x="1152" y="816"/>
                  <a:pt x="1032" y="656"/>
                  <a:pt x="1064" y="632"/>
                </a:cubicBezTo>
                <a:cubicBezTo>
                  <a:pt x="1096" y="608"/>
                  <a:pt x="1160" y="720"/>
                  <a:pt x="1352" y="728"/>
                </a:cubicBezTo>
                <a:cubicBezTo>
                  <a:pt x="1544" y="736"/>
                  <a:pt x="2168" y="640"/>
                  <a:pt x="2216" y="680"/>
                </a:cubicBezTo>
                <a:cubicBezTo>
                  <a:pt x="2264" y="720"/>
                  <a:pt x="1728" y="944"/>
                  <a:pt x="1640" y="968"/>
                </a:cubicBezTo>
                <a:cubicBezTo>
                  <a:pt x="1552" y="992"/>
                  <a:pt x="1720" y="848"/>
                  <a:pt x="1688" y="824"/>
                </a:cubicBezTo>
                <a:cubicBezTo>
                  <a:pt x="1656" y="800"/>
                  <a:pt x="1472" y="792"/>
                  <a:pt x="1448" y="824"/>
                </a:cubicBezTo>
                <a:cubicBezTo>
                  <a:pt x="1424" y="856"/>
                  <a:pt x="1624" y="960"/>
                  <a:pt x="1544" y="1016"/>
                </a:cubicBezTo>
                <a:cubicBezTo>
                  <a:pt x="1464" y="1072"/>
                  <a:pt x="992" y="1144"/>
                  <a:pt x="968" y="1160"/>
                </a:cubicBezTo>
                <a:cubicBezTo>
                  <a:pt x="944" y="1176"/>
                  <a:pt x="1168" y="1184"/>
                  <a:pt x="1400" y="1112"/>
                </a:cubicBezTo>
                <a:cubicBezTo>
                  <a:pt x="1632" y="1040"/>
                  <a:pt x="2160" y="840"/>
                  <a:pt x="2360" y="728"/>
                </a:cubicBezTo>
                <a:cubicBezTo>
                  <a:pt x="2560" y="616"/>
                  <a:pt x="2568" y="496"/>
                  <a:pt x="2600" y="440"/>
                </a:cubicBezTo>
                <a:cubicBezTo>
                  <a:pt x="2632" y="384"/>
                  <a:pt x="2568" y="392"/>
                  <a:pt x="2552" y="392"/>
                </a:cubicBezTo>
                <a:cubicBezTo>
                  <a:pt x="2536" y="392"/>
                  <a:pt x="2592" y="400"/>
                  <a:pt x="2504" y="440"/>
                </a:cubicBezTo>
                <a:close/>
              </a:path>
            </a:pathLst>
          </a:cu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1"/>
          <p:cNvSpPr/>
          <p:nvPr/>
        </p:nvSpPr>
        <p:spPr>
          <a:xfrm>
            <a:off x="3886200" y="2209680"/>
            <a:ext cx="1523880" cy="2793960"/>
          </a:xfrm>
          <a:custGeom>
            <a:avLst/>
            <a:gdLst/>
            <a:ahLst/>
            <a:rect l="l" t="t" r="r" b="b"/>
            <a:pathLst>
              <a:path w="1088" h="2144">
                <a:moveTo>
                  <a:pt x="408" y="40"/>
                </a:moveTo>
                <a:cubicBezTo>
                  <a:pt x="608" y="32"/>
                  <a:pt x="808" y="24"/>
                  <a:pt x="888" y="40"/>
                </a:cubicBezTo>
                <a:cubicBezTo>
                  <a:pt x="968" y="56"/>
                  <a:pt x="888" y="56"/>
                  <a:pt x="888" y="136"/>
                </a:cubicBezTo>
                <a:cubicBezTo>
                  <a:pt x="888" y="216"/>
                  <a:pt x="872" y="360"/>
                  <a:pt x="888" y="520"/>
                </a:cubicBezTo>
                <a:cubicBezTo>
                  <a:pt x="904" y="680"/>
                  <a:pt x="952" y="912"/>
                  <a:pt x="984" y="1096"/>
                </a:cubicBezTo>
                <a:cubicBezTo>
                  <a:pt x="1016" y="1280"/>
                  <a:pt x="1088" y="1464"/>
                  <a:pt x="1080" y="1624"/>
                </a:cubicBezTo>
                <a:cubicBezTo>
                  <a:pt x="1072" y="1784"/>
                  <a:pt x="1064" y="1976"/>
                  <a:pt x="936" y="2056"/>
                </a:cubicBezTo>
                <a:cubicBezTo>
                  <a:pt x="808" y="2136"/>
                  <a:pt x="464" y="2144"/>
                  <a:pt x="312" y="2104"/>
                </a:cubicBezTo>
                <a:cubicBezTo>
                  <a:pt x="160" y="2064"/>
                  <a:pt x="48" y="1968"/>
                  <a:pt x="24" y="1816"/>
                </a:cubicBezTo>
                <a:cubicBezTo>
                  <a:pt x="0" y="1664"/>
                  <a:pt x="112" y="1448"/>
                  <a:pt x="168" y="1192"/>
                </a:cubicBezTo>
                <a:cubicBezTo>
                  <a:pt x="224" y="936"/>
                  <a:pt x="328" y="472"/>
                  <a:pt x="360" y="280"/>
                </a:cubicBezTo>
                <a:cubicBezTo>
                  <a:pt x="392" y="88"/>
                  <a:pt x="344" y="80"/>
                  <a:pt x="360" y="40"/>
                </a:cubicBezTo>
                <a:cubicBezTo>
                  <a:pt x="376" y="0"/>
                  <a:pt x="424" y="40"/>
                  <a:pt x="456" y="40"/>
                </a:cubicBezTo>
                <a:cubicBezTo>
                  <a:pt x="488" y="40"/>
                  <a:pt x="520" y="40"/>
                  <a:pt x="552" y="40"/>
                </a:cubicBezTo>
                <a:cubicBezTo>
                  <a:pt x="584" y="40"/>
                  <a:pt x="616" y="40"/>
                  <a:pt x="648" y="40"/>
                </a:cubicBezTo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dcdcdc"/>
              </a:gs>
              <a:gs pos="100000">
                <a:srgbClr val="969696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12"/>
          <p:cNvSpPr/>
          <p:nvPr/>
        </p:nvSpPr>
        <p:spPr>
          <a:xfrm>
            <a:off x="2971800" y="990720"/>
            <a:ext cx="3657600" cy="1485720"/>
          </a:xfrm>
          <a:custGeom>
            <a:avLst/>
            <a:gdLst/>
            <a:ahLst/>
            <a:rect l="l" t="t" r="r" b="b"/>
            <a:pathLst>
              <a:path w="2096" h="840">
                <a:moveTo>
                  <a:pt x="312" y="776"/>
                </a:moveTo>
                <a:cubicBezTo>
                  <a:pt x="956" y="808"/>
                  <a:pt x="1600" y="840"/>
                  <a:pt x="1848" y="776"/>
                </a:cubicBezTo>
                <a:cubicBezTo>
                  <a:pt x="2096" y="712"/>
                  <a:pt x="1888" y="512"/>
                  <a:pt x="1800" y="392"/>
                </a:cubicBezTo>
                <a:cubicBezTo>
                  <a:pt x="1712" y="272"/>
                  <a:pt x="1496" y="112"/>
                  <a:pt x="1320" y="56"/>
                </a:cubicBezTo>
                <a:cubicBezTo>
                  <a:pt x="1144" y="0"/>
                  <a:pt x="920" y="8"/>
                  <a:pt x="744" y="56"/>
                </a:cubicBezTo>
                <a:cubicBezTo>
                  <a:pt x="568" y="104"/>
                  <a:pt x="384" y="232"/>
                  <a:pt x="264" y="344"/>
                </a:cubicBezTo>
                <a:cubicBezTo>
                  <a:pt x="144" y="456"/>
                  <a:pt x="0" y="656"/>
                  <a:pt x="24" y="728"/>
                </a:cubicBezTo>
                <a:cubicBezTo>
                  <a:pt x="48" y="800"/>
                  <a:pt x="344" y="768"/>
                  <a:pt x="408" y="776"/>
                </a:cubicBezTo>
              </a:path>
            </a:pathLst>
          </a:custGeom>
          <a:gradFill rotWithShape="0">
            <a:gsLst>
              <a:gs pos="0">
                <a:srgbClr val="2f18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3"/>
          <p:cNvSpPr/>
          <p:nvPr/>
        </p:nvSpPr>
        <p:spPr>
          <a:xfrm>
            <a:off x="4191120" y="2895480"/>
            <a:ext cx="1066680" cy="368280"/>
          </a:xfrm>
          <a:custGeom>
            <a:avLst/>
            <a:gdLst/>
            <a:ahLst/>
            <a:rect l="l" t="t" r="r" b="b"/>
            <a:pathLst>
              <a:path w="784" h="232">
                <a:moveTo>
                  <a:pt x="104" y="32"/>
                </a:moveTo>
                <a:cubicBezTo>
                  <a:pt x="208" y="0"/>
                  <a:pt x="576" y="16"/>
                  <a:pt x="680" y="32"/>
                </a:cubicBezTo>
                <a:cubicBezTo>
                  <a:pt x="784" y="48"/>
                  <a:pt x="720" y="96"/>
                  <a:pt x="728" y="128"/>
                </a:cubicBezTo>
                <a:cubicBezTo>
                  <a:pt x="736" y="160"/>
                  <a:pt x="744" y="224"/>
                  <a:pt x="728" y="224"/>
                </a:cubicBezTo>
                <a:cubicBezTo>
                  <a:pt x="712" y="224"/>
                  <a:pt x="656" y="136"/>
                  <a:pt x="632" y="128"/>
                </a:cubicBezTo>
                <a:cubicBezTo>
                  <a:pt x="608" y="120"/>
                  <a:pt x="608" y="176"/>
                  <a:pt x="584" y="176"/>
                </a:cubicBezTo>
                <a:cubicBezTo>
                  <a:pt x="560" y="176"/>
                  <a:pt x="512" y="120"/>
                  <a:pt x="488" y="128"/>
                </a:cubicBezTo>
                <a:cubicBezTo>
                  <a:pt x="464" y="136"/>
                  <a:pt x="464" y="232"/>
                  <a:pt x="440" y="224"/>
                </a:cubicBezTo>
                <a:cubicBezTo>
                  <a:pt x="416" y="216"/>
                  <a:pt x="384" y="88"/>
                  <a:pt x="344" y="80"/>
                </a:cubicBezTo>
                <a:cubicBezTo>
                  <a:pt x="304" y="72"/>
                  <a:pt x="224" y="176"/>
                  <a:pt x="200" y="176"/>
                </a:cubicBezTo>
                <a:cubicBezTo>
                  <a:pt x="176" y="176"/>
                  <a:pt x="224" y="72"/>
                  <a:pt x="200" y="80"/>
                </a:cubicBezTo>
                <a:cubicBezTo>
                  <a:pt x="176" y="88"/>
                  <a:pt x="72" y="232"/>
                  <a:pt x="56" y="224"/>
                </a:cubicBezTo>
                <a:cubicBezTo>
                  <a:pt x="40" y="216"/>
                  <a:pt x="0" y="64"/>
                  <a:pt x="104" y="32"/>
                </a:cubicBez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14"/>
          <p:cNvSpPr/>
          <p:nvPr/>
        </p:nvSpPr>
        <p:spPr>
          <a:xfrm>
            <a:off x="5029200" y="4952880"/>
            <a:ext cx="2895480" cy="1143000"/>
          </a:xfrm>
          <a:custGeom>
            <a:avLst/>
            <a:gdLst/>
            <a:ahLst/>
            <a:rect l="l" t="t" r="r" b="b"/>
            <a:pathLst>
              <a:path w="1727" h="912">
                <a:moveTo>
                  <a:pt x="0" y="0"/>
                </a:moveTo>
                <a:cubicBezTo>
                  <a:pt x="32" y="22"/>
                  <a:pt x="44" y="60"/>
                  <a:pt x="56" y="97"/>
                </a:cubicBezTo>
                <a:cubicBezTo>
                  <a:pt x="59" y="106"/>
                  <a:pt x="75" y="102"/>
                  <a:pt x="84" y="104"/>
                </a:cubicBezTo>
                <a:cubicBezTo>
                  <a:pt x="108" y="121"/>
                  <a:pt x="107" y="136"/>
                  <a:pt x="132" y="152"/>
                </a:cubicBezTo>
                <a:cubicBezTo>
                  <a:pt x="156" y="188"/>
                  <a:pt x="170" y="227"/>
                  <a:pt x="195" y="263"/>
                </a:cubicBezTo>
                <a:cubicBezTo>
                  <a:pt x="217" y="330"/>
                  <a:pt x="193" y="421"/>
                  <a:pt x="264" y="465"/>
                </a:cubicBezTo>
                <a:cubicBezTo>
                  <a:pt x="270" y="469"/>
                  <a:pt x="322" y="477"/>
                  <a:pt x="326" y="478"/>
                </a:cubicBezTo>
                <a:cubicBezTo>
                  <a:pt x="347" y="481"/>
                  <a:pt x="368" y="483"/>
                  <a:pt x="389" y="485"/>
                </a:cubicBezTo>
                <a:cubicBezTo>
                  <a:pt x="409" y="505"/>
                  <a:pt x="424" y="518"/>
                  <a:pt x="451" y="527"/>
                </a:cubicBezTo>
                <a:cubicBezTo>
                  <a:pt x="481" y="549"/>
                  <a:pt x="506" y="567"/>
                  <a:pt x="542" y="576"/>
                </a:cubicBezTo>
                <a:cubicBezTo>
                  <a:pt x="557" y="632"/>
                  <a:pt x="537" y="579"/>
                  <a:pt x="569" y="617"/>
                </a:cubicBezTo>
                <a:cubicBezTo>
                  <a:pt x="580" y="630"/>
                  <a:pt x="581" y="654"/>
                  <a:pt x="597" y="659"/>
                </a:cubicBezTo>
                <a:cubicBezTo>
                  <a:pt x="669" y="683"/>
                  <a:pt x="563" y="645"/>
                  <a:pt x="639" y="680"/>
                </a:cubicBezTo>
                <a:cubicBezTo>
                  <a:pt x="678" y="698"/>
                  <a:pt x="692" y="695"/>
                  <a:pt x="736" y="701"/>
                </a:cubicBezTo>
                <a:cubicBezTo>
                  <a:pt x="776" y="714"/>
                  <a:pt x="819" y="713"/>
                  <a:pt x="861" y="721"/>
                </a:cubicBezTo>
                <a:cubicBezTo>
                  <a:pt x="923" y="752"/>
                  <a:pt x="1014" y="774"/>
                  <a:pt x="1083" y="784"/>
                </a:cubicBezTo>
                <a:cubicBezTo>
                  <a:pt x="1155" y="832"/>
                  <a:pt x="1165" y="814"/>
                  <a:pt x="1284" y="819"/>
                </a:cubicBezTo>
                <a:cubicBezTo>
                  <a:pt x="1331" y="833"/>
                  <a:pt x="1277" y="813"/>
                  <a:pt x="1326" y="846"/>
                </a:cubicBezTo>
                <a:cubicBezTo>
                  <a:pt x="1373" y="877"/>
                  <a:pt x="1488" y="878"/>
                  <a:pt x="1534" y="881"/>
                </a:cubicBezTo>
                <a:cubicBezTo>
                  <a:pt x="1579" y="896"/>
                  <a:pt x="1627" y="894"/>
                  <a:pt x="1673" y="909"/>
                </a:cubicBezTo>
                <a:cubicBezTo>
                  <a:pt x="1689" y="907"/>
                  <a:pt x="1709" y="912"/>
                  <a:pt x="1721" y="902"/>
                </a:cubicBezTo>
                <a:cubicBezTo>
                  <a:pt x="1727" y="897"/>
                  <a:pt x="1714" y="886"/>
                  <a:pt x="1707" y="881"/>
                </a:cubicBezTo>
                <a:cubicBezTo>
                  <a:pt x="1680" y="864"/>
                  <a:pt x="1634" y="858"/>
                  <a:pt x="1603" y="853"/>
                </a:cubicBezTo>
                <a:cubicBezTo>
                  <a:pt x="1551" y="835"/>
                  <a:pt x="1492" y="868"/>
                  <a:pt x="1458" y="819"/>
                </a:cubicBezTo>
                <a:cubicBezTo>
                  <a:pt x="1456" y="812"/>
                  <a:pt x="1448" y="805"/>
                  <a:pt x="1451" y="798"/>
                </a:cubicBezTo>
                <a:cubicBezTo>
                  <a:pt x="1460" y="776"/>
                  <a:pt x="1571" y="772"/>
                  <a:pt x="1590" y="770"/>
                </a:cubicBezTo>
                <a:cubicBezTo>
                  <a:pt x="1610" y="701"/>
                  <a:pt x="1597" y="626"/>
                  <a:pt x="1527" y="603"/>
                </a:cubicBezTo>
                <a:cubicBezTo>
                  <a:pt x="1515" y="605"/>
                  <a:pt x="1502" y="604"/>
                  <a:pt x="1492" y="610"/>
                </a:cubicBezTo>
                <a:cubicBezTo>
                  <a:pt x="1464" y="626"/>
                  <a:pt x="1484" y="673"/>
                  <a:pt x="1465" y="687"/>
                </a:cubicBezTo>
                <a:cubicBezTo>
                  <a:pt x="1452" y="697"/>
                  <a:pt x="1432" y="692"/>
                  <a:pt x="1416" y="694"/>
                </a:cubicBezTo>
                <a:cubicBezTo>
                  <a:pt x="1414" y="719"/>
                  <a:pt x="1432" y="759"/>
                  <a:pt x="1409" y="770"/>
                </a:cubicBezTo>
                <a:cubicBezTo>
                  <a:pt x="1370" y="790"/>
                  <a:pt x="1321" y="768"/>
                  <a:pt x="1277" y="763"/>
                </a:cubicBezTo>
                <a:cubicBezTo>
                  <a:pt x="1229" y="757"/>
                  <a:pt x="1187" y="724"/>
                  <a:pt x="1138" y="721"/>
                </a:cubicBezTo>
                <a:cubicBezTo>
                  <a:pt x="1078" y="717"/>
                  <a:pt x="1018" y="716"/>
                  <a:pt x="958" y="714"/>
                </a:cubicBezTo>
                <a:cubicBezTo>
                  <a:pt x="948" y="686"/>
                  <a:pt x="950" y="676"/>
                  <a:pt x="979" y="666"/>
                </a:cubicBezTo>
                <a:cubicBezTo>
                  <a:pt x="1003" y="642"/>
                  <a:pt x="1023" y="644"/>
                  <a:pt x="1041" y="617"/>
                </a:cubicBezTo>
                <a:cubicBezTo>
                  <a:pt x="1039" y="594"/>
                  <a:pt x="1038" y="571"/>
                  <a:pt x="1034" y="548"/>
                </a:cubicBezTo>
                <a:cubicBezTo>
                  <a:pt x="1021" y="480"/>
                  <a:pt x="977" y="466"/>
                  <a:pt x="916" y="451"/>
                </a:cubicBezTo>
                <a:cubicBezTo>
                  <a:pt x="811" y="487"/>
                  <a:pt x="945" y="427"/>
                  <a:pt x="868" y="596"/>
                </a:cubicBezTo>
                <a:cubicBezTo>
                  <a:pt x="860" y="613"/>
                  <a:pt x="831" y="601"/>
                  <a:pt x="812" y="603"/>
                </a:cubicBezTo>
                <a:cubicBezTo>
                  <a:pt x="780" y="601"/>
                  <a:pt x="747" y="600"/>
                  <a:pt x="715" y="596"/>
                </a:cubicBezTo>
                <a:cubicBezTo>
                  <a:pt x="678" y="592"/>
                  <a:pt x="641" y="571"/>
                  <a:pt x="604" y="562"/>
                </a:cubicBezTo>
                <a:cubicBezTo>
                  <a:pt x="580" y="546"/>
                  <a:pt x="562" y="542"/>
                  <a:pt x="535" y="534"/>
                </a:cubicBezTo>
                <a:cubicBezTo>
                  <a:pt x="521" y="530"/>
                  <a:pt x="493" y="520"/>
                  <a:pt x="493" y="520"/>
                </a:cubicBezTo>
                <a:cubicBezTo>
                  <a:pt x="488" y="506"/>
                  <a:pt x="493" y="482"/>
                  <a:pt x="479" y="478"/>
                </a:cubicBezTo>
                <a:cubicBezTo>
                  <a:pt x="448" y="469"/>
                  <a:pt x="380" y="433"/>
                  <a:pt x="354" y="430"/>
                </a:cubicBezTo>
                <a:cubicBezTo>
                  <a:pt x="333" y="428"/>
                  <a:pt x="313" y="425"/>
                  <a:pt x="292" y="423"/>
                </a:cubicBezTo>
                <a:cubicBezTo>
                  <a:pt x="270" y="356"/>
                  <a:pt x="254" y="225"/>
                  <a:pt x="181" y="201"/>
                </a:cubicBezTo>
                <a:cubicBezTo>
                  <a:pt x="179" y="190"/>
                  <a:pt x="169" y="131"/>
                  <a:pt x="160" y="125"/>
                </a:cubicBezTo>
                <a:cubicBezTo>
                  <a:pt x="146" y="116"/>
                  <a:pt x="118" y="97"/>
                  <a:pt x="118" y="97"/>
                </a:cubicBezTo>
                <a:cubicBezTo>
                  <a:pt x="113" y="90"/>
                  <a:pt x="110" y="81"/>
                  <a:pt x="104" y="76"/>
                </a:cubicBezTo>
                <a:cubicBezTo>
                  <a:pt x="99" y="72"/>
                  <a:pt x="88" y="75"/>
                  <a:pt x="84" y="69"/>
                </a:cubicBezTo>
                <a:cubicBezTo>
                  <a:pt x="76" y="57"/>
                  <a:pt x="75" y="41"/>
                  <a:pt x="70" y="27"/>
                </a:cubicBezTo>
                <a:cubicBezTo>
                  <a:pt x="65" y="11"/>
                  <a:pt x="28" y="0"/>
                  <a:pt x="28" y="0"/>
                </a:cubicBezTo>
                <a:cubicBezTo>
                  <a:pt x="4" y="8"/>
                  <a:pt x="12" y="12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5"/>
          <p:cNvGrpSpPr/>
          <p:nvPr/>
        </p:nvGrpSpPr>
        <p:grpSpPr>
          <a:xfrm>
            <a:off x="5270400" y="3352680"/>
            <a:ext cx="3873600" cy="1778040"/>
            <a:chOff x="5270400" y="3352680"/>
            <a:chExt cx="3873600" cy="1778040"/>
          </a:xfrm>
        </p:grpSpPr>
        <p:sp>
          <p:nvSpPr>
            <p:cNvPr id="71" name="Freeform 16"/>
            <p:cNvSpPr/>
            <p:nvPr/>
          </p:nvSpPr>
          <p:spPr>
            <a:xfrm>
              <a:off x="5270400" y="3657600"/>
              <a:ext cx="3873600" cy="1473120"/>
            </a:xfrm>
            <a:custGeom>
              <a:avLst/>
              <a:gdLst/>
              <a:ahLst/>
              <a:rect l="l" t="t" r="r" b="b"/>
              <a:pathLst>
                <a:path w="2440" h="928">
                  <a:moveTo>
                    <a:pt x="104" y="672"/>
                  </a:moveTo>
                  <a:cubicBezTo>
                    <a:pt x="208" y="688"/>
                    <a:pt x="552" y="776"/>
                    <a:pt x="680" y="768"/>
                  </a:cubicBezTo>
                  <a:cubicBezTo>
                    <a:pt x="808" y="760"/>
                    <a:pt x="856" y="696"/>
                    <a:pt x="872" y="624"/>
                  </a:cubicBezTo>
                  <a:cubicBezTo>
                    <a:pt x="888" y="552"/>
                    <a:pt x="800" y="416"/>
                    <a:pt x="776" y="336"/>
                  </a:cubicBezTo>
                  <a:cubicBezTo>
                    <a:pt x="752" y="256"/>
                    <a:pt x="736" y="192"/>
                    <a:pt x="728" y="144"/>
                  </a:cubicBezTo>
                  <a:cubicBezTo>
                    <a:pt x="720" y="96"/>
                    <a:pt x="720" y="72"/>
                    <a:pt x="728" y="48"/>
                  </a:cubicBezTo>
                  <a:cubicBezTo>
                    <a:pt x="736" y="24"/>
                    <a:pt x="752" y="0"/>
                    <a:pt x="776" y="0"/>
                  </a:cubicBezTo>
                  <a:cubicBezTo>
                    <a:pt x="800" y="0"/>
                    <a:pt x="856" y="0"/>
                    <a:pt x="872" y="48"/>
                  </a:cubicBezTo>
                  <a:cubicBezTo>
                    <a:pt x="888" y="96"/>
                    <a:pt x="864" y="200"/>
                    <a:pt x="872" y="288"/>
                  </a:cubicBezTo>
                  <a:cubicBezTo>
                    <a:pt x="880" y="376"/>
                    <a:pt x="928" y="496"/>
                    <a:pt x="920" y="576"/>
                  </a:cubicBezTo>
                  <a:cubicBezTo>
                    <a:pt x="912" y="656"/>
                    <a:pt x="784" y="744"/>
                    <a:pt x="824" y="768"/>
                  </a:cubicBezTo>
                  <a:cubicBezTo>
                    <a:pt x="864" y="792"/>
                    <a:pt x="992" y="760"/>
                    <a:pt x="1160" y="720"/>
                  </a:cubicBezTo>
                  <a:cubicBezTo>
                    <a:pt x="1328" y="680"/>
                    <a:pt x="1720" y="592"/>
                    <a:pt x="1832" y="528"/>
                  </a:cubicBezTo>
                  <a:cubicBezTo>
                    <a:pt x="1944" y="464"/>
                    <a:pt x="1832" y="392"/>
                    <a:pt x="1832" y="336"/>
                  </a:cubicBezTo>
                  <a:cubicBezTo>
                    <a:pt x="1832" y="280"/>
                    <a:pt x="1816" y="224"/>
                    <a:pt x="1832" y="192"/>
                  </a:cubicBezTo>
                  <a:cubicBezTo>
                    <a:pt x="1848" y="160"/>
                    <a:pt x="1904" y="120"/>
                    <a:pt x="1928" y="144"/>
                  </a:cubicBezTo>
                  <a:cubicBezTo>
                    <a:pt x="1952" y="168"/>
                    <a:pt x="1984" y="264"/>
                    <a:pt x="1976" y="336"/>
                  </a:cubicBezTo>
                  <a:cubicBezTo>
                    <a:pt x="1968" y="408"/>
                    <a:pt x="1840" y="544"/>
                    <a:pt x="1880" y="576"/>
                  </a:cubicBezTo>
                  <a:cubicBezTo>
                    <a:pt x="1920" y="608"/>
                    <a:pt x="2184" y="528"/>
                    <a:pt x="2216" y="528"/>
                  </a:cubicBezTo>
                  <a:cubicBezTo>
                    <a:pt x="2248" y="528"/>
                    <a:pt x="2128" y="560"/>
                    <a:pt x="2072" y="576"/>
                  </a:cubicBezTo>
                  <a:cubicBezTo>
                    <a:pt x="2016" y="592"/>
                    <a:pt x="1952" y="616"/>
                    <a:pt x="1880" y="624"/>
                  </a:cubicBezTo>
                  <a:cubicBezTo>
                    <a:pt x="1808" y="632"/>
                    <a:pt x="1720" y="608"/>
                    <a:pt x="1640" y="624"/>
                  </a:cubicBezTo>
                  <a:cubicBezTo>
                    <a:pt x="1560" y="640"/>
                    <a:pt x="1344" y="696"/>
                    <a:pt x="1400" y="720"/>
                  </a:cubicBezTo>
                  <a:cubicBezTo>
                    <a:pt x="1456" y="744"/>
                    <a:pt x="1808" y="736"/>
                    <a:pt x="1976" y="768"/>
                  </a:cubicBezTo>
                  <a:cubicBezTo>
                    <a:pt x="2144" y="800"/>
                    <a:pt x="2376" y="896"/>
                    <a:pt x="2408" y="912"/>
                  </a:cubicBezTo>
                  <a:cubicBezTo>
                    <a:pt x="2440" y="928"/>
                    <a:pt x="2280" y="888"/>
                    <a:pt x="2168" y="864"/>
                  </a:cubicBezTo>
                  <a:cubicBezTo>
                    <a:pt x="2056" y="840"/>
                    <a:pt x="1840" y="784"/>
                    <a:pt x="1736" y="768"/>
                  </a:cubicBezTo>
                  <a:cubicBezTo>
                    <a:pt x="1632" y="752"/>
                    <a:pt x="1616" y="768"/>
                    <a:pt x="1544" y="768"/>
                  </a:cubicBezTo>
                  <a:cubicBezTo>
                    <a:pt x="1472" y="768"/>
                    <a:pt x="1400" y="760"/>
                    <a:pt x="1304" y="768"/>
                  </a:cubicBezTo>
                  <a:cubicBezTo>
                    <a:pt x="1208" y="776"/>
                    <a:pt x="1072" y="808"/>
                    <a:pt x="968" y="816"/>
                  </a:cubicBezTo>
                  <a:cubicBezTo>
                    <a:pt x="864" y="824"/>
                    <a:pt x="816" y="832"/>
                    <a:pt x="680" y="816"/>
                  </a:cubicBezTo>
                  <a:cubicBezTo>
                    <a:pt x="544" y="800"/>
                    <a:pt x="256" y="744"/>
                    <a:pt x="152" y="720"/>
                  </a:cubicBezTo>
                  <a:cubicBezTo>
                    <a:pt x="48" y="696"/>
                    <a:pt x="64" y="680"/>
                    <a:pt x="56" y="672"/>
                  </a:cubicBezTo>
                  <a:cubicBezTo>
                    <a:pt x="48" y="664"/>
                    <a:pt x="0" y="656"/>
                    <a:pt x="104" y="672"/>
                  </a:cubicBez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6324480" y="3352680"/>
              <a:ext cx="457200" cy="419400"/>
            </a:xfrm>
            <a:custGeom>
              <a:avLst/>
              <a:gdLst/>
              <a:ahLst/>
              <a:rect l="l" t="t" r="r" b="b"/>
              <a:pathLst>
                <a:path w="2096" h="840">
                  <a:moveTo>
                    <a:pt x="312" y="776"/>
                  </a:moveTo>
                  <a:cubicBezTo>
                    <a:pt x="956" y="808"/>
                    <a:pt x="1600" y="840"/>
                    <a:pt x="1848" y="776"/>
                  </a:cubicBezTo>
                  <a:cubicBezTo>
                    <a:pt x="2096" y="712"/>
                    <a:pt x="1888" y="512"/>
                    <a:pt x="1800" y="392"/>
                  </a:cubicBezTo>
                  <a:cubicBezTo>
                    <a:pt x="1712" y="272"/>
                    <a:pt x="1496" y="112"/>
                    <a:pt x="1320" y="56"/>
                  </a:cubicBezTo>
                  <a:cubicBezTo>
                    <a:pt x="1144" y="0"/>
                    <a:pt x="920" y="8"/>
                    <a:pt x="744" y="56"/>
                  </a:cubicBezTo>
                  <a:cubicBezTo>
                    <a:pt x="568" y="104"/>
                    <a:pt x="384" y="232"/>
                    <a:pt x="264" y="344"/>
                  </a:cubicBezTo>
                  <a:cubicBezTo>
                    <a:pt x="144" y="456"/>
                    <a:pt x="0" y="656"/>
                    <a:pt x="24" y="728"/>
                  </a:cubicBezTo>
                  <a:cubicBezTo>
                    <a:pt x="48" y="800"/>
                    <a:pt x="344" y="768"/>
                    <a:pt x="408" y="776"/>
                  </a:cubicBezTo>
                </a:path>
              </a:pathLst>
            </a:custGeom>
            <a:gradFill rotWithShape="0">
              <a:gsLst>
                <a:gs pos="0">
                  <a:srgbClr val="2f1800"/>
                </a:gs>
                <a:gs pos="100000">
                  <a:srgbClr val="6633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8"/>
            <p:cNvSpPr/>
            <p:nvPr/>
          </p:nvSpPr>
          <p:spPr>
            <a:xfrm>
              <a:off x="8077320" y="3733920"/>
              <a:ext cx="380880" cy="228600"/>
            </a:xfrm>
            <a:custGeom>
              <a:avLst/>
              <a:gdLst/>
              <a:ahLst/>
              <a:rect l="l" t="t" r="r" b="b"/>
              <a:pathLst>
                <a:path w="2096" h="840">
                  <a:moveTo>
                    <a:pt x="312" y="776"/>
                  </a:moveTo>
                  <a:cubicBezTo>
                    <a:pt x="956" y="808"/>
                    <a:pt x="1600" y="840"/>
                    <a:pt x="1848" y="776"/>
                  </a:cubicBezTo>
                  <a:cubicBezTo>
                    <a:pt x="2096" y="712"/>
                    <a:pt x="1888" y="512"/>
                    <a:pt x="1800" y="392"/>
                  </a:cubicBezTo>
                  <a:cubicBezTo>
                    <a:pt x="1712" y="272"/>
                    <a:pt x="1496" y="112"/>
                    <a:pt x="1320" y="56"/>
                  </a:cubicBezTo>
                  <a:cubicBezTo>
                    <a:pt x="1144" y="0"/>
                    <a:pt x="920" y="8"/>
                    <a:pt x="744" y="56"/>
                  </a:cubicBezTo>
                  <a:cubicBezTo>
                    <a:pt x="568" y="104"/>
                    <a:pt x="384" y="232"/>
                    <a:pt x="264" y="344"/>
                  </a:cubicBezTo>
                  <a:cubicBezTo>
                    <a:pt x="144" y="456"/>
                    <a:pt x="0" y="656"/>
                    <a:pt x="24" y="728"/>
                  </a:cubicBezTo>
                  <a:cubicBezTo>
                    <a:pt x="48" y="800"/>
                    <a:pt x="344" y="768"/>
                    <a:pt x="408" y="776"/>
                  </a:cubicBezTo>
                </a:path>
              </a:pathLst>
            </a:custGeom>
            <a:gradFill rotWithShape="0">
              <a:gsLst>
                <a:gs pos="0">
                  <a:srgbClr val="2f1800"/>
                </a:gs>
                <a:gs pos="100000">
                  <a:srgbClr val="6633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Text Box 20"/>
          <p:cNvSpPr/>
          <p:nvPr/>
        </p:nvSpPr>
        <p:spPr>
          <a:xfrm>
            <a:off x="2606760" y="580068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00"/>
                </a:solidFill>
                <a:latin typeface="Arial"/>
              </a:rPr>
              <a:t>мицелий (грибниц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2"/>
          <p:cNvSpPr/>
          <p:nvPr/>
        </p:nvSpPr>
        <p:spPr>
          <a:xfrm>
            <a:off x="-152280" y="1698480"/>
            <a:ext cx="2709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00"/>
                </a:solidFill>
                <a:latin typeface="Arial"/>
              </a:rPr>
              <a:t>плодово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00"/>
                </a:solidFill>
                <a:latin typeface="Arial"/>
              </a:rPr>
              <a:t>те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6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00"/>
                </a:solidFill>
                <a:latin typeface="Century Schoolbook"/>
              </a:rPr>
              <a:t>Строение гриб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7"/>
          <p:cNvSpPr/>
          <p:nvPr/>
        </p:nvSpPr>
        <p:spPr>
          <a:xfrm>
            <a:off x="6477120" y="152388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00"/>
                </a:solidFill>
                <a:latin typeface="Arial"/>
              </a:rPr>
              <a:t>спо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28"/>
          <p:cNvSpPr/>
          <p:nvPr/>
        </p:nvSpPr>
        <p:spPr>
          <a:xfrm>
            <a:off x="3048120" y="2286000"/>
            <a:ext cx="1371600" cy="228600"/>
          </a:xfrm>
          <a:custGeom>
            <a:avLst/>
            <a:gdLst/>
            <a:ahLst/>
            <a:rect l="l" t="t" r="r" b="b"/>
            <a:pathLst>
              <a:path w="864" h="144">
                <a:moveTo>
                  <a:pt x="0" y="0"/>
                </a:moveTo>
                <a:cubicBezTo>
                  <a:pt x="24" y="36"/>
                  <a:pt x="48" y="72"/>
                  <a:pt x="192" y="96"/>
                </a:cubicBezTo>
                <a:cubicBezTo>
                  <a:pt x="336" y="120"/>
                  <a:pt x="752" y="136"/>
                  <a:pt x="864" y="144"/>
                </a:cubicBezTo>
              </a:path>
            </a:pathLst>
          </a:custGeom>
          <a:solidFill>
            <a:srgbClr val="ffccff"/>
          </a:solidFill>
          <a:ln w="93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29"/>
          <p:cNvSpPr/>
          <p:nvPr/>
        </p:nvSpPr>
        <p:spPr>
          <a:xfrm>
            <a:off x="5105520" y="2362320"/>
            <a:ext cx="1143000" cy="152280"/>
          </a:xfrm>
          <a:custGeom>
            <a:avLst/>
            <a:gdLst/>
            <a:ahLst/>
            <a:rect l="l" t="t" r="r" b="b"/>
            <a:pathLst>
              <a:path w="768" h="104">
                <a:moveTo>
                  <a:pt x="768" y="0"/>
                </a:moveTo>
                <a:cubicBezTo>
                  <a:pt x="752" y="16"/>
                  <a:pt x="736" y="32"/>
                  <a:pt x="672" y="48"/>
                </a:cubicBezTo>
                <a:cubicBezTo>
                  <a:pt x="608" y="64"/>
                  <a:pt x="496" y="88"/>
                  <a:pt x="384" y="96"/>
                </a:cubicBezTo>
                <a:cubicBezTo>
                  <a:pt x="272" y="104"/>
                  <a:pt x="64" y="96"/>
                  <a:pt x="0" y="96"/>
                </a:cubicBezTo>
              </a:path>
            </a:pathLst>
          </a:custGeom>
          <a:solidFill>
            <a:srgbClr val="ffccff"/>
          </a:solidFill>
          <a:ln w="93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3"/>
          <p:cNvSpPr/>
          <p:nvPr/>
        </p:nvSpPr>
        <p:spPr>
          <a:xfrm rot="8047800">
            <a:off x="4769640" y="5459760"/>
            <a:ext cx="744480" cy="238320"/>
          </a:xfrm>
          <a:prstGeom prst="leftArrow">
            <a:avLst>
              <a:gd name="adj1" fmla="val 23231"/>
              <a:gd name="adj2" fmla="val 197121"/>
            </a:avLst>
          </a:prstGeom>
          <a:gradFill rotWithShape="0">
            <a:gsLst>
              <a:gs pos="0">
                <a:srgbClr val="004700"/>
              </a:gs>
              <a:gs pos="50000">
                <a:srgbClr val="009900"/>
              </a:gs>
              <a:gs pos="100000">
                <a:srgbClr val="004700"/>
              </a:gs>
            </a:gsLst>
            <a:lin ang="1895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4"/>
          <p:cNvSpPr/>
          <p:nvPr/>
        </p:nvSpPr>
        <p:spPr>
          <a:xfrm rot="3490800">
            <a:off x="3624480" y="5431680"/>
            <a:ext cx="674640" cy="298440"/>
          </a:xfrm>
          <a:prstGeom prst="leftArrow">
            <a:avLst>
              <a:gd name="adj1" fmla="val 23231"/>
              <a:gd name="adj2" fmla="val 132996"/>
            </a:avLst>
          </a:prstGeom>
          <a:gradFill rotWithShape="0">
            <a:gsLst>
              <a:gs pos="0">
                <a:srgbClr val="004700"/>
              </a:gs>
              <a:gs pos="50000">
                <a:srgbClr val="009900"/>
              </a:gs>
              <a:gs pos="100000">
                <a:srgbClr val="004700"/>
              </a:gs>
            </a:gsLst>
            <a:lin ang="190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Левая фигурная скобка 1"/>
          <p:cNvSpPr/>
          <p:nvPr/>
        </p:nvSpPr>
        <p:spPr>
          <a:xfrm>
            <a:off x="2557440" y="1333440"/>
            <a:ext cx="441360" cy="3390840"/>
          </a:xfrm>
          <a:custGeom>
            <a:avLst/>
            <a:gdLst>
              <a:gd name="textAreaLeft" fmla="*/ 281880 w 441360"/>
              <a:gd name="textAreaRight" fmla="*/ 441720 w 441360"/>
              <a:gd name="textAreaTop" fmla="*/ 179640 h 3390840"/>
              <a:gd name="textAreaBottom" fmla="*/ 3211200 h 3390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30"/>
                  <a:pt x="10800" y="3659"/>
                </a:cubicBezTo>
                <a:lnTo>
                  <a:pt x="10800" y="7141"/>
                </a:lnTo>
                <a:cubicBezTo>
                  <a:pt x="10800" y="8971"/>
                  <a:pt x="5400" y="10800"/>
                  <a:pt x="0" y="10800"/>
                </a:cubicBezTo>
                <a:cubicBezTo>
                  <a:pt x="5400" y="10800"/>
                  <a:pt x="10800" y="12630"/>
                  <a:pt x="10800" y="14459"/>
                </a:cubicBezTo>
                <a:lnTo>
                  <a:pt x="10800" y="17941"/>
                </a:lnTo>
                <a:cubicBezTo>
                  <a:pt x="10800" y="1977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71" dur="3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78834E-006 L 0.00834 0.36641 E">
                                      <p:cBhvr>
                                        <p:cTn id="73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08813E-006 L -0.00416 0.40527 E">
                                      <p:cBhvr>
                                        <p:cTn id="75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00555 L 5.55112E-017 0.3331 E">
                                      <p:cBhvr>
                                        <p:cTn id="77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7127E-006 L 0.00417 0.37197 E">
                                      <p:cBhvr>
                                        <p:cTn id="79" dur="1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1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3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2819520" y="304920"/>
            <a:ext cx="4190760" cy="609444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726915459"/>
          <p:cNvPicPr/>
          <p:nvPr/>
        </p:nvPicPr>
        <p:blipFill>
          <a:blip r:embed="rId1"/>
          <a:srcRect l="0" t="10205" r="0" b="0"/>
          <a:stretch/>
        </p:blipFill>
        <p:spPr>
          <a:xfrm>
            <a:off x="2286000" y="228600"/>
            <a:ext cx="4952880" cy="64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Documents and Settings\Admin\Рабочий стол\бледная поганка.jpg"/>
          <p:cNvPicPr/>
          <p:nvPr/>
        </p:nvPicPr>
        <p:blipFill>
          <a:blip r:embed="rId1"/>
          <a:stretch/>
        </p:blipFill>
        <p:spPr>
          <a:xfrm>
            <a:off x="762120" y="53352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C:\Documents and Settings\Admin\Рабочий стол\мухомор 1.jpg"/>
          <p:cNvPicPr/>
          <p:nvPr/>
        </p:nvPicPr>
        <p:blipFill>
          <a:blip r:embed="rId1"/>
          <a:srcRect l="18992" t="10612" r="0" b="0"/>
          <a:stretch/>
        </p:blipFill>
        <p:spPr>
          <a:xfrm>
            <a:off x="1219320" y="380880"/>
            <a:ext cx="716256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1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"/>
          <p:cNvPicPr/>
          <p:nvPr/>
        </p:nvPicPr>
        <p:blipFill>
          <a:blip r:embed="rId1"/>
          <a:stretch/>
        </p:blipFill>
        <p:spPr>
          <a:xfrm>
            <a:off x="762120" y="752400"/>
            <a:ext cx="761976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niil</cp:lastModifiedBy>
  <dcterms:modified xsi:type="dcterms:W3CDTF">2016-12-01T19:51:09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