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32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9.jpeg" ContentType="image/jpeg"/>
  <Override PartName="/ppt/media/image11.png" ContentType="image/png"/>
  <Override PartName="/ppt/media/image20.jpeg" ContentType="image/jpeg"/>
  <Override PartName="/ppt/media/image12.png" ContentType="image/png"/>
  <Override PartName="/ppt/media/image7.png" ContentType="image/png"/>
  <Override PartName="/ppt/media/image27.gif" ContentType="image/gif"/>
  <Override PartName="/ppt/media/image8.png" ContentType="image/png"/>
  <Override PartName="/ppt/media/image14.jpeg" ContentType="image/jpe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1.jpeg" ContentType="image/jpeg"/>
  <Override PartName="/ppt/media/image10.png" ContentType="image/pn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media/image24.jpeg" ContentType="image/jpeg"/>
  <Override PartName="/ppt/media/image22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6BA6-BAD2-4A94-A30F-E7A6DED49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B969-53E1-451D-BF20-50F20B25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5038A-F0DB-43D7-9003-657E977B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2E91F-853E-4EC3-8A0B-7C8E24DAC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D6464A-D93C-44A0-9835-533A8FF3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48BF9F-90BD-4C50-A8F4-ED58E34E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C8F13-180B-470A-A02A-8857C6A8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F18A5-49B5-4565-8477-7562C066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FD082F-EC28-4B7F-80C3-6CEC2975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C7C973-F052-4B18-8698-682314C6E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D811A2-8582-439B-B1C8-8B0BA3743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3DEAF-39BF-4BE0-8CF5-A61DC3025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B02E-2543-4FAF-886E-4F1E0D418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6A7182-5C1C-48A1-A4FC-E95AB387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E101D3-8A9C-480B-846B-4B122657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63D975-82CA-4819-B5DB-CB7E109F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2C6000-B8FA-4C3D-BD78-A50CF2E2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622AF-8D14-4ED5-AAF0-8E86B95E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B5B70A-AFD7-4559-A873-3D436862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D7A70F-BE89-4E73-9BB5-4E670CFF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AA7EA6-12AF-4202-B058-C97F6E65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80E4B7-12A0-4EB8-A56A-501E0120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5AFCD-9887-41B7-BE8D-F7371D614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878F-BBCC-44F4-8701-ED959BF45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60899A-1230-408C-9E4C-F81A970C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844586-CFF5-41FD-AFD7-1320580C0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B8376-BBB1-4CA3-B1C7-59BA37D8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34041-251E-43FE-82D9-741A6766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1539D-3098-4BBE-92BE-FA530D05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E938A-8636-49C6-AA57-43735037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8B0CA-F6B0-4264-8BFC-94AA799F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D9216-1F43-457E-A8D3-92481EA9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C630A-5683-4C18-8CD0-9798F0D2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32D3F-45FA-4804-973C-C9614B13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67E9-171A-427A-9E7D-D4D485313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9FAB3-DED5-45BC-B7DD-5FA9BA41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D44D64-0D7A-4C60-B008-0660EA64F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BF55F-9A7E-4B66-9DA8-613A6F823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D27297-7F82-4999-9DCF-D4B458335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745A00-A7FE-468D-8E3E-1B7B60F3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60E662-58B2-40A8-8A74-477DA8D2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E00870-6607-4D65-8000-193BE9378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00F25E-6C54-4810-8E61-046FB087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4C5B3-D2FC-4F82-AB41-2FEE8A1A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531DAC-C3AF-47A3-AA66-9110E856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6DA9-E208-45FF-A99A-69B128B8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182ED4-2260-4BCC-A965-A6CF114C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049E6A-76E0-4BC2-AF0E-6F623953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0878B8-B6E4-43E1-8123-EE29408B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C2CD69-791B-4BA1-AC86-A68287F4C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6E3DD8-CC34-4D91-B059-FE6DCDD4A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0644E5-BF11-4FB5-9B44-BB9A678BF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CB078F-58F0-401D-AB2A-F75D4AC0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011B65-5BCC-4CF2-B014-09F42D2B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B58DF0-8D8C-4717-9E38-5344050B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651E13-C4F0-47BC-9BC7-2CF09361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0B38D-0EE0-47FB-91EF-B0959B3A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227BA1-3855-4538-8555-16341845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FDA2F6-B374-460C-B786-23D6EA4D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25F3D1-DA78-4F98-8547-68CDCB2A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AC30F1-57FB-49A6-BD4E-5202D09E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C582DE-4791-4FAA-B768-B772CEA0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4DAC4B-4EA6-4311-B46D-10E415171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E088B1-767D-4F79-A5D1-4E9902E3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EBE67F-764E-4E36-AF48-D37DD9C99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088B69-CEAF-4D52-AA49-4798A4E6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DD36FD-0825-48A0-9B58-DC6FE194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F258-8057-4ED4-83C5-102A57A0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29146F-A654-4522-8B16-B7F48E5B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4C891A-6248-4F19-B0BC-51F6F7EA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523B9E-5247-4671-8AB1-B266D3B3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E1A372-8EA7-437B-88E1-1B2CD33D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CD32ED-F9E4-4CCB-A76E-D649E809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7B131A-AA9A-4705-888E-086C4AE0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708ECA-E2E6-4B19-A0C0-10F4F7B2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E1B0EE-140B-4A47-BD13-1F37F60FD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7645BD-8D0B-49D2-B05A-59B68C5E6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0D89F-7048-48BF-AE21-9A96F153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B4C3-F850-40CA-B5AD-FBE2910E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8785-1EDB-49FE-A0D1-E73908F2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424F-6843-4B04-809D-5350B204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301E-D04E-4389-AC17-0A9DFA23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16CA-AADB-4867-8463-37E59648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7707-58F6-4B19-A80E-CE4FB78E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AD28-0F21-453F-A61F-439854F8D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7811-E44F-4582-80D9-A38A0A51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8D7BA-74BC-4856-BF39-AAE7674B9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F9AEA-91D8-460A-9662-7734B9E0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25725-0428-4383-B916-D877293C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DAD81-A9DD-49F8-AB79-44448446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F5A74-6CBB-48B5-8C83-63E7714D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8D75-642E-4EC4-81B6-799F37B6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C47DD-7104-4466-86DF-5D8EA67F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89103-6298-4B89-8358-4CA3854A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C9BDC-EAA8-420B-A019-3A408580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04BCD-576C-4C5E-ACA6-C7F1FCF1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A2341-92F8-41DF-8F21-E768AEB2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8E239-C107-460C-8143-48CB83C48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D5596-5BD9-4DE3-B413-E8232CE63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89F4D-4FF7-4564-BC6C-2DE1D3F06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8CB11-F30D-4E8D-9D7B-C5682CBB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A36DE-13FA-4DD8-9DA1-0447A724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8028-BBF3-4FEA-865E-7FCD013D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0DBE0-B44F-486D-AC11-BF5C9317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F5DF1-AC97-4F6E-8308-785DC3E3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DFEE2-39F5-4D43-B6E3-F9DB28AF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805B3-02B7-4D09-A5D2-8699D268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E9522-5448-425C-B8D7-1AFAFBDD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EC67E-ACEF-47CA-813D-146302D7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C3B55-FC1B-4880-8008-9684F22C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C37FD-A3DC-4FAD-9F86-7671A61E7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44B47-2EAF-41C9-9E2E-7E068AB7D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6F151-6885-4613-B002-A6EFB952D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870A-4C3D-4D4A-B7E3-19922040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7087E-98EB-4C0A-A3A2-2E6D39FE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B3F7F-0646-4BFC-BC74-094D4F0C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CFF04-4FE3-46D1-ABAB-644700ED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FE937-4C1D-486A-B110-4C437534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D7690-E08D-4D2E-82D7-811E3BBB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6AFDA-D1D2-442E-A9C1-58B537DC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FAEB9-E81F-464F-BF7D-9F2FCD00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C122F-D231-48F6-9F7F-4744DA83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F2D39-2ECA-41B9-A8CC-6061FBD8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C6DBC-BCFF-4AA4-9D29-EE5E5B181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94A0-4114-46F4-BD14-6F1DDBEE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354EB-E094-4126-AF53-269F5CA27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97AD6-A5CE-4670-953E-0BE78B6F5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A9244-B6F0-4EC5-9D2F-13404DEB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4BFD7-7D1B-4E6A-A3D8-B84C8E09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2B5E6-373B-4169-B6EA-A6C9268B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8F289-09CA-4E93-86AE-3528776A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19AB0-C89A-4DDE-9A05-C62DD159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5EBDA-CF0B-4594-A32F-6B9C4EB8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C7A95-2EDD-4E05-94EF-7A8B0D14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891CA-9B8D-4176-A73E-6FE7B59C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A2BA-0160-42DD-89FC-BAB103AB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721FF-288E-48EA-8CC6-19145C29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7DDD9-577F-4709-8FFE-990986A24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67B1A-9FF3-4200-85F3-0D88A9C28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62386-9DF0-4579-8325-C4FA39E7F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F0ED0-E083-4F51-99EE-050F0D38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8CEF6-2486-475A-8E17-3CC4E31F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30B2D-4952-4721-B5C2-7134FE90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A8636-2A52-413B-94BB-06A8E17D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8A2B7-CF75-4F2C-962E-71D227CB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B8E8C-D411-47DE-9C17-332C0AB1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B9E4-4A89-43C1-A140-FB1A265C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83262-DC97-4A58-9452-03B2F75B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CE4B4-99C6-4A2F-A456-057C4607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4F75D-BC63-4C4C-843D-D0368785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E065D-64EB-4437-833E-88D1433A5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790D1-65AD-4626-ACAC-F4C4FE0A8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53754-40B9-4334-B5D9-A6668F02B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5B8F0-E979-47C3-A83A-CEDBCDD77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5218B-515C-4FBD-A9DB-7366B803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0E308-C23E-4829-8D1B-1EA768FB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00C2F-4FEB-4CEC-A25F-1CFB3DB7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B921-486A-41DD-BFE8-096D45C5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31EA0-8127-4AD8-B297-08841396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76D1C-4440-451E-A2D6-B1D454E1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B8A59-EFA5-446C-83D1-4976FB3B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2A86E6-6ADF-4A16-9522-1D53CF10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3DEEC-BF92-4D44-882A-63A88CD4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E1429-5051-4A19-9F17-9159B1D68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F8BC3-5D57-4041-8550-79AA62AA4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0439F-EFED-47E5-8C42-1F95819EB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7E597-D8CC-42AD-9713-EB53C3E6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4BABA6-A266-4929-9F96-FA37A14B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0EFC-2B86-47BF-A466-51923C5C4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19ED-5DB5-427C-8E53-E95EC4545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DD40-3EAF-4FE2-967A-068EB4FCA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3463-5616-496F-AA8C-D7A38E8B4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169D-8075-4E54-BD4D-8289D8210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1DDE-F041-4EF5-BA9F-177AB359B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BC76-547D-4CA4-A198-74713F5CB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3977-0352-48A3-9C87-F3068D370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D29D-9E06-43B5-97D6-4E7EC7F1E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A9FB-1460-4E0F-96F2-4B7AF6D0C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DA93-1203-4261-98D8-7D34986F4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4BBA-1C4D-4103-9DC6-3B7909EDF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21C66-A7BE-4B5F-9216-4684BB70C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CCC1-C701-459B-9D7B-69C55A776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520" y="2036880"/>
            <a:ext cx="861048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 к открытому уроку математики в 6 классе по теме:</a:t>
            </a:r>
            <a:br>
              <a:rPr sz="18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Умножение и деление дробей»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нь Конституции Российской Федерации</a:t>
            </a:r>
            <a:br>
              <a:rPr sz="6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2286000" y="442404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ила: учитель математики ОГБОУ «СОШ №3 с УИОП г.Строите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пенко Анна Евген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ым конституционным проектом появившемся в России можно назвать "План государственного преобразования", разработанный в 1809 году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Кто был разработчиком этого проекта, мы узнаем, решив эти урав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Picture 4" descr=""/>
          <p:cNvPicPr/>
          <p:nvPr/>
        </p:nvPicPr>
        <p:blipFill>
          <a:blip r:embed="rId1"/>
          <a:stretch/>
        </p:blipFill>
        <p:spPr>
          <a:xfrm>
            <a:off x="-209520" y="0"/>
            <a:ext cx="9563040" cy="69724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8017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704" name=""/>
          <p:cNvSpPr txBox="1"/>
          <p:nvPr/>
        </p:nvSpPr>
        <p:spPr>
          <a:xfrm>
            <a:off x="4992840" y="1592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еранский Михаил Михайлович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сский общественный и государственный деятель, реформатор, законотворец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нституция по Сперанскому - закон, "определяющий первоначальные права и отношения всех классов государственных между собой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Picture 4" descr=""/>
          <p:cNvPicPr/>
          <p:nvPr/>
        </p:nvPicPr>
        <p:blipFill>
          <a:blip r:embed="rId2"/>
          <a:stretch/>
        </p:blipFill>
        <p:spPr>
          <a:xfrm>
            <a:off x="795240" y="584280"/>
            <a:ext cx="8115480" cy="61920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6" descr=""/>
          <p:cNvPicPr/>
          <p:nvPr/>
        </p:nvPicPr>
        <p:blipFill>
          <a:blip r:embed="rId3"/>
          <a:stretch/>
        </p:blipFill>
        <p:spPr>
          <a:xfrm>
            <a:off x="817560" y="1606680"/>
            <a:ext cx="4008600" cy="45608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нституционные идеи Пес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499284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5" descr=""/>
          <p:cNvPicPr/>
          <p:nvPr/>
        </p:nvPicPr>
        <p:blipFill>
          <a:blip r:embed="rId2"/>
          <a:stretch/>
        </p:blipFill>
        <p:spPr>
          <a:xfrm>
            <a:off x="2241720" y="1193760"/>
            <a:ext cx="4674960" cy="5072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Picture 5" descr=""/>
          <p:cNvPicPr/>
          <p:nvPr/>
        </p:nvPicPr>
        <p:blipFill>
          <a:blip r:embed="rId1"/>
          <a:stretch/>
        </p:blipFill>
        <p:spPr>
          <a:xfrm>
            <a:off x="131760" y="1095480"/>
            <a:ext cx="9012240" cy="3286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0000"/>
                </a:solidFill>
                <a:latin typeface="Arial"/>
              </a:rPr>
              <a:t>«РУССКАЯ ПРАВДА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не только уничтожала крепостное право, но и отменяла самодержавие, учреждая республ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нашей стране всего было принято 5 конституци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знаем в каких годах были приняты конститу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86920" y="256680"/>
            <a:ext cx="7961400" cy="126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РСФСР 1918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г.</a:t>
            </a:r>
            <a:r>
              <a:rPr b="1" lang="ru-RU" sz="4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739440" y="1444320"/>
            <a:ext cx="529596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я содержала 6 разделов, 17 глав и 90 статей. Конституция 1918 г</a:t>
            </a:r>
            <a:r>
              <a:rPr b="1" lang="en-US" sz="2000" spc="-1" strike="noStrike">
                <a:solidFill>
                  <a:srgbClr val="202a51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 закрепила диктатуру пролетариа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Лица, жившие на нетрудовые доходы или использовавшие наемный труд были лишены политических пра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Данная Конституция была </a:t>
            </a: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самой идеологизированной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 из всех советских конституц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353880"/>
                <a:tab algn="l" pos="708120"/>
                <a:tab algn="l" pos="1062000"/>
                <a:tab algn="l" pos="1415880"/>
                <a:tab algn="l" pos="1770120"/>
                <a:tab algn="l" pos="2124000"/>
                <a:tab algn="l" pos="2478240"/>
                <a:tab algn="l" pos="2832120"/>
                <a:tab algn="l" pos="3186000"/>
                <a:tab algn="l" pos="3540240"/>
                <a:tab algn="l" pos="3894120"/>
                <a:tab algn="l" pos="4248000"/>
                <a:tab algn="l" pos="4602240"/>
                <a:tab algn="l" pos="4956120"/>
                <a:tab algn="l" pos="5310360"/>
                <a:tab algn="l" pos="5664240"/>
                <a:tab algn="l" pos="6018120"/>
                <a:tab algn="l" pos="6372360"/>
                <a:tab algn="l" pos="6726240"/>
                <a:tab algn="l" pos="708012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Она утратила силу в связи с принятием Конституции 1924</a:t>
            </a:r>
            <a:r>
              <a:rPr b="1" lang="en-US" sz="2000" spc="-1" strike="noStrike">
                <a:solidFill>
                  <a:srgbClr val="202a5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4" descr="220px-Обложка_Конституции_РСФСР_1918_года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156360" y="1484280"/>
            <a:ext cx="2539800" cy="3706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5352840" cy="121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СССР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924 г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26680" y="2639520"/>
            <a:ext cx="824076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В 1922 года I съезд Советов СССР утвердил Договор об образовании СССР. Договор подписали четыре республики: Россия, Украина, Белоруссия и Закавказье (в состав которой входили Грузия, Армения, Азербайджан). Каждая из республик уже имела свою конституцию. Съезд принял решение о разработке общесоюзной конституции. 1924 года Конституция была единогласно принята II съездом Сов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4" descr="ussr"/>
          <p:cNvPicPr/>
          <p:nvPr/>
        </p:nvPicPr>
        <p:blipFill>
          <a:blip r:embed="rId1"/>
          <a:stretch/>
        </p:blipFill>
        <p:spPr>
          <a:xfrm>
            <a:off x="6369120" y="210960"/>
            <a:ext cx="2262240" cy="2318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55480" y="379080"/>
            <a:ext cx="52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СССР 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936 г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694480" cy="28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Неофициальное название: </a:t>
            </a: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«Сталинская конституция»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 Несмотря на свое название, основным автором конституции был впоследствии репрессированный Николай Бухарин. В работе над текстом конституции непосредственно принимал участие И.В. Сталин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4" descr="0_1c0d6_199e7891_XL"/>
          <p:cNvPicPr/>
          <p:nvPr/>
        </p:nvPicPr>
        <p:blipFill>
          <a:blip r:embed="rId1"/>
          <a:stretch/>
        </p:blipFill>
        <p:spPr>
          <a:xfrm>
            <a:off x="6000840" y="438120"/>
            <a:ext cx="2766960" cy="4011480"/>
          </a:xfrm>
          <a:prstGeom prst="rect">
            <a:avLst/>
          </a:prstGeom>
          <a:ln w="0">
            <a:noFill/>
          </a:ln>
        </p:spPr>
      </p:pic>
      <p:sp>
        <p:nvSpPr>
          <p:cNvPr id="725" name="Rectangle 5"/>
          <p:cNvSpPr/>
          <p:nvPr/>
        </p:nvSpPr>
        <p:spPr>
          <a:xfrm>
            <a:off x="3564000" y="4724280"/>
            <a:ext cx="560376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02a51"/>
                </a:solidFill>
                <a:latin typeface="Arial"/>
              </a:rPr>
              <a:t>Конституция 1936 года по замыслу авторов должна была отразить важный этап в истории Советского государства – построение социализма. В ее обсуждении впервые участвовало 75 млн. ч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Без знания дробей никто не может быть сведущим в математике»</a:t>
            </a:r>
            <a:br>
              <a:rPr sz="40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арк Туллий Цицер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древнеримский оратор и филосо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2980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Конституция СССР 1978 г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48704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Эта конституция закрепляла однопартийную политическую систему (КПСС). Несмотря на распад СССР действовала на территории России до 1993 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Вошла в историю как «конституция развитого социализма» ил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c0000"/>
                </a:solidFill>
                <a:latin typeface="Arial"/>
              </a:rPr>
              <a:t>«Брежневская конституция»</a:t>
            </a:r>
            <a:r>
              <a:rPr b="1" lang="ru-RU" sz="2200" spc="-1" strike="noStrike">
                <a:solidFill>
                  <a:srgbClr val="202a51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4" descr="brezh"/>
          <p:cNvPicPr/>
          <p:nvPr/>
        </p:nvPicPr>
        <p:blipFill>
          <a:blip r:embed="rId1">
            <a:lum bright="-6000"/>
          </a:blip>
          <a:srcRect l="0" t="1087" r="0" b="0"/>
          <a:stretch/>
        </p:blipFill>
        <p:spPr>
          <a:xfrm>
            <a:off x="5724360" y="1628640"/>
            <a:ext cx="2368800" cy="32385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0" y="347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12 декабря 1993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Всенародны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голосованием была принята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онституция Российской Федерации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С 2005 года 12 декабря не является в России выходным днём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День Конституци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02a51"/>
                </a:solidFill>
                <a:latin typeface="Arial"/>
              </a:rPr>
              <a:t>причислен к памятным датам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3" descr=""/>
          <p:cNvPicPr/>
          <p:nvPr/>
        </p:nvPicPr>
        <p:blipFill>
          <a:blip r:embed="rId1"/>
          <a:stretch/>
        </p:blipFill>
        <p:spPr>
          <a:xfrm>
            <a:off x="5435640" y="4221000"/>
            <a:ext cx="2925720" cy="2291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55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202a51"/>
                </a:solidFill>
                <a:latin typeface="Times New Roman"/>
              </a:rPr>
              <a:t> </a:t>
            </a:r>
            <a:r>
              <a:rPr b="1" lang="ru-RU" sz="3100" spc="-1" strike="noStrike">
                <a:solidFill>
                  <a:srgbClr val="cc0000"/>
                </a:solidFill>
                <a:latin typeface="Times New Roman"/>
              </a:rPr>
              <a:t>Конституция Российской Федерации</a:t>
            </a:r>
            <a:r>
              <a:rPr b="1" lang="ru-RU" sz="3100" spc="-1" strike="noStrike">
                <a:solidFill>
                  <a:srgbClr val="202a51"/>
                </a:solidFill>
                <a:latin typeface="Times New Roman"/>
              </a:rPr>
              <a:t>  - это </a:t>
            </a:r>
            <a:r>
              <a:rPr b="1" i="1" lang="ru-RU" sz="3100" spc="-1" strike="noStrike">
                <a:solidFill>
                  <a:srgbClr val="cc0000"/>
                </a:solidFill>
                <a:latin typeface="Times New Roman"/>
              </a:rPr>
              <a:t>основной закон</a:t>
            </a:r>
            <a:r>
              <a:rPr b="1" lang="ru-RU" sz="3100" spc="-1" strike="noStrike">
                <a:solidFill>
                  <a:srgbClr val="202a51"/>
                </a:solidFill>
                <a:latin typeface="Times New Roman"/>
              </a:rPr>
              <a:t> нашего государства, который имеет высшую юридическую силу, прямое действие и применяется на всей территории РФ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5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202a51"/>
                </a:solidFill>
                <a:latin typeface="Times New Roman"/>
              </a:rPr>
              <a:t> </a:t>
            </a:r>
            <a:r>
              <a:rPr b="1" lang="ru-RU" sz="3100" spc="-1" strike="noStrike">
                <a:solidFill>
                  <a:srgbClr val="cc0000"/>
                </a:solidFill>
                <a:latin typeface="Times New Roman"/>
              </a:rPr>
              <a:t>Конституция</a:t>
            </a:r>
            <a:r>
              <a:rPr b="1" lang="ru-RU" sz="3100" spc="-1" strike="noStrike">
                <a:solidFill>
                  <a:srgbClr val="202a51"/>
                </a:solidFill>
                <a:latin typeface="Times New Roman"/>
              </a:rPr>
              <a:t> - это основной закон государства, к которому должны быть подлажены все остальные законы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4"/>
          <p:cNvSpPr/>
          <p:nvPr/>
        </p:nvSpPr>
        <p:spPr>
          <a:xfrm>
            <a:off x="0" y="390600"/>
            <a:ext cx="907416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Конституция Р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4920" y="523800"/>
            <a:ext cx="907416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Наши пра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По Конституции нашей страны мы имеем право на жизнь, имеем право выбирать профессию, имеем право на отдых, жилье и медицинскую помощ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02a51"/>
                </a:solidFill>
                <a:latin typeface="Times New Roman"/>
              </a:rPr>
              <a:t>Все люди равны перед законом, и каждого из нас защищает государство, через милицию и су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4920" y="293400"/>
            <a:ext cx="90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Наши своб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569440" cy="40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Наши свободы – свобода слова, вероисповедания и сове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По этому закону все права и свободы, данные нам государством, не должны нарушать или ущемлять права и свободы других гражда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2a5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2a51"/>
                </a:solidFill>
                <a:latin typeface="Times New Roman"/>
              </a:rPr>
              <a:t>Например, свобода слова – мы имеем право искать, собирать и распространять информацию, но не имеем права вмешиваться в личную жизнь других людей, разглашать государственную тай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аво на отды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зкультмину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/>
          </p:nvPr>
        </p:nvSpPr>
        <p:spPr>
          <a:xfrm>
            <a:off x="1332000" y="1773360"/>
            <a:ext cx="662472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ить примеры, задачи и уравнения, и с помощью таблиц определить понятия, прочно связанные с Конституцией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title"/>
          </p:nvPr>
        </p:nvSpPr>
        <p:spPr>
          <a:xfrm>
            <a:off x="34920" y="523800"/>
            <a:ext cx="907416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Работа в групп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 груп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РЕЗИДЕН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гарант конституц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Заголовок 1" descr=""/>
          <p:cNvPicPr/>
          <p:nvPr/>
        </p:nvPicPr>
        <p:blipFill>
          <a:blip r:embed="rId1"/>
          <a:stretch/>
        </p:blipFill>
        <p:spPr>
          <a:xfrm>
            <a:off x="500040" y="201600"/>
            <a:ext cx="8229600" cy="151128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2" descr=""/>
          <p:cNvPicPr/>
          <p:nvPr/>
        </p:nvPicPr>
        <p:blipFill>
          <a:blip r:embed="rId2"/>
          <a:stretch/>
        </p:blipFill>
        <p:spPr>
          <a:xfrm>
            <a:off x="2428920" y="4357800"/>
            <a:ext cx="3963960" cy="221436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3" descr=""/>
          <p:cNvPicPr/>
          <p:nvPr/>
        </p:nvPicPr>
        <p:blipFill>
          <a:blip r:embed="rId3"/>
          <a:stretch/>
        </p:blipFill>
        <p:spPr>
          <a:xfrm>
            <a:off x="285840" y="1428840"/>
            <a:ext cx="4000320" cy="270648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5" descr=""/>
          <p:cNvPicPr/>
          <p:nvPr/>
        </p:nvPicPr>
        <p:blipFill>
          <a:blip r:embed="rId4"/>
          <a:stretch/>
        </p:blipFill>
        <p:spPr>
          <a:xfrm>
            <a:off x="4572000" y="1413000"/>
            <a:ext cx="4292640" cy="27604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 груп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имвол Российской Федерации - ГЕР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оретическая разм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умножить дробь на натуральное число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умножить дробь на дроб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умножить смешанные числ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найти дробь от числ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числа называются взаимно-обратны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разделить дробь на дробь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делить смешанные числ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17520" y="168120"/>
            <a:ext cx="8385120" cy="1238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осударственный герб 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оссийской Федерац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3968280" y="1569960"/>
            <a:ext cx="4916520" cy="45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герб посмотрим: здесь орё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 не простой – двуглав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мволизирует страну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гучий, величав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Европе с Азией ст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кинулась широк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ж океанов и мор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 запада к восто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т и взирает птица – ц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две стороны вниматель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порядке ль всё, не шёл чтоб враг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едит он обязате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руках держава, скипетр е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д главами – коро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всадник на коне верх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змей, копьём сражён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Picture 8" descr="0"/>
          <p:cNvPicPr/>
          <p:nvPr/>
        </p:nvPicPr>
        <p:blipFill>
          <a:blip r:embed="rId1"/>
          <a:stretch/>
        </p:blipFill>
        <p:spPr>
          <a:xfrm>
            <a:off x="866880" y="1892160"/>
            <a:ext cx="3047760" cy="327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 advTm="10000">
    <p:pull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 груп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Символ Российской Федерации - ФЛА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686800" cy="1432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000000"/>
                </a:solidFill>
                <a:latin typeface="Arial"/>
              </a:rPr>
              <a:t>Государственный флаг                                                                                                       Российской Федерации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436640" y="1887120"/>
            <a:ext cx="47070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х цветов Российский флаг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ый цвет - для всех нас зн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ть на флаге красный цвет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роизмом он согрет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йкость, жертвенность, отвага -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ысл такого цвета фла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ий цвет на флаге - верность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вердость духа, неизменность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рота, простосердечье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людьми ценились веч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лый - это чистота,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агородство, высота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етлых Ангелов привет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значает белый ц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х цветов Российский флаг.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гоценен этот стяг!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Picture 9" descr="3"/>
          <p:cNvPicPr/>
          <p:nvPr/>
        </p:nvPicPr>
        <p:blipFill>
          <a:blip r:embed="rId1"/>
          <a:stretch/>
        </p:blipFill>
        <p:spPr>
          <a:xfrm>
            <a:off x="247680" y="2158920"/>
            <a:ext cx="4129200" cy="2752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 группа</a:t>
            </a:r>
            <a:br>
              <a:rPr sz="20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имн Российской        Федер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4" descr="флаг"/>
          <p:cNvPicPr/>
          <p:nvPr/>
        </p:nvPicPr>
        <p:blipFill>
          <a:blip r:embed="rId1"/>
          <a:stretch/>
        </p:blipFill>
        <p:spPr>
          <a:xfrm>
            <a:off x="1089000" y="1573200"/>
            <a:ext cx="7077240" cy="5110200"/>
          </a:xfrm>
          <a:prstGeom prst="rect">
            <a:avLst/>
          </a:prstGeom>
          <a:ln w="0">
            <a:noFill/>
          </a:ln>
        </p:spPr>
      </p:pic>
      <p:pic>
        <p:nvPicPr>
          <p:cNvPr id="760" name="gimn Russia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250119" fill="hold"/>
                                        <p:tgtEl>
                                          <p:spTgt spid="7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осударственный гимн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оссийской Федерации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2246040" y="1321920"/>
            <a:ext cx="595476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сия - священная наша держа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сия - любимая наша стр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гучая воля, великая слава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е достоянье на все времен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вься, Отечество наше свобод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атских народов союз веков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ками данная мудрость народна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вься, страна! Мы гордимся тобо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южных морей до полярн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кинулись наши леса и по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 ты на свете! Одна ты такая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анимая Богом родная земл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вься, Отечество наше свобод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атских народов союз веков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ками данная мудрость народна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вься, страна! Мы гордимся тобо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8"/>
          <p:cNvSpPr/>
          <p:nvPr/>
        </p:nvSpPr>
        <p:spPr>
          <a:xfrm>
            <a:off x="3701880" y="6248520"/>
            <a:ext cx="5172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4" descr=""/>
          <p:cNvPicPr/>
          <p:nvPr/>
        </p:nvPicPr>
        <p:blipFill>
          <a:blip r:embed="rId1"/>
          <a:stretch/>
        </p:blipFill>
        <p:spPr>
          <a:xfrm>
            <a:off x="539640" y="1273320"/>
            <a:ext cx="8190000" cy="40701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мопрове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Picture 4" descr=""/>
          <p:cNvPicPr/>
          <p:nvPr/>
        </p:nvPicPr>
        <p:blipFill>
          <a:blip r:embed="rId1"/>
          <a:stretch/>
        </p:blipFill>
        <p:spPr>
          <a:xfrm>
            <a:off x="1571760" y="1214280"/>
            <a:ext cx="6002280" cy="4429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тог урока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му научились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показалось лёгк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чём испытывали затрудн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 чем ещё нужно поработ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оцениваете свою работ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оцениваете работу своих товарищ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Picture 3" descr=""/>
          <p:cNvPicPr/>
          <p:nvPr/>
        </p:nvPicPr>
        <p:blipFill>
          <a:blip r:embed="rId1"/>
          <a:stretch/>
        </p:blipFill>
        <p:spPr>
          <a:xfrm>
            <a:off x="573120" y="360360"/>
            <a:ext cx="1857240" cy="218916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4" descr=""/>
          <p:cNvPicPr/>
          <p:nvPr/>
        </p:nvPicPr>
        <p:blipFill>
          <a:blip r:embed="rId2"/>
          <a:stretch/>
        </p:blipFill>
        <p:spPr>
          <a:xfrm>
            <a:off x="388800" y="3044880"/>
            <a:ext cx="2470320" cy="1643040"/>
          </a:xfrm>
          <a:prstGeom prst="rect">
            <a:avLst/>
          </a:prstGeom>
          <a:ln w="0">
            <a:noFill/>
          </a:ln>
        </p:spPr>
      </p:pic>
      <p:sp>
        <p:nvSpPr>
          <p:cNvPr id="776" name="Прямоугольник 5"/>
          <p:cNvSpPr/>
          <p:nvPr/>
        </p:nvSpPr>
        <p:spPr>
          <a:xfrm>
            <a:off x="2643120" y="20001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Прямоугольник 6"/>
          <p:cNvSpPr/>
          <p:nvPr/>
        </p:nvSpPr>
        <p:spPr>
          <a:xfrm>
            <a:off x="3708360" y="2421000"/>
            <a:ext cx="4969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оздравляю вас с Днем Конституци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И желаю, чтоб нашу стран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Обошли стороной революц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Чтоб она не познала войн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усть живет, процветает Велик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аша Родина, гордость и че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Неприятели пусть многоли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озабудут коварство и ле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ная раб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 Antiqua"/>
              </a:rPr>
              <a:t>«Умножение и деление дроб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-36360" y="1989000"/>
            <a:ext cx="9144000" cy="17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С праздником,</a:t>
            </a:r>
            <a:br>
              <a:rPr sz="5400"/>
            </a:b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 Днём Конституции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3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Заголовок 2" descr=""/>
          <p:cNvPicPr/>
          <p:nvPr/>
        </p:nvPicPr>
        <p:blipFill>
          <a:blip r:embed="rId1"/>
          <a:stretch/>
        </p:blipFill>
        <p:spPr>
          <a:xfrm>
            <a:off x="585720" y="414360"/>
            <a:ext cx="8229600" cy="1139760"/>
          </a:xfrm>
          <a:prstGeom prst="rect">
            <a:avLst/>
          </a:prstGeom>
          <a:ln w="0">
            <a:noFill/>
          </a:ln>
        </p:spPr>
      </p:pic>
      <p:cxnSp>
        <p:nvCxnSpPr>
          <p:cNvPr id="583" name="Прямая со стрелкой 25"/>
          <p:cNvCxnSpPr/>
          <p:nvPr/>
        </p:nvCxnSpPr>
        <p:spPr>
          <a:xfrm>
            <a:off x="1118880" y="2049480"/>
            <a:ext cx="857880" cy="216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584" name="Прямая со стрелкой 32"/>
          <p:cNvCxnSpPr/>
          <p:nvPr/>
        </p:nvCxnSpPr>
        <p:spPr>
          <a:xfrm>
            <a:off x="1142640" y="5285880"/>
            <a:ext cx="857880" cy="252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585" name="Прямая со стрелкой 33"/>
          <p:cNvCxnSpPr/>
          <p:nvPr/>
        </p:nvCxnSpPr>
        <p:spPr>
          <a:xfrm>
            <a:off x="1214280" y="4142880"/>
            <a:ext cx="858240" cy="252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586" name="Прямая со стрелкой 34"/>
          <p:cNvCxnSpPr/>
          <p:nvPr/>
        </p:nvCxnSpPr>
        <p:spPr>
          <a:xfrm>
            <a:off x="1149120" y="3087720"/>
            <a:ext cx="857880" cy="216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587" name="Овал 35"/>
          <p:cNvSpPr/>
          <p:nvPr/>
        </p:nvSpPr>
        <p:spPr>
          <a:xfrm>
            <a:off x="571680" y="3857760"/>
            <a:ext cx="642600" cy="642960"/>
          </a:xfrm>
          <a:prstGeom prst="ellipse">
            <a:avLst/>
          </a:prstGeom>
          <a:solidFill>
            <a:srgbClr val="35f226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Овал 36"/>
          <p:cNvSpPr/>
          <p:nvPr/>
        </p:nvSpPr>
        <p:spPr>
          <a:xfrm>
            <a:off x="571680" y="1714680"/>
            <a:ext cx="642600" cy="642600"/>
          </a:xfrm>
          <a:prstGeom prst="ellipse">
            <a:avLst/>
          </a:prstGeom>
          <a:solidFill>
            <a:srgbClr val="35f226"/>
          </a:solidFill>
          <a:ln w="25560">
            <a:solidFill>
              <a:srgbClr val="efeb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Овал 37"/>
          <p:cNvSpPr/>
          <p:nvPr/>
        </p:nvSpPr>
        <p:spPr>
          <a:xfrm>
            <a:off x="7729560" y="1747800"/>
            <a:ext cx="642960" cy="642960"/>
          </a:xfrm>
          <a:prstGeom prst="ellipse">
            <a:avLst/>
          </a:prstGeom>
          <a:solidFill>
            <a:srgbClr val="35f226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Овал 38"/>
          <p:cNvSpPr/>
          <p:nvPr/>
        </p:nvSpPr>
        <p:spPr>
          <a:xfrm>
            <a:off x="555480" y="2757600"/>
            <a:ext cx="652680" cy="642960"/>
          </a:xfrm>
          <a:prstGeom prst="ellipse">
            <a:avLst/>
          </a:prstGeom>
          <a:solidFill>
            <a:srgbClr val="35f226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Овал 40"/>
          <p:cNvSpPr/>
          <p:nvPr/>
        </p:nvSpPr>
        <p:spPr>
          <a:xfrm>
            <a:off x="7737480" y="3846600"/>
            <a:ext cx="642960" cy="642960"/>
          </a:xfrm>
          <a:prstGeom prst="ellipse">
            <a:avLst/>
          </a:prstGeom>
          <a:solidFill>
            <a:srgbClr val="35f226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Овал 41"/>
          <p:cNvSpPr/>
          <p:nvPr/>
        </p:nvSpPr>
        <p:spPr>
          <a:xfrm>
            <a:off x="7732800" y="4929120"/>
            <a:ext cx="642960" cy="642960"/>
          </a:xfrm>
          <a:prstGeom prst="ellipse">
            <a:avLst/>
          </a:prstGeom>
          <a:solidFill>
            <a:srgbClr val="35f226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Овал 42"/>
          <p:cNvSpPr/>
          <p:nvPr/>
        </p:nvSpPr>
        <p:spPr>
          <a:xfrm>
            <a:off x="571680" y="5000760"/>
            <a:ext cx="652320" cy="642960"/>
          </a:xfrm>
          <a:prstGeom prst="ellipse">
            <a:avLst/>
          </a:prstGeom>
          <a:solidFill>
            <a:srgbClr val="35f226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Ромб 43"/>
          <p:cNvSpPr/>
          <p:nvPr/>
        </p:nvSpPr>
        <p:spPr>
          <a:xfrm>
            <a:off x="3824280" y="3924360"/>
            <a:ext cx="1000080" cy="500040"/>
          </a:xfrm>
          <a:prstGeom prst="diamond">
            <a:avLst/>
          </a:prstGeom>
          <a:solidFill>
            <a:srgbClr val="ffff00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Ромб 44"/>
          <p:cNvSpPr/>
          <p:nvPr/>
        </p:nvSpPr>
        <p:spPr>
          <a:xfrm>
            <a:off x="2009880" y="5033880"/>
            <a:ext cx="914400" cy="500040"/>
          </a:xfrm>
          <a:prstGeom prst="diamond">
            <a:avLst/>
          </a:prstGeom>
          <a:solidFill>
            <a:srgbClr val="ffff00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Ромб 45"/>
          <p:cNvSpPr/>
          <p:nvPr/>
        </p:nvSpPr>
        <p:spPr>
          <a:xfrm>
            <a:off x="2049480" y="3898800"/>
            <a:ext cx="879480" cy="530280"/>
          </a:xfrm>
          <a:prstGeom prst="diamond">
            <a:avLst/>
          </a:prstGeom>
          <a:solidFill>
            <a:srgbClr val="ffff00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Ромб 46"/>
          <p:cNvSpPr/>
          <p:nvPr/>
        </p:nvSpPr>
        <p:spPr>
          <a:xfrm>
            <a:off x="1982880" y="2819520"/>
            <a:ext cx="946080" cy="538200"/>
          </a:xfrm>
          <a:prstGeom prst="diamond">
            <a:avLst/>
          </a:prstGeom>
          <a:solidFill>
            <a:srgbClr val="ffff00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8" name="Прямая со стрелкой 48"/>
          <p:cNvCxnSpPr/>
          <p:nvPr/>
        </p:nvCxnSpPr>
        <p:spPr>
          <a:xfrm>
            <a:off x="2857680" y="2033640"/>
            <a:ext cx="1000800" cy="216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599" name="Прямая со стрелкой 54"/>
          <p:cNvCxnSpPr/>
          <p:nvPr/>
        </p:nvCxnSpPr>
        <p:spPr>
          <a:xfrm>
            <a:off x="6724800" y="5270040"/>
            <a:ext cx="1000800" cy="252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600" name="Прямая со стрелкой 55"/>
          <p:cNvCxnSpPr/>
          <p:nvPr/>
        </p:nvCxnSpPr>
        <p:spPr>
          <a:xfrm>
            <a:off x="6730920" y="4206960"/>
            <a:ext cx="1000800" cy="216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601" name="Прямая со стрелкой 56"/>
          <p:cNvCxnSpPr/>
          <p:nvPr/>
        </p:nvCxnSpPr>
        <p:spPr>
          <a:xfrm>
            <a:off x="6730920" y="3129120"/>
            <a:ext cx="1000800" cy="216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602" name="Прямая со стрелкой 57"/>
          <p:cNvCxnSpPr/>
          <p:nvPr/>
        </p:nvCxnSpPr>
        <p:spPr>
          <a:xfrm>
            <a:off x="6723000" y="2082960"/>
            <a:ext cx="1000800" cy="216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603" name="Прямая со стрелкой 58"/>
          <p:cNvCxnSpPr>
            <a:stCxn id="595" idx="3"/>
            <a:endCxn id="604" idx="1"/>
          </p:cNvCxnSpPr>
          <p:nvPr/>
        </p:nvCxnSpPr>
        <p:spPr>
          <a:xfrm>
            <a:off x="2923920" y="5284800"/>
            <a:ext cx="943560" cy="216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605" name="Прямая со стрелкой 59"/>
          <p:cNvCxnSpPr>
            <a:stCxn id="596" idx="3"/>
            <a:endCxn id="594" idx="1"/>
          </p:cNvCxnSpPr>
          <p:nvPr/>
        </p:nvCxnSpPr>
        <p:spPr>
          <a:xfrm>
            <a:off x="2928600" y="4163760"/>
            <a:ext cx="896040" cy="1188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606" name="Прямая со стрелкой 60"/>
          <p:cNvCxnSpPr/>
          <p:nvPr/>
        </p:nvCxnSpPr>
        <p:spPr>
          <a:xfrm>
            <a:off x="2873520" y="3090960"/>
            <a:ext cx="1000800" cy="216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607" name="Ромб 61"/>
          <p:cNvSpPr/>
          <p:nvPr/>
        </p:nvSpPr>
        <p:spPr>
          <a:xfrm>
            <a:off x="3873600" y="2876400"/>
            <a:ext cx="914400" cy="500040"/>
          </a:xfrm>
          <a:prstGeom prst="diamond">
            <a:avLst/>
          </a:prstGeom>
          <a:solidFill>
            <a:srgbClr val="ffff00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Ромб 63"/>
          <p:cNvSpPr/>
          <p:nvPr/>
        </p:nvSpPr>
        <p:spPr>
          <a:xfrm>
            <a:off x="3865680" y="1803240"/>
            <a:ext cx="914400" cy="500400"/>
          </a:xfrm>
          <a:prstGeom prst="diamond">
            <a:avLst/>
          </a:prstGeom>
          <a:solidFill>
            <a:srgbClr val="ffff00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Ромб 64"/>
          <p:cNvSpPr/>
          <p:nvPr/>
        </p:nvSpPr>
        <p:spPr>
          <a:xfrm>
            <a:off x="5811840" y="2881440"/>
            <a:ext cx="914400" cy="500040"/>
          </a:xfrm>
          <a:prstGeom prst="diamond">
            <a:avLst/>
          </a:prstGeom>
          <a:solidFill>
            <a:srgbClr val="ffff00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Ромб 65"/>
          <p:cNvSpPr/>
          <p:nvPr/>
        </p:nvSpPr>
        <p:spPr>
          <a:xfrm>
            <a:off x="5803920" y="1824120"/>
            <a:ext cx="914400" cy="500040"/>
          </a:xfrm>
          <a:prstGeom prst="diamond">
            <a:avLst/>
          </a:prstGeom>
          <a:solidFill>
            <a:srgbClr val="ffff00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Ромб 66"/>
          <p:cNvSpPr/>
          <p:nvPr/>
        </p:nvSpPr>
        <p:spPr>
          <a:xfrm>
            <a:off x="5816520" y="3962520"/>
            <a:ext cx="914400" cy="500040"/>
          </a:xfrm>
          <a:prstGeom prst="diamond">
            <a:avLst/>
          </a:prstGeom>
          <a:solidFill>
            <a:srgbClr val="ffff00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Ромб 67"/>
          <p:cNvSpPr/>
          <p:nvPr/>
        </p:nvSpPr>
        <p:spPr>
          <a:xfrm>
            <a:off x="3867120" y="5033880"/>
            <a:ext cx="914400" cy="500040"/>
          </a:xfrm>
          <a:prstGeom prst="diamond">
            <a:avLst/>
          </a:prstGeom>
          <a:solidFill>
            <a:srgbClr val="ffff00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Ромб 68"/>
          <p:cNvSpPr/>
          <p:nvPr/>
        </p:nvSpPr>
        <p:spPr>
          <a:xfrm>
            <a:off x="5796000" y="5033880"/>
            <a:ext cx="914400" cy="500040"/>
          </a:xfrm>
          <a:prstGeom prst="diamond">
            <a:avLst/>
          </a:prstGeom>
          <a:solidFill>
            <a:srgbClr val="ffff00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3" name="Прямая со стрелкой 69"/>
          <p:cNvCxnSpPr/>
          <p:nvPr/>
        </p:nvCxnSpPr>
        <p:spPr>
          <a:xfrm>
            <a:off x="4794120" y="2050560"/>
            <a:ext cx="1000800" cy="252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614" name="Прямая со стрелкой 70"/>
          <p:cNvCxnSpPr/>
          <p:nvPr/>
        </p:nvCxnSpPr>
        <p:spPr>
          <a:xfrm>
            <a:off x="4801680" y="3129120"/>
            <a:ext cx="1001160" cy="216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615" name="Прямая со стрелкой 71"/>
          <p:cNvCxnSpPr/>
          <p:nvPr/>
        </p:nvCxnSpPr>
        <p:spPr>
          <a:xfrm>
            <a:off x="4801680" y="4199040"/>
            <a:ext cx="1001160" cy="216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616" name="Прямая со стрелкой 72"/>
          <p:cNvCxnSpPr/>
          <p:nvPr/>
        </p:nvCxnSpPr>
        <p:spPr>
          <a:xfrm>
            <a:off x="4795920" y="5270040"/>
            <a:ext cx="1000800" cy="252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617" name="Rectangle 2"/>
          <p:cNvSpPr/>
          <p:nvPr/>
        </p:nvSpPr>
        <p:spPr>
          <a:xfrm>
            <a:off x="0" y="360"/>
            <a:ext cx="36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5"/>
          <p:cNvSpPr/>
          <p:nvPr/>
        </p:nvSpPr>
        <p:spPr>
          <a:xfrm>
            <a:off x="5400" y="3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6"/>
          <p:cNvSpPr/>
          <p:nvPr/>
        </p:nvSpPr>
        <p:spPr>
          <a:xfrm>
            <a:off x="4367160" y="212400"/>
            <a:ext cx="40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3"/>
          <p:cNvSpPr/>
          <p:nvPr/>
        </p:nvSpPr>
        <p:spPr>
          <a:xfrm>
            <a:off x="4465440" y="26568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3222720" y="1568880"/>
            <a:ext cx="14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6"/>
          <p:cNvSpPr/>
          <p:nvPr/>
        </p:nvSpPr>
        <p:spPr>
          <a:xfrm>
            <a:off x="4465440" y="26568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9"/>
          <p:cNvSpPr/>
          <p:nvPr/>
        </p:nvSpPr>
        <p:spPr>
          <a:xfrm>
            <a:off x="4465440" y="26568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53"/>
          <p:cNvSpPr/>
          <p:nvPr/>
        </p:nvSpPr>
        <p:spPr>
          <a:xfrm>
            <a:off x="733320" y="1779480"/>
            <a:ext cx="28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Lucida Sans Unicode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Ромб 62"/>
          <p:cNvSpPr/>
          <p:nvPr/>
        </p:nvSpPr>
        <p:spPr>
          <a:xfrm>
            <a:off x="1986120" y="1785960"/>
            <a:ext cx="928440" cy="500040"/>
          </a:xfrm>
          <a:prstGeom prst="diamond">
            <a:avLst/>
          </a:prstGeom>
          <a:solidFill>
            <a:srgbClr val="ffff00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73"/>
          <p:cNvSpPr/>
          <p:nvPr/>
        </p:nvSpPr>
        <p:spPr>
          <a:xfrm>
            <a:off x="2270160" y="188280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74"/>
          <p:cNvSpPr/>
          <p:nvPr/>
        </p:nvSpPr>
        <p:spPr>
          <a:xfrm>
            <a:off x="4162320" y="191124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75"/>
          <p:cNvSpPr/>
          <p:nvPr/>
        </p:nvSpPr>
        <p:spPr>
          <a:xfrm>
            <a:off x="3294000" y="1496880"/>
            <a:ext cx="28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Lucida Sans Unicode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76"/>
          <p:cNvSpPr/>
          <p:nvPr/>
        </p:nvSpPr>
        <p:spPr>
          <a:xfrm>
            <a:off x="1374840" y="1719360"/>
            <a:ext cx="4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Lucida Sans Unicode"/>
              </a:rPr>
              <a:t>х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77"/>
          <p:cNvSpPr/>
          <p:nvPr/>
        </p:nvSpPr>
        <p:spPr>
          <a:xfrm>
            <a:off x="5119560" y="1538280"/>
            <a:ext cx="28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Lucida Sans Unicode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5"/>
          <p:cNvSpPr/>
          <p:nvPr/>
        </p:nvSpPr>
        <p:spPr>
          <a:xfrm>
            <a:off x="4976640" y="1681560"/>
            <a:ext cx="2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Группа 132"/>
          <p:cNvGrpSpPr/>
          <p:nvPr/>
        </p:nvGrpSpPr>
        <p:grpSpPr>
          <a:xfrm>
            <a:off x="6008760" y="1795320"/>
            <a:ext cx="395280" cy="580680"/>
            <a:chOff x="6008760" y="1795320"/>
            <a:chExt cx="395280" cy="580680"/>
          </a:xfrm>
        </p:grpSpPr>
        <p:sp>
          <p:nvSpPr>
            <p:cNvPr id="634" name="TextBox 78"/>
            <p:cNvSpPr/>
            <p:nvPr/>
          </p:nvSpPr>
          <p:spPr>
            <a:xfrm>
              <a:off x="6118200" y="1795320"/>
              <a:ext cx="285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 u="sng">
                  <a:solidFill>
                    <a:srgbClr val="000000"/>
                  </a:solidFill>
                  <a:uFillTx/>
                  <a:latin typeface="Lucida Sans Unicode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Lucida Sans Unicode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5"/>
            <p:cNvSpPr/>
            <p:nvPr/>
          </p:nvSpPr>
          <p:spPr>
            <a:xfrm>
              <a:off x="6008760" y="1900080"/>
              <a:ext cx="21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TextBox 81"/>
          <p:cNvSpPr/>
          <p:nvPr/>
        </p:nvSpPr>
        <p:spPr>
          <a:xfrm>
            <a:off x="7027920" y="1785960"/>
            <a:ext cx="4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Lucida Sans Unicode"/>
              </a:rPr>
              <a:t>х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83"/>
          <p:cNvSpPr/>
          <p:nvPr/>
        </p:nvSpPr>
        <p:spPr>
          <a:xfrm>
            <a:off x="7824960" y="1928880"/>
            <a:ext cx="5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Овал 84"/>
          <p:cNvSpPr/>
          <p:nvPr/>
        </p:nvSpPr>
        <p:spPr>
          <a:xfrm>
            <a:off x="7750080" y="2771640"/>
            <a:ext cx="642960" cy="642960"/>
          </a:xfrm>
          <a:prstGeom prst="ellipse">
            <a:avLst/>
          </a:prstGeom>
          <a:solidFill>
            <a:srgbClr val="35f226"/>
          </a:solidFill>
          <a:ln w="25560">
            <a:solidFill>
              <a:srgbClr val="b0ad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85"/>
          <p:cNvSpPr/>
          <p:nvPr/>
        </p:nvSpPr>
        <p:spPr>
          <a:xfrm>
            <a:off x="7840800" y="2952720"/>
            <a:ext cx="5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Box 86"/>
          <p:cNvSpPr/>
          <p:nvPr/>
        </p:nvSpPr>
        <p:spPr>
          <a:xfrm>
            <a:off x="746280" y="2809800"/>
            <a:ext cx="28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Lucida Sans Unicode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87"/>
          <p:cNvSpPr/>
          <p:nvPr/>
        </p:nvSpPr>
        <p:spPr>
          <a:xfrm>
            <a:off x="747720" y="3900600"/>
            <a:ext cx="28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Lucida Sans Unicode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89"/>
          <p:cNvSpPr/>
          <p:nvPr/>
        </p:nvSpPr>
        <p:spPr>
          <a:xfrm>
            <a:off x="4183200" y="2967120"/>
            <a:ext cx="28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Группа 133"/>
          <p:cNvGrpSpPr/>
          <p:nvPr/>
        </p:nvGrpSpPr>
        <p:grpSpPr>
          <a:xfrm>
            <a:off x="2168640" y="2786040"/>
            <a:ext cx="414360" cy="580680"/>
            <a:chOff x="2168640" y="2786040"/>
            <a:chExt cx="414360" cy="580680"/>
          </a:xfrm>
        </p:grpSpPr>
        <p:sp>
          <p:nvSpPr>
            <p:cNvPr id="644" name="TextBox 88"/>
            <p:cNvSpPr/>
            <p:nvPr/>
          </p:nvSpPr>
          <p:spPr>
            <a:xfrm>
              <a:off x="2297160" y="2786040"/>
              <a:ext cx="285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 u="sng">
                  <a:solidFill>
                    <a:srgbClr val="000000"/>
                  </a:solidFill>
                  <a:uFillTx/>
                  <a:latin typeface="Lucida Sans Unicode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Lucida Sans Unicode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Box 90"/>
            <p:cNvSpPr/>
            <p:nvPr/>
          </p:nvSpPr>
          <p:spPr>
            <a:xfrm>
              <a:off x="2168640" y="289044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Lucida Sans Unicode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5"/>
          <p:cNvSpPr/>
          <p:nvPr/>
        </p:nvSpPr>
        <p:spPr>
          <a:xfrm>
            <a:off x="1461960" y="2624400"/>
            <a:ext cx="14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92"/>
          <p:cNvSpPr/>
          <p:nvPr/>
        </p:nvSpPr>
        <p:spPr>
          <a:xfrm>
            <a:off x="1533600" y="2552760"/>
            <a:ext cx="28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Lucida Sans Unicode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5"/>
          <p:cNvSpPr/>
          <p:nvPr/>
        </p:nvSpPr>
        <p:spPr>
          <a:xfrm>
            <a:off x="1467000" y="3767400"/>
            <a:ext cx="14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94"/>
          <p:cNvSpPr/>
          <p:nvPr/>
        </p:nvSpPr>
        <p:spPr>
          <a:xfrm>
            <a:off x="1538280" y="379584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95"/>
          <p:cNvSpPr/>
          <p:nvPr/>
        </p:nvSpPr>
        <p:spPr>
          <a:xfrm>
            <a:off x="2278080" y="3879720"/>
            <a:ext cx="4287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Lucida Sans Unicode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96"/>
          <p:cNvSpPr/>
          <p:nvPr/>
        </p:nvSpPr>
        <p:spPr>
          <a:xfrm>
            <a:off x="4172040" y="3900600"/>
            <a:ext cx="28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Lucida Sans Unicode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97"/>
          <p:cNvSpPr/>
          <p:nvPr/>
        </p:nvSpPr>
        <p:spPr>
          <a:xfrm>
            <a:off x="3373560" y="2519280"/>
            <a:ext cx="28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Lucida Sans Unicode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5"/>
          <p:cNvSpPr/>
          <p:nvPr/>
        </p:nvSpPr>
        <p:spPr>
          <a:xfrm>
            <a:off x="3230640" y="2662560"/>
            <a:ext cx="21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5"/>
          <p:cNvSpPr/>
          <p:nvPr/>
        </p:nvSpPr>
        <p:spPr>
          <a:xfrm>
            <a:off x="3192480" y="3704760"/>
            <a:ext cx="14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100"/>
          <p:cNvSpPr/>
          <p:nvPr/>
        </p:nvSpPr>
        <p:spPr>
          <a:xfrm>
            <a:off x="3263760" y="3632040"/>
            <a:ext cx="28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Lucida Sans Unicode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Box 101"/>
          <p:cNvSpPr/>
          <p:nvPr/>
        </p:nvSpPr>
        <p:spPr>
          <a:xfrm>
            <a:off x="5173560" y="2619360"/>
            <a:ext cx="28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Lucida Sans Unicode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5"/>
          <p:cNvSpPr/>
          <p:nvPr/>
        </p:nvSpPr>
        <p:spPr>
          <a:xfrm>
            <a:off x="5025960" y="2691000"/>
            <a:ext cx="21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Группа 134"/>
          <p:cNvGrpSpPr/>
          <p:nvPr/>
        </p:nvGrpSpPr>
        <p:grpSpPr>
          <a:xfrm>
            <a:off x="6021360" y="2867040"/>
            <a:ext cx="395280" cy="580680"/>
            <a:chOff x="6021360" y="2867040"/>
            <a:chExt cx="395280" cy="580680"/>
          </a:xfrm>
        </p:grpSpPr>
        <p:sp>
          <p:nvSpPr>
            <p:cNvPr id="659" name="TextBox 103"/>
            <p:cNvSpPr/>
            <p:nvPr/>
          </p:nvSpPr>
          <p:spPr>
            <a:xfrm>
              <a:off x="6130800" y="2867040"/>
              <a:ext cx="285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 u="sng">
                  <a:solidFill>
                    <a:srgbClr val="000000"/>
                  </a:solidFill>
                  <a:uFillTx/>
                  <a:latin typeface="Lucida Sans Unicode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Lucida Sans Unicode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5"/>
            <p:cNvSpPr/>
            <p:nvPr/>
          </p:nvSpPr>
          <p:spPr>
            <a:xfrm>
              <a:off x="6021360" y="2971800"/>
              <a:ext cx="21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TextBox 105"/>
          <p:cNvSpPr/>
          <p:nvPr/>
        </p:nvSpPr>
        <p:spPr>
          <a:xfrm>
            <a:off x="7002360" y="281448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Lucida Sans Unicode"/>
              </a:rPr>
              <a:t>х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106"/>
          <p:cNvSpPr/>
          <p:nvPr/>
        </p:nvSpPr>
        <p:spPr>
          <a:xfrm>
            <a:off x="5191200" y="3710160"/>
            <a:ext cx="28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Lucida Sans Unicode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5"/>
          <p:cNvSpPr/>
          <p:nvPr/>
        </p:nvSpPr>
        <p:spPr>
          <a:xfrm>
            <a:off x="5043600" y="3781800"/>
            <a:ext cx="21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108"/>
          <p:cNvSpPr/>
          <p:nvPr/>
        </p:nvSpPr>
        <p:spPr>
          <a:xfrm>
            <a:off x="6121440" y="3943440"/>
            <a:ext cx="28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Lucida Sans Unicode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110"/>
          <p:cNvSpPr/>
          <p:nvPr/>
        </p:nvSpPr>
        <p:spPr>
          <a:xfrm>
            <a:off x="7089840" y="3714840"/>
            <a:ext cx="28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Lucida Sans Unicode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5"/>
          <p:cNvSpPr/>
          <p:nvPr/>
        </p:nvSpPr>
        <p:spPr>
          <a:xfrm>
            <a:off x="6961320" y="38098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112"/>
          <p:cNvSpPr/>
          <p:nvPr/>
        </p:nvSpPr>
        <p:spPr>
          <a:xfrm>
            <a:off x="7826400" y="3908520"/>
            <a:ext cx="48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Lucida Sans Unicode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113"/>
          <p:cNvSpPr/>
          <p:nvPr/>
        </p:nvSpPr>
        <p:spPr>
          <a:xfrm>
            <a:off x="785880" y="5072040"/>
            <a:ext cx="28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Lucida Sans Unicode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114"/>
          <p:cNvSpPr/>
          <p:nvPr/>
        </p:nvSpPr>
        <p:spPr>
          <a:xfrm>
            <a:off x="657360" y="5176800"/>
            <a:ext cx="28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1428840" y="4858200"/>
            <a:ext cx="14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Box 116"/>
          <p:cNvSpPr/>
          <p:nvPr/>
        </p:nvSpPr>
        <p:spPr>
          <a:xfrm>
            <a:off x="1500120" y="4786200"/>
            <a:ext cx="28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Lucida Sans Unicode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117"/>
          <p:cNvSpPr/>
          <p:nvPr/>
        </p:nvSpPr>
        <p:spPr>
          <a:xfrm>
            <a:off x="2314440" y="511956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5"/>
          <p:cNvSpPr/>
          <p:nvPr/>
        </p:nvSpPr>
        <p:spPr>
          <a:xfrm>
            <a:off x="3191040" y="4910400"/>
            <a:ext cx="14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119"/>
          <p:cNvSpPr/>
          <p:nvPr/>
        </p:nvSpPr>
        <p:spPr>
          <a:xfrm>
            <a:off x="3262320" y="4938840"/>
            <a:ext cx="2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120"/>
          <p:cNvSpPr/>
          <p:nvPr/>
        </p:nvSpPr>
        <p:spPr>
          <a:xfrm>
            <a:off x="4172040" y="5010120"/>
            <a:ext cx="28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Lucida Sans Unicode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121"/>
          <p:cNvSpPr/>
          <p:nvPr/>
        </p:nvSpPr>
        <p:spPr>
          <a:xfrm>
            <a:off x="5153040" y="4748040"/>
            <a:ext cx="28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Lucida Sans Unicode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5"/>
          <p:cNvSpPr/>
          <p:nvPr/>
        </p:nvSpPr>
        <p:spPr>
          <a:xfrm>
            <a:off x="5005440" y="4820040"/>
            <a:ext cx="21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23"/>
          <p:cNvSpPr/>
          <p:nvPr/>
        </p:nvSpPr>
        <p:spPr>
          <a:xfrm>
            <a:off x="6097680" y="5143680"/>
            <a:ext cx="28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5"/>
          <p:cNvSpPr/>
          <p:nvPr/>
        </p:nvSpPr>
        <p:spPr>
          <a:xfrm>
            <a:off x="6996240" y="4781880"/>
            <a:ext cx="14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25"/>
          <p:cNvSpPr/>
          <p:nvPr/>
        </p:nvSpPr>
        <p:spPr>
          <a:xfrm>
            <a:off x="7024680" y="4710240"/>
            <a:ext cx="5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Lucida Sans Unicode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Группа 135"/>
          <p:cNvGrpSpPr/>
          <p:nvPr/>
        </p:nvGrpSpPr>
        <p:grpSpPr>
          <a:xfrm>
            <a:off x="7818480" y="4976640"/>
            <a:ext cx="395280" cy="580680"/>
            <a:chOff x="7818480" y="4976640"/>
            <a:chExt cx="395280" cy="580680"/>
          </a:xfrm>
        </p:grpSpPr>
        <p:sp>
          <p:nvSpPr>
            <p:cNvPr id="682" name="TextBox 126"/>
            <p:cNvSpPr/>
            <p:nvPr/>
          </p:nvSpPr>
          <p:spPr>
            <a:xfrm>
              <a:off x="7927920" y="4976640"/>
              <a:ext cx="285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 u="sng">
                  <a:solidFill>
                    <a:srgbClr val="000000"/>
                  </a:solidFill>
                  <a:uFillTx/>
                  <a:latin typeface="Lucida Sans Unicode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Lucida Sans Unicode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5"/>
            <p:cNvSpPr/>
            <p:nvPr/>
          </p:nvSpPr>
          <p:spPr>
            <a:xfrm>
              <a:off x="7818480" y="5081400"/>
              <a:ext cx="21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ru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ошибку : (работа в парах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Picture 8" descr=""/>
          <p:cNvPicPr/>
          <p:nvPr/>
        </p:nvPicPr>
        <p:blipFill>
          <a:blip r:embed="rId1"/>
          <a:stretch/>
        </p:blipFill>
        <p:spPr>
          <a:xfrm>
            <a:off x="1554120" y="955800"/>
            <a:ext cx="5329440" cy="51879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оверка домашнего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Picture 4" descr=""/>
          <p:cNvPicPr/>
          <p:nvPr/>
        </p:nvPicPr>
        <p:blipFill>
          <a:blip r:embed="rId1"/>
          <a:stretch/>
        </p:blipFill>
        <p:spPr>
          <a:xfrm>
            <a:off x="861840" y="1236600"/>
            <a:ext cx="7939440" cy="143352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5" descr=""/>
          <p:cNvPicPr/>
          <p:nvPr/>
        </p:nvPicPr>
        <p:blipFill>
          <a:blip r:embed="rId2"/>
          <a:stretch/>
        </p:blipFill>
        <p:spPr>
          <a:xfrm>
            <a:off x="871560" y="2673360"/>
            <a:ext cx="7912080" cy="2025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09640" y="296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авьте себе оценку за домашнюю работу на полях тетради по следующей шкале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-1 ошибка – «5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-3 ошибки  - «4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-5 ошибок – «3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и более –    «2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01720" y="1599840"/>
            <a:ext cx="82296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Picture 4" descr=""/>
          <p:cNvPicPr/>
          <p:nvPr/>
        </p:nvPicPr>
        <p:blipFill>
          <a:blip r:embed="rId1"/>
          <a:stretch/>
        </p:blipFill>
        <p:spPr>
          <a:xfrm>
            <a:off x="858960" y="990720"/>
            <a:ext cx="7821360" cy="1117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Заголовок 8" descr=""/>
          <p:cNvPicPr/>
          <p:nvPr/>
        </p:nvPicPr>
        <p:blipFill>
          <a:blip r:embed="rId1"/>
          <a:stretch/>
        </p:blipFill>
        <p:spPr>
          <a:xfrm>
            <a:off x="353880" y="195120"/>
            <a:ext cx="8783640" cy="168912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3" descr=""/>
          <p:cNvPicPr/>
          <p:nvPr/>
        </p:nvPicPr>
        <p:blipFill>
          <a:blip r:embed="rId2"/>
          <a:srcRect l="0" t="0" r="0" b="4222"/>
          <a:stretch/>
        </p:blipFill>
        <p:spPr>
          <a:xfrm>
            <a:off x="2928960" y="1928880"/>
            <a:ext cx="3421080" cy="46432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0:35:24Z</dcterms:created>
  <dc:creator>1</dc:creator>
  <dc:description/>
  <dc:language>en-US</dc:language>
  <cp:lastModifiedBy>PC</cp:lastModifiedBy>
  <dcterms:modified xsi:type="dcterms:W3CDTF">2025-11-10T19:26:43Z</dcterms:modified>
  <cp:revision>53</cp:revision>
  <dc:subject/>
  <dc:title>Слайд 1</dc:title>
</cp:coreProperties>
</file>