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41.jpeg" ContentType="image/jpeg"/>
  <Override PartName="/ppt/media/image43.jpeg" ContentType="image/jpeg"/>
  <Override PartName="/ppt/media/image45.png" ContentType="image/png"/>
  <Override PartName="/ppt/media/image44.jpeg" ContentType="image/jpeg"/>
  <Override PartName="/ppt/media/image38.jpeg" ContentType="image/jpeg"/>
  <Override PartName="/ppt/media/image46.png" ContentType="image/png"/>
  <Override PartName="/ppt/media/image32.jpeg" ContentType="image/jpeg"/>
  <Override PartName="/ppt/media/image49.jpeg" ContentType="image/jpeg"/>
  <Override PartName="/ppt/media/image51.png" ContentType="image/png"/>
  <Override PartName="/ppt/media/image34.jpeg" ContentType="image/jpeg"/>
  <Override PartName="/ppt/media/image7.png" ContentType="image/png"/>
  <Override PartName="/ppt/media/image22.jpeg" ContentType="image/jpeg"/>
  <Override PartName="/ppt/media/image39.png" ContentType="image/png"/>
  <Override PartName="/ppt/media/image10.png" ContentType="image/png"/>
  <Override PartName="/ppt/media/image47.png" ContentType="image/png"/>
  <Override PartName="/ppt/media/image1.jpeg" ContentType="image/jpeg"/>
  <Override PartName="/ppt/media/image35.jpeg" ContentType="image/jpeg"/>
  <Override PartName="/ppt/media/image5.jpeg" ContentType="image/jpeg"/>
  <Override PartName="/ppt/media/image50.png" ContentType="image/png"/>
  <Override PartName="/ppt/media/image26.jpeg" ContentType="image/jpeg"/>
  <Override PartName="/ppt/media/image42.png" ContentType="image/png"/>
  <Override PartName="/ppt/media/image40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9B31-E6BD-482A-800F-80A3EA15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DA6B-E517-4105-A75D-A375CFFF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BEAA-EA00-4BCC-A840-EEB621D12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1E7B-158C-45C9-BCDA-B25439A96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DCC0-1A25-4C35-9DEB-46640AC50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D424-F002-452B-8224-5B3E244B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8C62-46CC-4EEC-90B9-DCA002DD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F645-32CB-4CBD-8211-0AC103B4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DC4E-C28F-4E9C-B0B0-F8512052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3053-E1C0-4E0E-9624-F69FAC15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0C66-87DB-4C8A-A2F9-27446A50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C2DE-C05F-4EDE-AF1A-16D4DA6A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140C-0879-42B8-9F97-0AF5C6D4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0BF6-31CD-4574-AEB0-078D3CCF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A08D-CF9F-4B4C-9D7D-5B529890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D474-BB57-4EB2-BBF2-0764B42E3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DCBC-D958-4FFF-A16D-8F40D0CD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CCD5-7166-4B9E-9121-892DDECC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F058-3423-427D-9F7D-8F05975B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1CDE-D513-4810-9D80-981C5735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43FE-90BF-4FEA-9288-BE917703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FFD6-10C8-472B-A3EF-05613D79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35E0-0FB4-47C8-80F3-53A368EE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4A78-93D9-4E74-A974-CAF21850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0FDC-EC36-4D57-BA09-397C9893659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CF77-971D-4DB3-AA09-1D72A0A61AB7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20840" y="695160"/>
            <a:ext cx="8326440" cy="25052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7" descr="Прогулка по набережной в Лимерике"/>
          <p:cNvPicPr/>
          <p:nvPr/>
        </p:nvPicPr>
        <p:blipFill>
          <a:blip r:embed="rId2"/>
          <a:stretch/>
        </p:blipFill>
        <p:spPr>
          <a:xfrm>
            <a:off x="5429160" y="428616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http://s019.radikal.ru/i603/1308/ed/52a68d606621.gif"/>
          <p:cNvPicPr/>
          <p:nvPr/>
        </p:nvPicPr>
        <p:blipFill>
          <a:blip r:embed="rId3"/>
          <a:stretch/>
        </p:blipFill>
        <p:spPr>
          <a:xfrm>
            <a:off x="214200" y="4286160"/>
            <a:ext cx="378648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119" name="Содержимое 4" descr="э Лир.jpg"/>
          <p:cNvPicPr/>
          <p:nvPr/>
        </p:nvPicPr>
        <p:blipFill>
          <a:blip r:embed="rId2"/>
          <a:stretch/>
        </p:blipFill>
        <p:spPr>
          <a:xfrm>
            <a:off x="6804000" y="333360"/>
            <a:ext cx="1833480" cy="2900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0" name=""/>
          <p:cNvSpPr txBox="1"/>
          <p:nvPr/>
        </p:nvSpPr>
        <p:spPr>
          <a:xfrm>
            <a:off x="179280" y="1341360"/>
            <a:ext cx="4321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Лиру исполнилось 18 лет, Зоологическое общество заказало ему нарисовать большую коллекцию попугаев, собранную в Ридженс-парке. Рисунки с изображением птиц были выполнены с большой точностью и тонкостью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15" descr="http://yafanat.ru/published/publicdata/YAFANATYF/attachments/SC/products_pictures/1001399828.jpg"/>
          <p:cNvPicPr/>
          <p:nvPr/>
        </p:nvPicPr>
        <p:blipFill>
          <a:blip r:embed="rId3"/>
          <a:stretch/>
        </p:blipFill>
        <p:spPr>
          <a:xfrm>
            <a:off x="4429080" y="1714680"/>
            <a:ext cx="2428920" cy="2428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7" descr="http://www.audubonhouse.org/images/Lear_Large/lea_1153.jpg"/>
          <p:cNvPicPr/>
          <p:nvPr/>
        </p:nvPicPr>
        <p:blipFill>
          <a:blip r:embed="rId4"/>
          <a:stretch/>
        </p:blipFill>
        <p:spPr>
          <a:xfrm>
            <a:off x="6500880" y="3286080"/>
            <a:ext cx="2338200" cy="3424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3" descr="http://www.theslideprojector.com/images/21stcentury/ford/dyingwords.jpg"/>
          <p:cNvPicPr/>
          <p:nvPr/>
        </p:nvPicPr>
        <p:blipFill>
          <a:blip r:embed="rId5"/>
          <a:stretch/>
        </p:blipFill>
        <p:spPr>
          <a:xfrm>
            <a:off x="4071960" y="4286160"/>
            <a:ext cx="3000240" cy="23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179280" y="1341360"/>
            <a:ext cx="43164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авив Орнитологию, он посвятил себя «топографическому пейзажу». Его пейзажи выходили большими альбомами и пользовались успехом в Англи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Рисунок 5" descr="картины эдва.jpg"/>
          <p:cNvPicPr/>
          <p:nvPr/>
        </p:nvPicPr>
        <p:blipFill>
          <a:blip r:embed="rId2"/>
          <a:stretch/>
        </p:blipFill>
        <p:spPr>
          <a:xfrm>
            <a:off x="4500720" y="4581360"/>
            <a:ext cx="4403520" cy="20656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6" descr="карти.jpg"/>
          <p:cNvPicPr/>
          <p:nvPr/>
        </p:nvPicPr>
        <p:blipFill>
          <a:blip r:embed="rId3"/>
          <a:stretch/>
        </p:blipFill>
        <p:spPr>
          <a:xfrm>
            <a:off x="4932360" y="2924280"/>
            <a:ext cx="3743280" cy="1773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Корфу и горы Албании "/>
          <p:cNvPicPr/>
          <p:nvPr/>
        </p:nvPicPr>
        <p:blipFill>
          <a:blip r:embed="rId4"/>
          <a:stretch/>
        </p:blipFill>
        <p:spPr>
          <a:xfrm>
            <a:off x="4286160" y="1071720"/>
            <a:ext cx="3571920" cy="2174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Корфу – Эдвард Лир, 1812-1888. "/>
          <p:cNvPicPr/>
          <p:nvPr/>
        </p:nvPicPr>
        <p:blipFill>
          <a:blip r:embed="rId5"/>
          <a:stretch/>
        </p:blipFill>
        <p:spPr>
          <a:xfrm>
            <a:off x="0" y="4743360"/>
            <a:ext cx="4381560" cy="2114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Корфу со стороны деревни Ассеншен (вознесение)"/>
          <p:cNvPicPr/>
          <p:nvPr/>
        </p:nvPicPr>
        <p:blipFill>
          <a:blip r:embed="rId6"/>
          <a:stretch/>
        </p:blipFill>
        <p:spPr>
          <a:xfrm>
            <a:off x="6200640" y="3071880"/>
            <a:ext cx="2943360" cy="1800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" descr="http://s40.radikal.ru/i087/1308/b2/d83a579ffbad.jpg"/>
          <p:cNvPicPr/>
          <p:nvPr/>
        </p:nvPicPr>
        <p:blipFill>
          <a:blip r:embed="rId7"/>
          <a:stretch/>
        </p:blipFill>
        <p:spPr>
          <a:xfrm>
            <a:off x="4429080" y="4572000"/>
            <a:ext cx="300060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135" name="Содержимое 4" descr="1001696865.jpg"/>
          <p:cNvPicPr/>
          <p:nvPr/>
        </p:nvPicPr>
        <p:blipFill>
          <a:blip r:embed="rId2"/>
          <a:stretch/>
        </p:blipFill>
        <p:spPr>
          <a:xfrm>
            <a:off x="142920" y="4357800"/>
            <a:ext cx="1584360" cy="2098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5651640" y="1599840"/>
            <a:ext cx="3340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ая «Книга бессмыслиц» вышла анонимно в 1846 году с посвящением детям лорда Дерби. Забавные стишки лимрики, были украшены рисунками автор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Рисунок 6" descr="5da1285adac9a199b4f04c9d9c75b385_82893.jpg"/>
          <p:cNvPicPr/>
          <p:nvPr/>
        </p:nvPicPr>
        <p:blipFill>
          <a:blip r:embed="rId3"/>
          <a:stretch/>
        </p:blipFill>
        <p:spPr>
          <a:xfrm>
            <a:off x="285840" y="0"/>
            <a:ext cx="1334880" cy="21337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7" descr="11_learcover-copy.jpg"/>
          <p:cNvPicPr/>
          <p:nvPr/>
        </p:nvPicPr>
        <p:blipFill>
          <a:blip r:embed="rId4"/>
          <a:stretch/>
        </p:blipFill>
        <p:spPr>
          <a:xfrm>
            <a:off x="1857240" y="1214280"/>
            <a:ext cx="1930680" cy="2751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http://sta.imhonet.ru/element/a8/77/a8778605190dd3e225c1c3c1b5ab209b.jpg"/>
          <p:cNvPicPr/>
          <p:nvPr/>
        </p:nvPicPr>
        <p:blipFill>
          <a:blip r:embed="rId5"/>
          <a:stretch/>
        </p:blipFill>
        <p:spPr>
          <a:xfrm>
            <a:off x="1857240" y="4071960"/>
            <a:ext cx="1762200" cy="2571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http://st8.imhonet.ru/element/83/45/834550fc5116f212be340a52c2f4caa4.jpg"/>
          <p:cNvPicPr/>
          <p:nvPr/>
        </p:nvPicPr>
        <p:blipFill>
          <a:blip r:embed="rId6"/>
          <a:stretch/>
        </p:blipFill>
        <p:spPr>
          <a:xfrm>
            <a:off x="3714840" y="4143240"/>
            <a:ext cx="1762200" cy="2571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7" descr="http://st4.imhonet.ru/element/4a/6f/4a6faf843f1809735d9aae24ea7ece0c.jpg"/>
          <p:cNvPicPr/>
          <p:nvPr/>
        </p:nvPicPr>
        <p:blipFill>
          <a:blip r:embed="rId7"/>
          <a:stretch/>
        </p:blipFill>
        <p:spPr>
          <a:xfrm>
            <a:off x="3857760" y="1428840"/>
            <a:ext cx="1761840" cy="2571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9" descr="http://static1.ozone.ru/multimedia/books_covers/c200/1000640663.jpg"/>
          <p:cNvPicPr/>
          <p:nvPr/>
        </p:nvPicPr>
        <p:blipFill>
          <a:blip r:embed="rId8"/>
          <a:stretch/>
        </p:blipFill>
        <p:spPr>
          <a:xfrm>
            <a:off x="0" y="22147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6" descr="lord-derby.jpg"/>
          <p:cNvPicPr/>
          <p:nvPr/>
        </p:nvPicPr>
        <p:blipFill>
          <a:blip r:embed="rId1"/>
          <a:stretch/>
        </p:blipFill>
        <p:spPr>
          <a:xfrm>
            <a:off x="2357280" y="2857680"/>
            <a:ext cx="5715000" cy="3809880"/>
          </a:xfrm>
          <a:prstGeom prst="rect">
            <a:avLst/>
          </a:prstGeom>
          <a:ln w="0">
            <a:noFill/>
          </a:ln>
        </p:spPr>
      </p:pic>
      <p:pic>
        <p:nvPicPr>
          <p:cNvPr id="144" name="Заголовок 1" descr=""/>
          <p:cNvPicPr/>
          <p:nvPr/>
        </p:nvPicPr>
        <p:blipFill>
          <a:blip r:embed="rId2"/>
          <a:stretch/>
        </p:blipFill>
        <p:spPr>
          <a:xfrm>
            <a:off x="304920" y="189000"/>
            <a:ext cx="8686800" cy="865080"/>
          </a:xfrm>
          <a:prstGeom prst="rect">
            <a:avLst/>
          </a:prstGeom>
          <a:ln w="0">
            <a:noFill/>
          </a:ln>
        </p:spPr>
      </p:pic>
      <p:pic>
        <p:nvPicPr>
          <p:cNvPr id="145" name="Содержимое 4" descr="1001358_1358_301.jpg"/>
          <p:cNvPicPr/>
          <p:nvPr/>
        </p:nvPicPr>
        <p:blipFill>
          <a:blip r:embed="rId3"/>
          <a:stretch/>
        </p:blipFill>
        <p:spPr>
          <a:xfrm>
            <a:off x="214200" y="2286000"/>
            <a:ext cx="2448000" cy="3659040"/>
          </a:xfrm>
          <a:prstGeom prst="rect">
            <a:avLst/>
          </a:prstGeom>
          <a:ln w="0">
            <a:noFill/>
          </a:ln>
        </p:spPr>
      </p:pic>
      <p:pic>
        <p:nvPicPr>
          <p:cNvPr id="146" name="Содержимое 5" descr="35a612f9e32b.jpg"/>
          <p:cNvPicPr/>
          <p:nvPr/>
        </p:nvPicPr>
        <p:blipFill>
          <a:blip r:embed="rId4"/>
          <a:srcRect l="13682" t="0" r="14504" b="0"/>
          <a:stretch/>
        </p:blipFill>
        <p:spPr>
          <a:xfrm>
            <a:off x="6215040" y="142920"/>
            <a:ext cx="2736720" cy="38098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7"/>
          <p:cNvSpPr/>
          <p:nvPr/>
        </p:nvSpPr>
        <p:spPr>
          <a:xfrm>
            <a:off x="324000" y="1125360"/>
            <a:ext cx="56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РБИ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erby) (1799–1869), лорд Дерби, британский государственный деятель, премьер-министр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108000" y="1599840"/>
            <a:ext cx="374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ние годы своей жизни Эдвард Лир провёл в Сан-Ремо в обществе старого слуги-албанца и кота Фосса, которого увековечил в своих стихах и рисунках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Содержимое 4" descr="size1.jpg"/>
          <p:cNvPicPr/>
          <p:nvPr/>
        </p:nvPicPr>
        <p:blipFill>
          <a:blip r:embed="rId2"/>
          <a:stretch/>
        </p:blipFill>
        <p:spPr>
          <a:xfrm>
            <a:off x="4000680" y="1857240"/>
            <a:ext cx="4343400" cy="465300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5" descr="Foss2.jpg"/>
          <p:cNvPicPr/>
          <p:nvPr/>
        </p:nvPicPr>
        <p:blipFill>
          <a:blip r:embed="rId3"/>
          <a:stretch/>
        </p:blipFill>
        <p:spPr>
          <a:xfrm>
            <a:off x="5857920" y="214200"/>
            <a:ext cx="30733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6"/>
          <p:cNvSpPr/>
          <p:nvPr/>
        </p:nvSpPr>
        <p:spPr>
          <a:xfrm>
            <a:off x="1403280" y="2781360"/>
            <a:ext cx="4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6" descr="http://www.xxlbook.ru/imgh1320583.png"/>
          <p:cNvPicPr/>
          <p:nvPr/>
        </p:nvPicPr>
        <p:blipFill>
          <a:blip r:embed="rId2"/>
          <a:stretch/>
        </p:blipFill>
        <p:spPr>
          <a:xfrm>
            <a:off x="1857240" y="1285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1 строка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общается имя (или признак) героя стихотворения и его местожительство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2 строка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общается о том, чем герой занималс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3-4 строка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ъяснение причин либо последствий этих заняти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5 строка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раль, при этом строка должна словно эхо, полуповторять  первую строку и содержать какую-нибудь оцен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Прямоугольник 3"/>
          <p:cNvSpPr/>
          <p:nvPr/>
        </p:nvSpPr>
        <p:spPr>
          <a:xfrm>
            <a:off x="428760" y="4143240"/>
            <a:ext cx="785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 Одна странная рыбка  в Оби…»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Жил да был ученик один в Бердске…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6" descr="http://im1-tub-ru.yandex.net/i?id=98821917-24-72&amp;n=21"/>
          <p:cNvPicPr/>
          <p:nvPr/>
        </p:nvPicPr>
        <p:blipFill>
          <a:blip r:embed="rId2"/>
          <a:stretch/>
        </p:blipFill>
        <p:spPr>
          <a:xfrm>
            <a:off x="2571840" y="1714680"/>
            <a:ext cx="371484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304920" y="1213920"/>
            <a:ext cx="86868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. Сколько всего строк в лимерике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. Как обычно начинается лимерик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. Какие строки рифмуются с первой строкой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. Какая строчка рифмуется с третьей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. Какой вопрос можно задать к первой строчке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6. Какой вопрос можно задать ко второй строчке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7. Какой вопрос можно задать к двум следующим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8. На какой вопрос отвечает последняя строчка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9. Чем отличаются лимрики от стихотворения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0.С каким видом поэтических произведений в русском народном творчестве схожи лимрики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1.Понравилось ли вам сочинять лимрики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2.Чем отличаются лимрики от стихотворения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3.С каким видом поэтических произведений в русском народном творчестве схожи лимрики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4.Понравилось ли вам сочинять лимрики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Спасибо за работу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57120" y="164268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л старик с сединой в бороде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клицавший весь день: «Быть беде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е вороны и чиж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апля, утка и стриж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или гнезда в моей бороде!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девицы одной чудо-нос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с и рос, и до полу дорос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 старушку, бывало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у, что твёрдо ступала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нимала носить этот но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4" descr="Эдвард Лир и поэзия нонсенса - лимерики"/>
          <p:cNvPicPr/>
          <p:nvPr/>
        </p:nvPicPr>
        <p:blipFill>
          <a:blip r:embed="rId1"/>
          <a:stretch/>
        </p:blipFill>
        <p:spPr>
          <a:xfrm>
            <a:off x="642960" y="4000680"/>
            <a:ext cx="3429000" cy="2249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Эдвард Лир и поэзия нонсенса - лимерики"/>
          <p:cNvPicPr/>
          <p:nvPr/>
        </p:nvPicPr>
        <p:blipFill>
          <a:blip r:embed="rId2"/>
          <a:stretch/>
        </p:blipFill>
        <p:spPr>
          <a:xfrm>
            <a:off x="4714920" y="500040"/>
            <a:ext cx="414324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304920" y="1553760"/>
            <a:ext cx="868680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двард Лир и поэзия нонсенса http://alldayplus.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имери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ttp://nsc.1september.ru/2001/26/no26_01.ht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ttp://alte-zavalinka.livejournal.com/278573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двард Лир – Лимерики – Книга нонсен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ttp://lir.ramot.ru/limeriki/lim1.ht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 лимериках и Эдварде Лир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85480" y="1553760"/>
            <a:ext cx="8705880" cy="43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крыть новый секрет стихосложения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пытаться самим написать свое стихотворение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1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: Придумай рифм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рик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ба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ь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род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рога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есть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6" descr="http://ppt4web.ru/images/3258/57682/310/img1.jpg"/>
          <p:cNvPicPr/>
          <p:nvPr/>
        </p:nvPicPr>
        <p:blipFill>
          <a:blip r:embed="rId1"/>
          <a:stretch/>
        </p:blipFill>
        <p:spPr>
          <a:xfrm>
            <a:off x="5045040" y="3643200"/>
            <a:ext cx="40989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Задание: Закончи строчку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село живется нам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школу Федя не пошёл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шку новую разбила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о не любит умываться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задание: Придумайте предложен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отором все слова начинаются на букву «К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6" descr="http://img.championat.com/i/article/88/36/98836_b_a-pridumaj-ka-mne-rifmu-k-slovu-biljaletdinov_1318406929.jpg"/>
          <p:cNvPicPr/>
          <p:nvPr/>
        </p:nvPicPr>
        <p:blipFill>
          <a:blip r:embed="rId1"/>
          <a:stretch/>
        </p:blipFill>
        <p:spPr>
          <a:xfrm>
            <a:off x="5210280" y="0"/>
            <a:ext cx="393372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ая стихотворная форма, состоящая из единственной пятистрочной строфы, в которой рифмуются между собой первая, вторая и пятая строка, а третья рифмуется с четвёрто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йствующие лица этих стихов – забавные, весёлые люд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Прямая соединительная линия 4"/>
          <p:cNvSpPr/>
          <p:nvPr/>
        </p:nvSpPr>
        <p:spPr>
          <a:xfrm flipH="1">
            <a:off x="1547280" y="1628640"/>
            <a:ext cx="71640" cy="14472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ая соединительная линия 6"/>
          <p:cNvSpPr/>
          <p:nvPr/>
        </p:nvSpPr>
        <p:spPr>
          <a:xfrm flipH="1">
            <a:off x="2771280" y="1557360"/>
            <a:ext cx="71640" cy="14292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старушки одной на Руси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лос был — хоть святых выноси.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в полную силу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а голосила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тастрофа была на Руси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5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5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5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патичная леди с Атлантики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вязавши ботинки на бантики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й гуляла по пристани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 щенками пятнистыми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порочила климат Атлантики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2" descr="Эдвард Лир и поэзия нонсенса - лимерики"/>
          <p:cNvPicPr/>
          <p:nvPr/>
        </p:nvPicPr>
        <p:blipFill>
          <a:blip r:embed="rId2"/>
          <a:stretch/>
        </p:blipFill>
        <p:spPr>
          <a:xfrm>
            <a:off x="4857840" y="1643040"/>
            <a:ext cx="3929040" cy="2577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Эдвард Лир и поэзия нонсенса - лимерики"/>
          <p:cNvPicPr/>
          <p:nvPr/>
        </p:nvPicPr>
        <p:blipFill>
          <a:blip r:embed="rId3"/>
          <a:stretch/>
        </p:blipFill>
        <p:spPr>
          <a:xfrm>
            <a:off x="357120" y="3643200"/>
            <a:ext cx="40006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304920" y="1214280"/>
            <a:ext cx="8686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468360" y="450864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рландия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од Лимери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8" descr="http://img2news.restbee.ru/europe/limerik/01_glavn_d-johnston.jpg"/>
          <p:cNvPicPr/>
          <p:nvPr/>
        </p:nvPicPr>
        <p:blipFill>
          <a:blip r:embed="rId2"/>
          <a:stretch/>
        </p:blipFill>
        <p:spPr>
          <a:xfrm>
            <a:off x="357120" y="1214280"/>
            <a:ext cx="4071960" cy="2679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Ирландские поля"/>
          <p:cNvPicPr/>
          <p:nvPr/>
        </p:nvPicPr>
        <p:blipFill>
          <a:blip r:embed="rId3"/>
          <a:stretch/>
        </p:blipFill>
        <p:spPr>
          <a:xfrm>
            <a:off x="4214880" y="3786120"/>
            <a:ext cx="4214880" cy="2811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Собор Святой Марии в Лимерике"/>
          <p:cNvPicPr/>
          <p:nvPr/>
        </p:nvPicPr>
        <p:blipFill>
          <a:blip r:embed="rId4"/>
          <a:stretch/>
        </p:blipFill>
        <p:spPr>
          <a:xfrm>
            <a:off x="4643280" y="142884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http://geophoto.ru/mediumlib/gb000257_1m.jpg"/>
          <p:cNvPicPr/>
          <p:nvPr/>
        </p:nvPicPr>
        <p:blipFill>
          <a:blip r:embed="rId5"/>
          <a:stretch/>
        </p:blipFill>
        <p:spPr>
          <a:xfrm>
            <a:off x="7000920" y="214200"/>
            <a:ext cx="16002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116" name="Содержимое 3" descr="лир.jpg"/>
          <p:cNvPicPr/>
          <p:nvPr/>
        </p:nvPicPr>
        <p:blipFill>
          <a:blip r:embed="rId2"/>
          <a:stretch/>
        </p:blipFill>
        <p:spPr>
          <a:xfrm>
            <a:off x="395280" y="1341360"/>
            <a:ext cx="2232000" cy="5052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2842920" y="1341360"/>
            <a:ext cx="61484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двард Лир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английский поэт 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удожник, родился 12 мая 1812 год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Лондоне в семье преуспевающего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льца Иеремии Лира. У него было 2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атьев и сестёр. Отец разорился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шлось идти на улицу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рабатывать деньги. Делал он это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сованием рисунков для лавок 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нением смешных песенок -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ихов лимериков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06:21:58Z</dcterms:created>
  <dc:creator>Ветер 2</dc:creator>
  <dc:description/>
  <dc:language>en-US</dc:language>
  <cp:lastModifiedBy>Huawei</cp:lastModifiedBy>
  <dcterms:modified xsi:type="dcterms:W3CDTF">2025-10-28T14:29:05Z</dcterms:modified>
  <cp:revision>61</cp:revision>
  <dc:subject/>
  <dc:title>Лимерики  – поэтические произведения</dc:title>
</cp:coreProperties>
</file>