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B87-080B-466D-BC87-93392962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A9F-EB61-4570-9320-1840776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17191-FF8B-4AEC-AA57-628AE72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670B-6CAC-44AC-8AF0-1895DD25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A8617-525F-42DA-8A41-8A3D3CF0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766BC-6CDC-4621-B5E0-D5484618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5350B-5B54-462B-A191-A9E07CD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71930-156C-4703-98A2-EBAF21C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EB51C-CAC1-4704-A756-AB88FFE7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70579-B1B8-4ED7-8682-38661FF7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43FBC-E661-47CA-9F86-DBE2B9F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F949-844B-4694-8E77-253F8916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BFE-FD3B-45D3-9F9A-95ADE4E8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A8BC9-86FD-4E8F-83BB-57CA5260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86380-2972-438F-82E3-0CCA9FE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3734-7C72-418A-8871-BE7BB6A1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EC761-CB7C-4C0A-85FD-8539999D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A4B1E-A43D-4010-A05E-F8E97AA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D7D20-A8CC-4017-BB9E-33B403E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11877-23D7-4313-B7F1-9A655A1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C8996-2DCF-420E-B890-37DBA0C2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A349-EEE6-4894-BFA0-5C95511C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4E007-D1AA-4EB1-A3B7-7967E38C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5C4-9819-4C24-A713-5DD3521C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12E6D-2689-4383-8873-149690DB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BDF2-CE73-48A2-9667-50168FB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664B4-DDA0-4D55-9B48-8E4E898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9743-E821-4F67-BBF6-85B98AF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81AE-0657-4656-8693-F89D358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DDC5-69B7-4B13-87E8-3139267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68CC6-414F-41FB-A42D-54E1D39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AB0C0-6CC7-45C7-B75C-6A1B9CB5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7032-1A50-4403-B89B-7ADB665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C8CCD-18D0-4D8B-B5D8-9D6B7F5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2989-73CC-4464-AE50-11C824C3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16F4A-FEF4-42B6-A035-B3DA220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4B61-8CCE-46D6-9830-83A605E4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F090A-B0B4-42D3-BB8D-986949C6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0A2E0-1B1A-4AD3-9D21-67A13676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CAD2-A8BE-4608-B4BC-72F4AB3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1F286-5857-4D7D-87F7-3DBC2DB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7DF8-F8F7-4958-8570-60674EE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260AB-BA6B-4E50-A250-2322DF9E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76866-4A21-48A6-95ED-9343CA0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A4225-BA4C-4EA3-833D-BFCAB0B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F4EC-C973-4AF9-B3AF-3A790409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15945-9BCA-4044-97A4-52DA092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ED9F0-4AD2-41EE-B850-FF8E238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B4E6F-6C3B-4BAA-A246-527961D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59EB4-BEDA-468C-A6B6-223E04C7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29D5D-E63A-4A44-A4BA-97656F53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49A25-4819-47A1-AFB4-71D9EF6C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21356-B37F-40C7-9898-2654D139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1F233-E713-4DDB-B94A-18F92AA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F20C7-372A-4C2E-B5E0-AEBB0E2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3F0F5-9AA2-4553-BA99-84F14AC1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108-B879-46C3-8E7D-F6320AA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CDE97-1993-4DD0-9836-9BBBC66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7E82E-759D-4F2C-AD9A-731A94D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2EA92-056E-402A-8480-BF0DD52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C09CE-7A85-4345-A47A-5CE3C7D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38B12-A87C-45E5-9B36-95201EE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667E6-6F35-4580-8476-A05CA894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D6B38-9F5A-40E7-A139-C8C9B505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D21B0-DC68-4D1E-B415-F8765FFC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18DCF-D3FF-44B5-8362-DCF63BE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1054F-08A4-4AE5-BA13-A75A75C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163-AF93-44A3-ABCE-56363EF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F5E35-3F97-4593-8F72-45C30A3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7B05D-8DD6-4759-A6DF-54665728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1F086-39B3-413F-A085-41323E79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A93DC-61FF-45E4-B6DE-7EE7CA3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BCED7-231A-4051-AC6C-6608135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990BD-5697-4C39-A4DC-CFFD746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3D445-DF5D-49DB-8548-E261450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450D7-0D78-4620-838F-03886C9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85FAA-4C7E-46E5-8C0D-99C4E8C5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E7EAD-C920-4AE7-9296-490C5BF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331-C202-46CD-B051-0C49F2E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0CF8C-D642-4116-B440-927CC762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350D9-9549-4636-8ABE-97B6149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95F6F-9362-4762-84E6-B005AEB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B20A5-6904-4705-9901-99B6D92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3BBEC-832E-4A6C-8797-933D44AD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63C6A-7D6D-4F55-90D7-FE9A11E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34CF1-A867-4DA4-9ED1-F18980F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1E8AD-4FEE-4104-B4F6-8FD879A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C598F-817F-425D-A1BD-B1AB4C1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6222B-33BA-4401-98C3-15D73F49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DC81-396A-4ECF-807C-B33C746A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65A21-5449-4D1B-949B-AA25F89A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98611-7904-4C70-80AC-1C628DAF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01054-3F24-444E-A782-41BC6813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8678E-66BB-449B-9EA0-E22BF90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F6642-737C-41AA-8054-76E94077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35757-E4B6-4B69-AFB2-B047EA24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C172F-7B00-41C1-90E6-F5EFE6A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84AD5-3092-47E4-9A5D-F29A8E1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A32DF-CB29-4EEC-9FF9-19E34D0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ED3EC-2F73-46D1-B140-97DF7ED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5143-AE28-4307-A5A2-B3C5067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EF476-C774-423A-BC1F-4BCF982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3E113-280A-4282-9A02-7F45AAFA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0747F-8E9A-426C-B904-96BF4FD0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253F1-0513-47DF-8A55-97D497A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94FE4-0D53-4465-84B3-D337349D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614A0-2B5D-485E-B929-EFC2450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9B44C-4F59-4C57-9E28-EB1EE868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40ACE-4CC2-427A-AAFA-E0A8F8E7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11362-D68D-4E1B-AEDD-726AED83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05C61-06A5-40C7-A38A-CCB4897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6A2-8683-40BC-A3D1-0AFB79B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9F93-49BA-4920-A41B-97E1D61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8AA88-3CF9-4FC5-855D-8494AA3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40C65-FC3E-4C64-938A-5165AAF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2EF9B-4143-44F1-A394-B77B312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66D5E-C5A5-4A3C-9F4A-67DBDFC5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442C1-6A8F-4A0D-9E35-BA413337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0FD1-2F92-40CA-95B3-743161C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E368-2B9A-41A1-A8BD-AE05497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40A-4B1E-4E3C-98FB-0104BB6D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5AA-19F3-4CD2-8790-08C00CE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A93B-797F-44E8-9F3C-684B8FD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D5D7-23B5-4DE6-8D31-A8FDEE7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6733-7E17-4D93-BA18-D432BAB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8095-61F4-4079-BD6E-90E73ECD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BDF8-4CFB-4A1B-88B2-6A96471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73C-6F79-43CE-B563-6733B8BB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0B4C-0D3D-49C2-BAEF-0C9B4DB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C7FD-F09F-4B8C-B5D8-7747D80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26F4-17BA-460A-B479-D6210FD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C742-D1E2-474E-8640-AD9ADFA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6120-CCAE-4396-B157-F26F13B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A50F-F1E6-4A07-8DC3-A1ABCA71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5281-8951-455F-83F2-7DAB44A8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99AD-A30E-4FC0-B5A6-1C9C05A2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3E6F-AA7F-4026-91F2-CDDE22B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8C49-8E88-4585-9B42-6B7337C6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D82-3973-4D1A-95C1-C942D78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BBF8-873B-4615-B538-27621B0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F09D-6F8A-4D5F-AD0D-BC055C1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BAD7-ABFC-4000-87D6-957029C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987F-FBB9-4118-A813-52D3DB3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4EDC-9744-443D-AB5E-6E659E8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6148-F2C2-43DE-9C59-3A2DD49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9936-AF45-47CF-A51B-D21D8C2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9A87-5868-4336-9396-8DC8DD9F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938B-C088-4C88-8BE5-ACC16846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AAF7-B83E-4CD3-A1E4-65B5C71A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BED-3BA5-4AB2-9781-A18B911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5D9B-27FB-4EFB-9817-EA84F3A7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6625-B205-4266-82CA-7B11DE4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52A38-C585-47D5-8EB0-9786DB0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19C7-892B-46D0-B95B-30DEDA5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9F54C-E789-4565-9B7B-81EE33B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3476-107E-400C-A06E-5F54857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E371-1AD1-4AC9-8B16-25AFB52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251D-CCE2-4662-B706-0CF80BC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CDAA-C593-4A82-8933-6C782FEF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5A46E-8EC1-429E-8AC2-D2177076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997-5BE5-4BCD-BCBA-B41F581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C5661-CD70-4C78-9335-A31D5754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016B-1E77-4D36-A3A3-026CB90C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AB91-C80C-4ACC-B074-3B046FBF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4583-D313-4B74-ACDA-A8E2AB95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F817A-12FD-45CC-AE43-4BDAA0A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22E5-9053-4D9B-892E-9945889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96615-715F-40AE-8629-57015D6B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0C04-2A0C-4794-8374-072909C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E94B-4CD2-4EBD-9860-D82DD44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FA9B-FB5A-403E-9383-A4DD75F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744-5174-4C3D-A11B-D7B08D2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C1D3-4B06-4D38-80D2-A079AAD7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D391-C4CE-45A6-BE4F-6EF27E6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3ADB-83E0-40BB-B68D-8CEA7438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4078-49D6-4E3A-AD77-A8DCFBE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F13B6-7047-478D-AA00-2E24E68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6BCD6-4822-43ED-94CB-783F69E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11DD0-0AA6-417D-B682-C7008FE3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5966-5630-4D52-9261-37A0CFB9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B17D-0098-4DFA-AF27-EDD2D9F5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6DA30-8312-4DA8-9DD5-B5785B3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04F-B028-47F1-855E-3C60D219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AA06-2985-4DAB-9E1D-FA18B82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9F83-A6CC-4739-AA7F-0532CF0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0079-33FB-41E0-A119-E636F5A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7F431-81A7-45C3-8AFA-F75282FD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162A-E477-4BC0-9C35-58A37C15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9CAA-E2AE-452E-AEC3-276AD589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86E1-2AB5-4CF8-B845-838D206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47CE-AD1D-41E9-A75E-BAC3E7CA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2730C-EA6D-4053-8FDB-AC3A92A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6BB77-09D3-4491-81B3-0EF26510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660-2147-42F8-9A8B-04E5066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8C64-D2D8-437F-8415-F07D446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C07DC-24D5-474E-9AFE-D0F9091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2CB9-DCB6-4004-BE8E-3F5418F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34DB-C0B9-4888-8725-6DB27CE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6DF96-569D-4A75-850A-A93CB38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0F19-0AC2-45E8-A4CB-BE1B65AB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C3EBF-91BC-45C9-8405-FD826F2B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E5D41-DBE3-406D-9E03-5FF77354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D278-8378-439B-893C-6C99551E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E072D-5013-49B3-90B7-A1FF2C99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BAE-5009-4A36-9F84-201AC952081E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296E-9A1D-452B-80F8-D4340B8512B6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FC8-B50F-4D0A-8AC5-5BB5426E61A3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C853-AC2D-4DC9-B98A-739861EA2DEA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F11-6158-4CE3-BEFB-2582DF7E7622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7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8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EFFE-1122-4276-B237-7628608B6525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C45-99B3-45D6-82BD-B3B4A9B2A895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53B-53C6-4211-A866-00BAACD3AA8D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602F-7F14-42C6-8819-A0DFB9B89B64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6D3-794F-476D-AB83-632B212839A7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6DFB-6EAD-45AF-A358-AFE8FA8D6123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AAA8-08A5-4610-A7DD-803C4BF91B76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887-9173-43CC-AEF1-766F24A7CE0C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529-FF4F-4C0F-BA13-A9156A0EF4AA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B8B4-114E-4EB8-85CE-6884436467FC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77F-3376-4049-9EF0-98E5A423588C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6C7E-7043-4F3B-AECB-4EF08A14E3EE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2" descr=""/>
          <p:cNvPicPr/>
          <p:nvPr/>
        </p:nvPicPr>
        <p:blipFill>
          <a:blip r:embed="rId1"/>
          <a:srcRect l="22951" t="10490" r="23939" b="17503"/>
          <a:stretch/>
        </p:blipFill>
        <p:spPr>
          <a:xfrm>
            <a:off x="863640" y="476280"/>
            <a:ext cx="3665520" cy="6381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788360" y="4005360"/>
            <a:ext cx="309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Казак Елена Юрьевна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Соловьёва Алёна Павловна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МБОУ СОШ№81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г. Нижний Тагил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90" name="Заголовок 3" descr=""/>
          <p:cNvPicPr/>
          <p:nvPr/>
        </p:nvPicPr>
        <p:blipFill>
          <a:blip r:embed="rId2"/>
          <a:stretch/>
        </p:blipFill>
        <p:spPr>
          <a:xfrm>
            <a:off x="2597040" y="2054160"/>
            <a:ext cx="660744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Заголовок 1" descr=""/>
          <p:cNvPicPr/>
          <p:nvPr/>
        </p:nvPicPr>
        <p:blipFill>
          <a:blip r:embed="rId1"/>
          <a:stretch/>
        </p:blipFill>
        <p:spPr>
          <a:xfrm>
            <a:off x="249120" y="878040"/>
            <a:ext cx="7809120" cy="142704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 txBox="1"/>
          <p:nvPr/>
        </p:nvSpPr>
        <p:spPr>
          <a:xfrm>
            <a:off x="142560" y="1915920"/>
            <a:ext cx="7705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мяч…к           __________-ик-__________     ключ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моч…к                                                          цветоч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йч..к            ___________-ек-__________    дом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1979640" y="3629160"/>
            <a:ext cx="403236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Заголовок 1" descr=""/>
          <p:cNvPicPr/>
          <p:nvPr/>
        </p:nvPicPr>
        <p:blipFill>
          <a:blip r:embed="rId1"/>
          <a:stretch/>
        </p:blipFill>
        <p:spPr>
          <a:xfrm>
            <a:off x="249120" y="878040"/>
            <a:ext cx="7632720" cy="142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 txBox="1"/>
          <p:nvPr/>
        </p:nvSpPr>
        <p:spPr>
          <a:xfrm>
            <a:off x="142560" y="1915920"/>
            <a:ext cx="910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мя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  __________-ик-__________     клю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й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 __________-ик-__________     дом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мо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е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__________-ек-__________     цвето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1979640" y="3629160"/>
            <a:ext cx="403236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Заголовок 1" descr=""/>
          <p:cNvPicPr/>
          <p:nvPr/>
        </p:nvPicPr>
        <p:blipFill>
          <a:blip r:embed="rId1"/>
          <a:stretch/>
        </p:blipFill>
        <p:spPr>
          <a:xfrm>
            <a:off x="1347840" y="828720"/>
            <a:ext cx="6100560" cy="1116000"/>
          </a:xfrm>
          <a:prstGeom prst="rect">
            <a:avLst/>
          </a:prstGeom>
          <a:ln w="0">
            <a:noFill/>
          </a:ln>
        </p:spPr>
      </p:pic>
      <p:pic>
        <p:nvPicPr>
          <p:cNvPr id="934" name="Рисунок 3" descr=""/>
          <p:cNvPicPr/>
          <p:nvPr/>
        </p:nvPicPr>
        <p:blipFill>
          <a:blip r:embed="rId2"/>
          <a:stretch/>
        </p:blipFill>
        <p:spPr>
          <a:xfrm>
            <a:off x="1835280" y="1951200"/>
            <a:ext cx="53290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Рисунок 8" descr=""/>
          <p:cNvPicPr/>
          <p:nvPr/>
        </p:nvPicPr>
        <p:blipFill>
          <a:blip r:embed="rId1"/>
          <a:stretch/>
        </p:blipFill>
        <p:spPr>
          <a:xfrm rot="20868000">
            <a:off x="5418000" y="3193560"/>
            <a:ext cx="1914840" cy="1913040"/>
          </a:xfrm>
          <a:prstGeom prst="rect">
            <a:avLst/>
          </a:prstGeom>
          <a:ln w="0">
            <a:noFill/>
          </a:ln>
        </p:spPr>
      </p:pic>
      <p:pic>
        <p:nvPicPr>
          <p:cNvPr id="936" name="Рисунок 10" descr=""/>
          <p:cNvPicPr/>
          <p:nvPr/>
        </p:nvPicPr>
        <p:blipFill>
          <a:blip r:embed="rId2"/>
          <a:srcRect l="0" t="17725" r="9489" b="32828"/>
          <a:stretch/>
        </p:blipFill>
        <p:spPr>
          <a:xfrm rot="518400">
            <a:off x="5435640" y="577800"/>
            <a:ext cx="1500120" cy="177336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11" descr=""/>
          <p:cNvPicPr/>
          <p:nvPr/>
        </p:nvPicPr>
        <p:blipFill>
          <a:blip r:embed="rId3"/>
          <a:srcRect l="0" t="24106" r="0" b="26331"/>
          <a:stretch/>
        </p:blipFill>
        <p:spPr>
          <a:xfrm rot="20166600">
            <a:off x="696960" y="3282480"/>
            <a:ext cx="1828800" cy="1962360"/>
          </a:xfrm>
          <a:prstGeom prst="rect">
            <a:avLst/>
          </a:prstGeom>
          <a:ln w="0">
            <a:noFill/>
          </a:ln>
        </p:spPr>
      </p:pic>
      <p:pic>
        <p:nvPicPr>
          <p:cNvPr id="938" name="Рисунок 12" descr=""/>
          <p:cNvPicPr/>
          <p:nvPr/>
        </p:nvPicPr>
        <p:blipFill>
          <a:blip r:embed="rId4"/>
          <a:srcRect l="0" t="19703" r="3762" b="38466"/>
          <a:stretch/>
        </p:blipFill>
        <p:spPr>
          <a:xfrm rot="418200">
            <a:off x="3177720" y="3995640"/>
            <a:ext cx="2100240" cy="2116080"/>
          </a:xfrm>
          <a:prstGeom prst="rect">
            <a:avLst/>
          </a:prstGeom>
          <a:ln w="0">
            <a:noFill/>
          </a:ln>
        </p:spPr>
      </p:pic>
      <p:pic>
        <p:nvPicPr>
          <p:cNvPr id="939" name="Рисунок 1" descr=""/>
          <p:cNvPicPr/>
          <p:nvPr/>
        </p:nvPicPr>
        <p:blipFill>
          <a:blip r:embed="rId5"/>
          <a:srcRect l="31539" t="5876" r="20769" b="11132"/>
          <a:stretch/>
        </p:blipFill>
        <p:spPr>
          <a:xfrm>
            <a:off x="841320" y="189000"/>
            <a:ext cx="1884240" cy="2070000"/>
          </a:xfrm>
          <a:prstGeom prst="rect">
            <a:avLst/>
          </a:prstGeom>
          <a:ln w="0">
            <a:noFill/>
          </a:ln>
        </p:spPr>
      </p:pic>
      <p:pic>
        <p:nvPicPr>
          <p:cNvPr id="940" name="Рисунок 2" descr=""/>
          <p:cNvPicPr/>
          <p:nvPr/>
        </p:nvPicPr>
        <p:blipFill>
          <a:blip r:embed="rId6"/>
          <a:srcRect l="0" t="6296" r="0" b="15572"/>
          <a:stretch/>
        </p:blipFill>
        <p:spPr>
          <a:xfrm>
            <a:off x="2732040" y="960480"/>
            <a:ext cx="2419560" cy="22208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3"/>
          <p:cNvSpPr/>
          <p:nvPr/>
        </p:nvSpPr>
        <p:spPr>
          <a:xfrm>
            <a:off x="504720" y="2278080"/>
            <a:ext cx="27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yellow aeropla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TextBox 4"/>
          <p:cNvSpPr/>
          <p:nvPr/>
        </p:nvSpPr>
        <p:spPr>
          <a:xfrm>
            <a:off x="2922480" y="3173400"/>
            <a:ext cx="26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blue eleph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TextBox 5"/>
          <p:cNvSpPr/>
          <p:nvPr/>
        </p:nvSpPr>
        <p:spPr>
          <a:xfrm rot="694800">
            <a:off x="4951080" y="2276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yellow do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TextBox 6"/>
          <p:cNvSpPr/>
          <p:nvPr/>
        </p:nvSpPr>
        <p:spPr>
          <a:xfrm rot="20139000">
            <a:off x="1107720" y="5138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blue t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TextBox 7"/>
          <p:cNvSpPr/>
          <p:nvPr/>
        </p:nvSpPr>
        <p:spPr>
          <a:xfrm rot="309600">
            <a:off x="1778760" y="6030360"/>
            <a:ext cx="45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yellow, red, green and blue ba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TextBox 13"/>
          <p:cNvSpPr/>
          <p:nvPr/>
        </p:nvSpPr>
        <p:spPr>
          <a:xfrm rot="20159400">
            <a:off x="5312880" y="49064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brown rocking hor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Я люблю свою лошадку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ичешу ей шёрстку гладко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Заголовок 1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345360" cy="1461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2"/>
          <a:stretch/>
        </p:blipFill>
        <p:spPr>
          <a:xfrm rot="20735400">
            <a:off x="836280" y="1827360"/>
            <a:ext cx="4314960" cy="3235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3"/>
          <a:stretch/>
        </p:blipFill>
        <p:spPr>
          <a:xfrm rot="1086000">
            <a:off x="5231880" y="1903320"/>
            <a:ext cx="3583080" cy="2686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4"/>
          <a:stretch/>
        </p:blipFill>
        <p:spPr>
          <a:xfrm>
            <a:off x="3492360" y="4029120"/>
            <a:ext cx="300528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Рисунок 3" descr=""/>
          <p:cNvPicPr/>
          <p:nvPr/>
        </p:nvPicPr>
        <p:blipFill>
          <a:blip r:embed="rId1"/>
          <a:stretch/>
        </p:blipFill>
        <p:spPr>
          <a:xfrm>
            <a:off x="3998880" y="2530440"/>
            <a:ext cx="3792600" cy="3821040"/>
          </a:xfrm>
          <a:prstGeom prst="rect">
            <a:avLst/>
          </a:prstGeom>
          <a:ln w="0">
            <a:noFill/>
          </a:ln>
        </p:spPr>
      </p:pic>
      <p:pic>
        <p:nvPicPr>
          <p:cNvPr id="892" name="Заголовок 1" descr=""/>
          <p:cNvPicPr/>
          <p:nvPr/>
        </p:nvPicPr>
        <p:blipFill>
          <a:blip r:embed="rId2"/>
          <a:stretch/>
        </p:blipFill>
        <p:spPr>
          <a:xfrm>
            <a:off x="414360" y="476280"/>
            <a:ext cx="7254720" cy="2273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3"/>
          <a:stretch/>
        </p:blipFill>
        <p:spPr>
          <a:xfrm>
            <a:off x="420840" y="2577960"/>
            <a:ext cx="4663800" cy="376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Заголовок 1" descr=""/>
          <p:cNvPicPr/>
          <p:nvPr/>
        </p:nvPicPr>
        <p:blipFill>
          <a:blip r:embed="rId1"/>
          <a:stretch/>
        </p:blipFill>
        <p:spPr>
          <a:xfrm>
            <a:off x="755640" y="781200"/>
            <a:ext cx="6840720" cy="2224080"/>
          </a:xfrm>
          <a:prstGeom prst="rect">
            <a:avLst/>
          </a:prstGeom>
          <a:ln w="0">
            <a:noFill/>
          </a:ln>
        </p:spPr>
      </p:pic>
      <p:sp>
        <p:nvSpPr>
          <p:cNvPr id="895" name="TextBox 4"/>
          <p:cNvSpPr/>
          <p:nvPr/>
        </p:nvSpPr>
        <p:spPr>
          <a:xfrm>
            <a:off x="3314880" y="31352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мяч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шар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машина –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кукла -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6" name="Группа 14"/>
          <p:cNvGrpSpPr/>
          <p:nvPr/>
        </p:nvGrpSpPr>
        <p:grpSpPr>
          <a:xfrm>
            <a:off x="4322880" y="3486240"/>
            <a:ext cx="1655640" cy="1139760"/>
            <a:chOff x="4322880" y="3486240"/>
            <a:chExt cx="1655640" cy="1139760"/>
          </a:xfrm>
        </p:grpSpPr>
        <p:sp>
          <p:nvSpPr>
            <p:cNvPr id="897" name="Прямая соединительная линия 6"/>
            <p:cNvSpPr/>
            <p:nvPr/>
          </p:nvSpPr>
          <p:spPr>
            <a:xfrm>
              <a:off x="4322880" y="3486240"/>
              <a:ext cx="1655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8" name="Прямая соединительная линия 7"/>
            <p:cNvSpPr/>
            <p:nvPr/>
          </p:nvSpPr>
          <p:spPr>
            <a:xfrm>
              <a:off x="4322880" y="3919680"/>
              <a:ext cx="1655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9" name="Прямая соединительная линия 8"/>
            <p:cNvSpPr/>
            <p:nvPr/>
          </p:nvSpPr>
          <p:spPr>
            <a:xfrm>
              <a:off x="4898880" y="4286520"/>
              <a:ext cx="1079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0" name="Прямая соединительная линия 10"/>
            <p:cNvSpPr/>
            <p:nvPr/>
          </p:nvSpPr>
          <p:spPr>
            <a:xfrm>
              <a:off x="4599000" y="4626000"/>
              <a:ext cx="137952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901" name="Рисунок 15" descr=""/>
          <p:cNvPicPr/>
          <p:nvPr/>
        </p:nvPicPr>
        <p:blipFill>
          <a:blip r:embed="rId2"/>
          <a:stretch/>
        </p:blipFill>
        <p:spPr>
          <a:xfrm rot="20806800">
            <a:off x="549000" y="3240000"/>
            <a:ext cx="2120760" cy="331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Заголовок 1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8406000" cy="4473360"/>
          </a:xfrm>
          <a:prstGeom prst="rect">
            <a:avLst/>
          </a:prstGeom>
          <a:ln w="0">
            <a:noFill/>
          </a:ln>
        </p:spPr>
      </p:pic>
      <p:sp>
        <p:nvSpPr>
          <p:cNvPr id="903" name="Прямая соединительная линия 4"/>
          <p:cNvSpPr/>
          <p:nvPr/>
        </p:nvSpPr>
        <p:spPr>
          <a:xfrm flipV="1">
            <a:off x="4549680" y="2492280"/>
            <a:ext cx="216000" cy="216000"/>
          </a:xfrm>
          <a:prstGeom prst="line">
            <a:avLst/>
          </a:prstGeom>
          <a:ln cap="rnd"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2"/>
          <a:stretch/>
        </p:blipFill>
        <p:spPr>
          <a:xfrm>
            <a:off x="4649760" y="314784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" descr=""/>
          <p:cNvPicPr/>
          <p:nvPr/>
        </p:nvPicPr>
        <p:blipFill>
          <a:blip r:embed="rId3"/>
          <a:stretch/>
        </p:blipFill>
        <p:spPr>
          <a:xfrm>
            <a:off x="5170320" y="36687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ая соединительная линия 6"/>
          <p:cNvSpPr/>
          <p:nvPr/>
        </p:nvSpPr>
        <p:spPr>
          <a:xfrm>
            <a:off x="4716360" y="2492280"/>
            <a:ext cx="187560" cy="216000"/>
          </a:xfrm>
          <a:prstGeom prst="line">
            <a:avLst/>
          </a:prstGeom>
          <a:ln cap="rnd"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7" name="Picture 5" descr=""/>
          <p:cNvPicPr/>
          <p:nvPr/>
        </p:nvPicPr>
        <p:blipFill>
          <a:blip r:embed="rId4"/>
          <a:stretch/>
        </p:blipFill>
        <p:spPr>
          <a:xfrm>
            <a:off x="4853160" y="31510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" descr=""/>
          <p:cNvPicPr/>
          <p:nvPr/>
        </p:nvPicPr>
        <p:blipFill>
          <a:blip r:embed="rId5"/>
          <a:stretch/>
        </p:blipFill>
        <p:spPr>
          <a:xfrm>
            <a:off x="5364000" y="36496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7" descr=""/>
          <p:cNvPicPr/>
          <p:nvPr/>
        </p:nvPicPr>
        <p:blipFill>
          <a:blip r:embed="rId6"/>
          <a:stretch/>
        </p:blipFill>
        <p:spPr>
          <a:xfrm>
            <a:off x="4903920" y="42544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8" descr=""/>
          <p:cNvPicPr/>
          <p:nvPr/>
        </p:nvPicPr>
        <p:blipFill>
          <a:blip r:embed="rId7"/>
          <a:stretch/>
        </p:blipFill>
        <p:spPr>
          <a:xfrm>
            <a:off x="4748040" y="42544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911" name="Рисунок 2" descr=""/>
          <p:cNvPicPr/>
          <p:nvPr/>
        </p:nvPicPr>
        <p:blipFill>
          <a:blip r:embed="rId8"/>
          <a:stretch/>
        </p:blipFill>
        <p:spPr>
          <a:xfrm rot="643200">
            <a:off x="4750920" y="3075120"/>
            <a:ext cx="3962520" cy="3813120"/>
          </a:xfrm>
          <a:prstGeom prst="rect">
            <a:avLst/>
          </a:prstGeom>
          <a:ln w="0">
            <a:noFill/>
          </a:ln>
        </p:spPr>
      </p:pic>
      <p:pic>
        <p:nvPicPr>
          <p:cNvPr id="912" name="TextBox 3" descr=""/>
          <p:cNvPicPr/>
          <p:nvPr/>
        </p:nvPicPr>
        <p:blipFill>
          <a:blip r:embed="rId9"/>
          <a:stretch/>
        </p:blipFill>
        <p:spPr>
          <a:xfrm>
            <a:off x="1749600" y="1109520"/>
            <a:ext cx="497988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Заголовок 1" descr=""/>
          <p:cNvPicPr/>
          <p:nvPr/>
        </p:nvPicPr>
        <p:blipFill>
          <a:blip r:embed="rId1"/>
          <a:stretch/>
        </p:blipFill>
        <p:spPr>
          <a:xfrm>
            <a:off x="755640" y="878040"/>
            <a:ext cx="6346800" cy="101124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 txBox="1"/>
          <p:nvPr/>
        </p:nvSpPr>
        <p:spPr>
          <a:xfrm>
            <a:off x="609480" y="2160360"/>
            <a:ext cx="698688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образование          …      слов при помощи   …  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учиться писать слова с суффиксами –ек-,-ик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Выучить слова по теме «…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15" name="Рисунок 3" descr=""/>
          <p:cNvPicPr/>
          <p:nvPr/>
        </p:nvPicPr>
        <p:blipFill>
          <a:blip r:embed="rId2"/>
          <a:stretch/>
        </p:blipFill>
        <p:spPr>
          <a:xfrm>
            <a:off x="4470480" y="4044960"/>
            <a:ext cx="4437000" cy="256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Заголовок 1" descr=""/>
          <p:cNvPicPr/>
          <p:nvPr/>
        </p:nvPicPr>
        <p:blipFill>
          <a:blip r:embed="rId1"/>
          <a:stretch/>
        </p:blipFill>
        <p:spPr>
          <a:xfrm>
            <a:off x="755640" y="878040"/>
            <a:ext cx="6346800" cy="1011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 txBox="1"/>
          <p:nvPr/>
        </p:nvSpPr>
        <p:spPr>
          <a:xfrm>
            <a:off x="609480" y="2160360"/>
            <a:ext cx="698688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образование  родственных слов при помощи суффикс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учиться писать слова с суффиксами –ек-,-ик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Выучить слова по теме «Игрушки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18" name="Рисунок 3" descr=""/>
          <p:cNvPicPr/>
          <p:nvPr/>
        </p:nvPicPr>
        <p:blipFill>
          <a:blip r:embed="rId2"/>
          <a:stretch/>
        </p:blipFill>
        <p:spPr>
          <a:xfrm>
            <a:off x="4470480" y="4044960"/>
            <a:ext cx="4437000" cy="256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395280" y="1628280"/>
            <a:ext cx="65628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правило образования родственных слов при помощи суффиксов, написание суффиксов –ек-,-и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2.Подвести итог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3.Познакомиться со словами по теме «Игрушки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395280" y="1628280"/>
            <a:ext cx="65628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правило образования родственных слов при помощи суффиксов, написание суффиксов –ек-,-и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2.Познакомиться со словами по теме «Игрушки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3.Подвести итог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Рисунок 3" descr=""/>
          <p:cNvPicPr/>
          <p:nvPr/>
        </p:nvPicPr>
        <p:blipFill>
          <a:blip r:embed="rId1"/>
          <a:srcRect l="0" t="28722" r="0" b="26326"/>
          <a:stretch/>
        </p:blipFill>
        <p:spPr>
          <a:xfrm>
            <a:off x="0" y="1316160"/>
            <a:ext cx="5724360" cy="5568840"/>
          </a:xfrm>
          <a:prstGeom prst="rect">
            <a:avLst/>
          </a:prstGeom>
          <a:ln w="0">
            <a:noFill/>
          </a:ln>
        </p:spPr>
      </p:pic>
      <p:pic>
        <p:nvPicPr>
          <p:cNvPr id="924" name="Заголовок 1" descr=""/>
          <p:cNvPicPr/>
          <p:nvPr/>
        </p:nvPicPr>
        <p:blipFill>
          <a:blip r:embed="rId2"/>
          <a:stretch/>
        </p:blipFill>
        <p:spPr>
          <a:xfrm>
            <a:off x="1023840" y="165240"/>
            <a:ext cx="6632640" cy="1395360"/>
          </a:xfrm>
          <a:prstGeom prst="rect">
            <a:avLst/>
          </a:prstGeom>
          <a:ln w="0">
            <a:noFill/>
          </a:ln>
        </p:spPr>
      </p:pic>
      <p:sp>
        <p:nvSpPr>
          <p:cNvPr id="925" name="Прямоугольник 2"/>
          <p:cNvSpPr/>
          <p:nvPr/>
        </p:nvSpPr>
        <p:spPr>
          <a:xfrm rot="720000">
            <a:off x="5341680" y="2300400"/>
            <a:ext cx="3322440" cy="30200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’m Tom. This is my toy. It is an elephant. Its name is Bob. It is grey. Bob likes apples. It can swim and dance. It can’t fly. I love my toy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6" name="Рисунок 5" descr=""/>
          <p:cNvPicPr/>
          <p:nvPr/>
        </p:nvPicPr>
        <p:blipFill>
          <a:blip r:embed="rId3"/>
          <a:stretch/>
        </p:blipFill>
        <p:spPr>
          <a:xfrm rot="465000">
            <a:off x="3660480" y="5076720"/>
            <a:ext cx="127944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16T13:45:09Z</dcterms:created>
  <dc:creator>Пользователь</dc:creator>
  <dc:description/>
  <dc:language>en-US</dc:language>
  <cp:lastModifiedBy>Пользователь</cp:lastModifiedBy>
  <dcterms:modified xsi:type="dcterms:W3CDTF">2024-12-17T15:48:45Z</dcterms:modified>
  <cp:revision>47</cp:revision>
  <dc:subject/>
  <dc:title>«Инклюзивное образование обучающихся в системе начального   общего образования».</dc:title>
</cp:coreProperties>
</file>