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0DA0-FC6A-4171-BACF-0F09E574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8694-190C-4E1D-8E8D-8F8B3F47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860C-B5F2-483D-A559-F0A83FD4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3C02-FFB3-49F5-B050-BE073856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4245-A8C0-4FDC-B10D-AF1AAAA7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93DB-526B-4982-AC18-4898A6B9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D57A-CD92-4DB9-B256-4EC4D3EE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E02C-D3F9-4157-B4D8-CB7A770F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A1E6-8683-46C2-BC5D-32DE60E4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FDBE-C506-4945-95FE-5E1EFE9C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DC13-EFCC-44E4-A0A1-20519BA4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2DF5-122B-4378-AE3B-1DEA42ED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91E6-B98D-4E04-A1CE-FC8CB0CB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728A-5132-4A63-A306-DAE582A1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95D8-1094-49D6-BAA4-1FFBC468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28B3-4098-463B-A366-1B242835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B6EF-28FB-4FFB-80EC-7B13FA94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25D51-F8D5-4DB9-A32B-E7B48472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AE9F5-AEB9-4737-9DE9-5871E6B8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0DE7A-0F32-4076-AAA1-D8EC26C0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73416-EDB7-4037-832F-87287DC5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1C3D4-D987-4743-B100-1B252DF4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2833-8190-4200-AFCD-59FAA07E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95C32-6BCB-4D2C-B3C1-932E626C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73F2B-A07F-47BC-8CA0-2D25EBB8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4B22D-8541-435D-92B0-ED157E18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61586-CB5F-48D9-81DC-FD27D4CC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5C5C1-F21E-44E7-A093-16D5553A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FD1BC-5DFD-4BE7-AC53-1173F78D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DB0B6-033D-4662-8927-5BAA21AF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AB23E-DE9B-492D-8C82-4602B782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975E4-8146-4BE6-A01A-3923D04B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546D0-C508-4249-B76B-E5AB4D31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5333-E49A-4418-95C0-713A866A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97F2D-7F98-4E14-A294-84BF7199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39C1B-AE67-40A6-8F91-F6D9C882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FFB60-4678-44B5-9E0F-75BCB57C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9FB01-7A55-4065-B4BE-77C58001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FBAA2-AE5B-446C-848A-8D8ACD58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D6A66-CF6C-45E6-853C-82966802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23CBD-DF98-485D-830C-2F02BC32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C4AB9-69D9-4CCE-9AF4-E4B60A77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00D4A-1259-4FC0-9604-EB477239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15A0-BEA7-4685-BFC4-64ED2B6E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B66B-6373-4D8B-9758-8C3BA482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48E2-D3D9-4E37-A06F-2D929059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7447-6A2C-4FF6-BAC9-D203149B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E0E2-6F8E-4311-A7BB-4C30BE53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5634-2982-4CBC-9F18-9229C77DF37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CDF4-8805-4A3B-9AA5-3A3650596F4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1106-0662-4432-9354-33288B29F18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B159-118C-40F9-9FBD-9F90F37F058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93560" y="811080"/>
            <a:ext cx="84981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785840" y="3571920"/>
            <a:ext cx="40719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ез прошлого нет будущего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1238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C:\Users\Vdovina-TV\Pictures\screenshot-1.jpg"/>
          <p:cNvPicPr/>
          <p:nvPr/>
        </p:nvPicPr>
        <p:blipFill>
          <a:blip r:embed="rId2"/>
          <a:stretch/>
        </p:blipFill>
        <p:spPr>
          <a:xfrm>
            <a:off x="285840" y="3429000"/>
            <a:ext cx="42526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56760" y="1052280"/>
            <a:ext cx="85726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ященная войн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Молодая гвардия»- антифашистская молодёжная организация, действовавшая в г.Краснодон Ворошиловоградской (Луганской) области УССР  в сентябре1942- январе1943 гг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3333600" y="3279600"/>
            <a:ext cx="2152800" cy="64548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4"/>
          <p:cNvSpPr/>
          <p:nvPr/>
        </p:nvSpPr>
        <p:spPr>
          <a:xfrm>
            <a:off x="4788000" y="5668920"/>
            <a:ext cx="3456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9680" y="713880"/>
            <a:ext cx="81867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00040" y="16430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6fc6"/>
                </a:solidFill>
                <a:latin typeface="Arial"/>
                <a:ea typeface="Arial"/>
              </a:rPr>
              <a:t>1.Какие операции провели молодогвардейцы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6fc6"/>
                </a:solidFill>
                <a:latin typeface="Arial"/>
                <a:ea typeface="Arial"/>
              </a:rPr>
              <a:t>2.Почему они остались в памяти народа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6fc6"/>
                </a:solidFill>
                <a:latin typeface="Arial"/>
                <a:ea typeface="Arial"/>
              </a:rPr>
              <a:t>3.Их можно назвать героями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олодогвардейцы были комсомольцам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f6fc6"/>
                </a:solidFill>
                <a:uFillTx/>
                <a:latin typeface="Arial"/>
                <a:ea typeface="Arial"/>
              </a:rPr>
              <a:t>Что вы знаете о комсомоле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стория комсомол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26" descr="C:\Users\Vdovina-TV\Pictures\02-04-15.jpg"/>
          <p:cNvPicPr/>
          <p:nvPr/>
        </p:nvPicPr>
        <p:blipFill>
          <a:blip r:embed="rId1"/>
          <a:stretch/>
        </p:blipFill>
        <p:spPr>
          <a:xfrm>
            <a:off x="6715080" y="3643200"/>
            <a:ext cx="19573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7120" y="785520"/>
            <a:ext cx="285768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Arial"/>
              </a:rPr>
              <a:t>Гости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1571400"/>
            <a:ext cx="41036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удашова Г.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имаков А.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ичугина Т.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16" descr="Изображение логотипа"/>
          <p:cNvPicPr/>
          <p:nvPr/>
        </p:nvPicPr>
        <p:blipFill>
          <a:blip r:embed="rId1"/>
          <a:stretch/>
        </p:blipFill>
        <p:spPr>
          <a:xfrm>
            <a:off x="4929120" y="1143000"/>
            <a:ext cx="3841920" cy="34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643960" cy="51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4617b"/>
                </a:solidFill>
                <a:latin typeface="Arial"/>
                <a:ea typeface="Arial"/>
              </a:rPr>
              <a:t>В.И.Ленин: 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комсомол-это политическая молодёжная организация в России.</a:t>
            </a:r>
            <a:endParaRPr b="0" lang="en-US" sz="2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85840" y="2356920"/>
            <a:ext cx="88581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6a3"/>
                </a:solidFill>
                <a:latin typeface="Arial"/>
              </a:rPr>
              <a:t>Какую роль сыграл комсомол в годы Велико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6a3"/>
                </a:solidFill>
                <a:latin typeface="Arial"/>
              </a:rPr>
              <a:t>Отечественной войны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3419640" y="4292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3929040" y="464328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385128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"/>
          <p:cNvPicPr/>
          <p:nvPr/>
        </p:nvPicPr>
        <p:blipFill>
          <a:blip r:embed="rId1"/>
          <a:stretch/>
        </p:blipFill>
        <p:spPr>
          <a:xfrm>
            <a:off x="4286160" y="3500280"/>
            <a:ext cx="4430880" cy="302292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14"/>
          <p:cNvSpPr/>
          <p:nvPr/>
        </p:nvSpPr>
        <p:spPr>
          <a:xfrm>
            <a:off x="214200" y="3929040"/>
            <a:ext cx="4071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сомол в годы 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28400" y="785520"/>
            <a:ext cx="85438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400" spc="-1" strike="noStrike">
                <a:solidFill>
                  <a:srgbClr val="0076a3"/>
                </a:solidFill>
                <a:latin typeface="Arial"/>
                <a:ea typeface="Arial"/>
              </a:rPr>
              <a:t>Защита Родины стала главным делом в жизни молодёжи в период </a:t>
            </a:r>
            <a:r>
              <a:rPr b="1" lang="ru-RU" sz="2400" spc="-1" strike="noStrike">
                <a:solidFill>
                  <a:srgbClr val="0076a3"/>
                </a:solidFill>
                <a:latin typeface="Arial"/>
              </a:rPr>
              <a:t>Великой Отечественной вой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0 лет назад на Донбассе фашисты казнили членов «Молодой гвардии»,перед этим подвергнув их жестоким пыткам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Прямоугольник 8"/>
          <p:cNvSpPr/>
          <p:nvPr/>
        </p:nvSpPr>
        <p:spPr>
          <a:xfrm>
            <a:off x="428760" y="2714760"/>
            <a:ext cx="642924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шная правда о Молодой гвард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ята были готовы к подвиг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ак вы,думаете,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9" descr="C:\Users\Vdovina-TV\Pictures\200809080219180.nepokor.jpg"/>
          <p:cNvPicPr/>
          <p:nvPr/>
        </p:nvPicPr>
        <p:blipFill>
          <a:blip r:embed="rId1"/>
          <a:stretch/>
        </p:blipFill>
        <p:spPr>
          <a:xfrm>
            <a:off x="6215040" y="2857680"/>
            <a:ext cx="2486160" cy="37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Arial"/>
                <a:ea typeface="Arial"/>
              </a:rPr>
              <a:t>Вечная памя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42920" y="1428480"/>
            <a:ext cx="8786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льяне Громовой, Ивану Земнухову, Олегу Кошевому, Сергею Тюленину, Любови Шевцовой посмертно были присвоены звания Героя Советского Союза. В 1990 году его удостоился Иван Туркенич. Множество участников были награждены медалью «Партизану Отечественной войны» I степени и орденом Отечественной войны I степени, шестеро — орденом Красной Звезды, трое — орденом Красного Знамен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инута молча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8" descr="C:\Users\Vdovina-TV\Pictures\screenshot-1.jpg"/>
          <p:cNvPicPr/>
          <p:nvPr/>
        </p:nvPicPr>
        <p:blipFill>
          <a:blip r:embed="rId1"/>
          <a:stretch/>
        </p:blipFill>
        <p:spPr>
          <a:xfrm>
            <a:off x="428760" y="311040"/>
            <a:ext cx="825336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ki</dc:creator>
  <dc:description/>
  <dc:language>en-US</dc:language>
  <cp:lastModifiedBy>Vdovina-TV</cp:lastModifiedBy>
  <dcterms:modified xsi:type="dcterms:W3CDTF">2022-12-01T14:37:14Z</dcterms:modified>
  <cp:revision>122</cp:revision>
  <dc:subject/>
  <dc:title>Годы священной войны</dc:title>
</cp:coreProperties>
</file>