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999D-00D6-4B66-80A0-9E44658BAB05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A0E7-19A3-488A-91E4-EB449A0F8E8E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B43C-24BB-43F0-9AF1-A80443DAC31F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72D7-F70D-4673-976A-1FCF4292021F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4C1B-D888-4D54-B2A8-90CB25CF5E9E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1A27-3CA6-403D-9440-27B87E10C358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E873-A865-4B85-B84D-0490EF0DDB89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0B04-7B00-4BC5-8F09-8F2778D2BF33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A97-81C9-43A1-8F00-B5C68BD3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98E-A002-4C1D-AAA7-81730441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FB0-3969-47D9-B4C8-007AB001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3D1-D782-4CB5-AB7E-B4AAD1E7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F37E-93B6-45E3-96A8-038DAE2F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D6CC-B3D2-49F9-95A3-77832675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76BF-4FB0-4F78-A03C-9D2B77B6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F1D7-7199-4FB9-8A5B-2A5B981B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173C-5A64-46A2-9343-4E97EEC5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A96D-3C9D-444A-A9BD-DDDADB58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B6B4-8A1A-4E64-B377-C835829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DBB-506F-42C5-B769-00F2CDCA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59C4-E82B-4E87-A3E5-C6F0B0CB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BA5F-5446-408F-A55A-DBA124CB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19C2-473B-4F1C-8186-D08318D7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24C7-49E6-45DA-91AA-068A27A1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12CF-938E-4C21-8944-F3C9C140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7F3-197B-4133-8998-30EF2A9E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BF1-CEDC-49AE-BEE0-8361B8F4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C1E-9CB9-4FA0-9F0B-C692C8E0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3A9-74B9-4F9D-BAAC-9A117AFF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7DF-9C2A-4C9D-9113-535CE2DB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008-1BAF-4253-86A6-6D760B6D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267-1485-4EB9-A87F-B8B10E3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2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47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28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0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4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3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13CF-16B0-44E3-9664-E5E4E97F64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2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28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0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1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2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3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5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6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17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18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19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0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2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5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6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27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29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5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38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39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0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1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2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0835-31E4-456C-ADE1-80C73EA679F6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1360" y="5214960"/>
            <a:ext cx="7072200" cy="13572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Александр Македонский: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удача сопутствует дерзким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4" name="Picture 30" descr="15mis_Start_03"/>
          <p:cNvPicPr/>
          <p:nvPr/>
        </p:nvPicPr>
        <p:blipFill>
          <a:blip r:embed="rId1"/>
          <a:stretch/>
        </p:blipFill>
        <p:spPr>
          <a:xfrm>
            <a:off x="3071880" y="785880"/>
            <a:ext cx="30718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2960" y="24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28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  <a:ea typeface="Tahoma"/>
              </a:rPr>
              <a:t>Назовите понятие которому соответствует описание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Tahoma"/>
              </a:rPr>
              <a:t>Пехота строилась в 16 рядов, первые шесть рядов клали длинные копья на впереди стоящих. В момент опасности воины, стоявшие в последних рядах, поворачивались лицом к врагу. Ее сравнивали со страшным, ощетинившимся железом зверя:</a:t>
            </a:r>
            <a:r>
              <a:rPr b="0" i="1" lang="ru-RU" sz="28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28800" y="507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А) триер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Б) фаланг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В) колонн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2960" y="24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  <a:ea typeface="Tahoma"/>
              </a:rPr>
              <a:t>Назовите понятие которому соответствует описание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Tahoma"/>
              </a:rPr>
              <a:t>Пехота строилась в 16 рядов, первые шесть рядов клали длинные копья на впереди стоящих.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  <a:ea typeface="Tahoma"/>
              </a:rPr>
              <a:t>В момент опасности воины, стоявшие в последних рядах, поворачивались лицом к врагу. Ее сравнивали со страшным, ощетинившимся железом зверя:</a:t>
            </a:r>
            <a:r>
              <a:rPr b="0" i="1" lang="ru-RU" sz="28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7160" y="5014800"/>
            <a:ext cx="4857840" cy="18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А) триер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Б) фаланг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В) колонн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714240" y="2110320"/>
            <a:ext cx="7610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8f8f8"/>
                </a:solidFill>
                <a:latin typeface="Tahoma"/>
                <a:ea typeface="Tahoma"/>
              </a:rPr>
              <a:t>Когда родился Александр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1" lang="en-US" sz="4400" spc="-1" strike="noStrike">
                <a:solidFill>
                  <a:srgbClr val="f8f8f8"/>
                </a:solidFill>
                <a:latin typeface="Tahoma"/>
                <a:ea typeface="Tahoma"/>
              </a:rPr>
              <a:t>(356 </a:t>
            </a:r>
            <a:r>
              <a:rPr b="1" lang="ru-RU" sz="4400" spc="-1" strike="noStrike">
                <a:solidFill>
                  <a:srgbClr val="f8f8f8"/>
                </a:solidFill>
                <a:latin typeface="Tahoma"/>
                <a:ea typeface="Tahoma"/>
              </a:rPr>
              <a:t>г. до н.э.)</a:t>
            </a:r>
            <a:r>
              <a:rPr b="0" lang="ru-RU" sz="4400" spc="-1" strike="noStrike">
                <a:solidFill>
                  <a:srgbClr val="f8f8f8"/>
                </a:solidFill>
                <a:latin typeface="Tahoma"/>
                <a:ea typeface="Tahoma"/>
              </a:rPr>
              <a:t>, оракул предсказал, что именно Александру суждено будет разрушить царство персов. 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500040" y="121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ahoma"/>
                <a:ea typeface="Tahoma"/>
              </a:rPr>
              <a:t>Предсказание</a:t>
            </a:r>
            <a:endParaRPr b="0" lang="en-US" sz="48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Арестотель"/>
          <p:cNvPicPr/>
          <p:nvPr/>
        </p:nvPicPr>
        <p:blipFill>
          <a:blip r:embed="rId1"/>
          <a:stretch/>
        </p:blipFill>
        <p:spPr>
          <a:xfrm>
            <a:off x="928800" y="1785960"/>
            <a:ext cx="3184560" cy="4232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ahoma"/>
                <a:ea typeface="Tahoma"/>
              </a:rPr>
              <a:t>Аристотель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9040" y="1817280"/>
            <a:ext cx="4572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     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Аристотель учил физике, этике, истории и другим наука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  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Авторитет Аристотеля – величайшего философа - был настолько высок, что в течение многих столетий его суждения не подлежали сомнению.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2перед.avi" descr=""/>
          <p:cNvPicPr/>
          <p:nvPr/>
        </p:nvPicPr>
        <p:blipFill>
          <a:blip r:embed="rId1"/>
          <a:stretch/>
        </p:blipFill>
        <p:spPr>
          <a:xfrm>
            <a:off x="1071720" y="1428840"/>
            <a:ext cx="700056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1160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ahoma"/>
                <a:ea typeface="Tahoma"/>
              </a:rPr>
              <a:t>Подготовка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4200" y="4285800"/>
            <a:ext cx="8436240" cy="29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  <a:ea typeface="Tahoma"/>
              </a:rPr>
              <a:t>Александр понимал, чтобы победить персов ему необходим прочный союз с Элладой, поэтому первое, что он сделал, - создал греко-македонское войск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6" descr="тьл"/>
          <p:cNvPicPr/>
          <p:nvPr/>
        </p:nvPicPr>
        <p:blipFill>
          <a:blip r:embed="rId1"/>
          <a:stretch/>
        </p:blipFill>
        <p:spPr>
          <a:xfrm>
            <a:off x="1571760" y="1500120"/>
            <a:ext cx="60642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85920" y="1000080"/>
            <a:ext cx="6748560" cy="6876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НАЧАЛО ВОЙ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5" name="Picture 6" descr="Рисунок2"/>
          <p:cNvPicPr/>
          <p:nvPr/>
        </p:nvPicPr>
        <p:blipFill>
          <a:blip r:embed="rId1"/>
          <a:stretch/>
        </p:blipFill>
        <p:spPr>
          <a:xfrm>
            <a:off x="1000080" y="2016000"/>
            <a:ext cx="3214800" cy="3775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16" name="Text Box 7"/>
          <p:cNvSpPr/>
          <p:nvPr/>
        </p:nvSpPr>
        <p:spPr>
          <a:xfrm>
            <a:off x="1115280" y="6072120"/>
            <a:ext cx="2954520" cy="4597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Александр Великий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8720" y="2071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  </a:t>
            </a:r>
            <a:r>
              <a:rPr b="0" lang="ru-RU" sz="3600" spc="-1" strike="noStrike">
                <a:solidFill>
                  <a:srgbClr val="f8f8f8"/>
                </a:solidFill>
                <a:latin typeface="Tahoma"/>
                <a:ea typeface="Tahoma"/>
              </a:rPr>
              <a:t>В мае 334 г. до н. э. начался поход в сердце персидской державы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6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6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7" name="Rectangle 6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НАЧАЛО ВОЙНЫ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9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3" descr="Рисунок2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2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5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7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8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9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0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1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4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5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6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7" name="Rectangle 68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  <a:ea typeface="Tahoma"/>
              </a:rPr>
              <a:t>От битвы при Иссе 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  <a:ea typeface="Tahoma"/>
              </a:rPr>
              <a:t>до основания Александрии Египетской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1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25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1" descr="Рисунок2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4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5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6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7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8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9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0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2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3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6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7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9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0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2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4" name="Rectangle 69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ЗАВОЕВАНИЕ ФИНИКИИ</a:t>
            </a:r>
            <a:endParaRPr b="0" lang="en-US" sz="48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725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Территория Македонского царства находилась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57160" y="335736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А) на севере Балканского полуостров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на юге Балканского полуостров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в Малой Азии, неподалеку от Аттик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3920" y="1071360"/>
            <a:ext cx="6643800" cy="92844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ЗАВОЕВАНИЕ ТИР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6" name="Picture 7" descr="Рисунок1"/>
          <p:cNvPicPr/>
          <p:nvPr/>
        </p:nvPicPr>
        <p:blipFill>
          <a:blip r:embed="rId1"/>
          <a:stretch/>
        </p:blipFill>
        <p:spPr>
          <a:xfrm>
            <a:off x="1000080" y="2286000"/>
            <a:ext cx="3409920" cy="4002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1640" y="2143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Александр подогнал к городу боевую технику: балисты, тараны, башни и ящичные вороны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д их ударами стены рухнули, город ТИР пал. После этог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арий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предложил мир,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 Александр ответил отказом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82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7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5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7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8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9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0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1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3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4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5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6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7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9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0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1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2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3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4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5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8" name="Rectangle 6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ЗАВОЕВАНИЕ ЕГИПТА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9" name="AutoShape 71"/>
          <p:cNvSpPr/>
          <p:nvPr/>
        </p:nvSpPr>
        <p:spPr>
          <a:xfrm>
            <a:off x="1265400" y="488628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0" name="Text Box 72"/>
          <p:cNvSpPr/>
          <p:nvPr/>
        </p:nvSpPr>
        <p:spPr>
          <a:xfrm>
            <a:off x="443520" y="5362560"/>
            <a:ext cx="200808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лександрия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1" dur="1" fill="hold"/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8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12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3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8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9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0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1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2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3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4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5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6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8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0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1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3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4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5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6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7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1" name="Rectangle 3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ГИБЕЛЬ ПЕРСИДСКОГО ЦАРСТВА</a:t>
            </a:r>
            <a:endParaRPr b="0" lang="en-US" sz="36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2" name="AutoShape 37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3" name="AutoShape 38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4" name="AutoShape 40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5" name="AutoShape 41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6" name="AutoShape 4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7" name="AutoShape 4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8" name="AutoShape 4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9" name="Text Box 45"/>
          <p:cNvSpPr/>
          <p:nvPr/>
        </p:nvSpPr>
        <p:spPr>
          <a:xfrm>
            <a:off x="3589920" y="320040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3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evt="end">
                                        <p:tn val="227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evt="end">
                                        <p:tn val="231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5перед.avi" descr=""/>
          <p:cNvPicPr/>
          <p:nvPr/>
        </p:nvPicPr>
        <p:blipFill>
          <a:blip r:embed="rId1"/>
          <a:stretch/>
        </p:blipFill>
        <p:spPr>
          <a:xfrm>
            <a:off x="1071720" y="1357200"/>
            <a:ext cx="70005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68200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0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28440" y="999720"/>
            <a:ext cx="7358040" cy="609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Times New Roman"/>
              </a:rPr>
              <a:t>ГИБЕЛЬ ПЕРСИДСКОГО ЦАРСТВ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2" name="Picture 10" descr="Рисунок5"/>
          <p:cNvPicPr/>
          <p:nvPr/>
        </p:nvPicPr>
        <p:blipFill>
          <a:blip r:embed="rId1"/>
          <a:stretch/>
        </p:blipFill>
        <p:spPr>
          <a:xfrm>
            <a:off x="2214720" y="1857240"/>
            <a:ext cx="4857480" cy="3643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53" name="Rectangle 11"/>
          <p:cNvSpPr/>
          <p:nvPr/>
        </p:nvSpPr>
        <p:spPr>
          <a:xfrm>
            <a:off x="3357720" y="5715000"/>
            <a:ext cx="2444760" cy="9367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 бою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1720" y="1356840"/>
            <a:ext cx="6858000" cy="7146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ГИБЕЛЬ ПЕРСИДСКОГО ЦАРСТВА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5" name="Picture 9" descr="Рисунок2"/>
          <p:cNvPicPr/>
          <p:nvPr/>
        </p:nvPicPr>
        <p:blipFill>
          <a:blip r:embed="rId1"/>
          <a:stretch/>
        </p:blipFill>
        <p:spPr>
          <a:xfrm>
            <a:off x="1071720" y="2714760"/>
            <a:ext cx="7064280" cy="2786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4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57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8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3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5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6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7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8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9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0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2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3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4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5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6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7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8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9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0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1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2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3" name="AutoShape 30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4" name="AutoShape 31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5" name="AutoShape 3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6" name="AutoShape 3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7" name="AutoShape 3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8" name="AutoShape 35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9" name="AutoShape 36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0" name="AutoShape 38"/>
          <p:cNvSpPr/>
          <p:nvPr/>
        </p:nvSpPr>
        <p:spPr>
          <a:xfrm>
            <a:off x="3809880" y="46483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1" name="AutoShape 39"/>
          <p:cNvSpPr/>
          <p:nvPr/>
        </p:nvSpPr>
        <p:spPr>
          <a:xfrm rot="18546000">
            <a:off x="4724280" y="47239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2" name="AutoShape 40"/>
          <p:cNvSpPr/>
          <p:nvPr/>
        </p:nvSpPr>
        <p:spPr>
          <a:xfrm rot="3697800">
            <a:off x="4198680" y="4594320"/>
            <a:ext cx="1357200" cy="287280"/>
          </a:xfrm>
          <a:prstGeom prst="leftArrow">
            <a:avLst>
              <a:gd name="adj1" fmla="val 50000"/>
              <a:gd name="adj2" fmla="val 11810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3" name="AutoShape 41"/>
          <p:cNvSpPr/>
          <p:nvPr/>
        </p:nvSpPr>
        <p:spPr>
          <a:xfrm rot="20335800">
            <a:off x="4724280" y="3886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4" name="AutoShape 42"/>
          <p:cNvSpPr/>
          <p:nvPr/>
        </p:nvSpPr>
        <p:spPr>
          <a:xfrm>
            <a:off x="5562720" y="35053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5" name="AutoShape 43"/>
          <p:cNvSpPr/>
          <p:nvPr/>
        </p:nvSpPr>
        <p:spPr>
          <a:xfrm rot="3018000">
            <a:off x="6240960" y="3740760"/>
            <a:ext cx="762120" cy="59544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440"/>
              <a:gd name="textAreaBottom" fmla="*/ 508320 h 595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6" name="AutoShape 45"/>
          <p:cNvSpPr/>
          <p:nvPr/>
        </p:nvSpPr>
        <p:spPr>
          <a:xfrm rot="4648800">
            <a:off x="6393240" y="4426560"/>
            <a:ext cx="762120" cy="59508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7" name="AutoShape 46"/>
          <p:cNvSpPr/>
          <p:nvPr/>
        </p:nvSpPr>
        <p:spPr>
          <a:xfrm flipH="1" rot="8961000">
            <a:off x="6705000" y="4647960"/>
            <a:ext cx="761760" cy="595080"/>
          </a:xfrm>
          <a:custGeom>
            <a:avLst/>
            <a:gdLst>
              <a:gd name="textAreaLeft" fmla="*/ 111600 w 761760"/>
              <a:gd name="textAreaRight" fmla="*/ 650160 w 76176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8" name="AutoShape 47"/>
          <p:cNvSpPr/>
          <p:nvPr/>
        </p:nvSpPr>
        <p:spPr>
          <a:xfrm rot="17795400">
            <a:off x="7131600" y="406944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9" name="AutoShape 48"/>
          <p:cNvSpPr/>
          <p:nvPr/>
        </p:nvSpPr>
        <p:spPr>
          <a:xfrm rot="13726800">
            <a:off x="6797520" y="3031560"/>
            <a:ext cx="1338480" cy="608040"/>
          </a:xfrm>
          <a:custGeom>
            <a:avLst/>
            <a:gdLst>
              <a:gd name="textAreaLeft" fmla="*/ 195840 w 1338480"/>
              <a:gd name="textAreaRight" fmla="*/ 1142640 w 1338480"/>
              <a:gd name="textAreaTop" fmla="*/ 88920 h 608040"/>
              <a:gd name="textAreaBottom" fmla="*/ 519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400" name="Group 51"/>
          <p:cNvGrpSpPr/>
          <p:nvPr/>
        </p:nvGrpSpPr>
        <p:grpSpPr>
          <a:xfrm>
            <a:off x="6352200" y="1863360"/>
            <a:ext cx="1705320" cy="1075680"/>
            <a:chOff x="6352200" y="1863360"/>
            <a:chExt cx="1705320" cy="1075680"/>
          </a:xfrm>
        </p:grpSpPr>
        <p:sp>
          <p:nvSpPr>
            <p:cNvPr id="401" name="AutoShape 49"/>
            <p:cNvSpPr/>
            <p:nvPr/>
          </p:nvSpPr>
          <p:spPr>
            <a:xfrm rot="2395200">
              <a:off x="7314840" y="19051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02" name="AutoShape 50"/>
            <p:cNvSpPr/>
            <p:nvPr/>
          </p:nvSpPr>
          <p:spPr>
            <a:xfrm rot="18399600">
              <a:off x="6645600" y="196452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403" name="AutoShape 52"/>
          <p:cNvSpPr/>
          <p:nvPr/>
        </p:nvSpPr>
        <p:spPr>
          <a:xfrm rot="19559400">
            <a:off x="7480080" y="270936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4" name="AutoShape 53"/>
          <p:cNvSpPr/>
          <p:nvPr/>
        </p:nvSpPr>
        <p:spPr>
          <a:xfrm rot="861600">
            <a:off x="7772040" y="373356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5" name="AutoShape 54"/>
          <p:cNvSpPr/>
          <p:nvPr/>
        </p:nvSpPr>
        <p:spPr>
          <a:xfrm>
            <a:off x="8534520" y="3809880"/>
            <a:ext cx="609480" cy="60984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6" name="AutoShape 55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7" name="AutoShape 56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8" name="AutoShape 57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9" name="AutoShape 58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0" name="Text Box 63"/>
          <p:cNvSpPr/>
          <p:nvPr/>
        </p:nvSpPr>
        <p:spPr>
          <a:xfrm>
            <a:off x="2413080" y="5046840"/>
            <a:ext cx="13741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авилон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1" name="AutoShape 64"/>
          <p:cNvSpPr/>
          <p:nvPr/>
        </p:nvSpPr>
        <p:spPr>
          <a:xfrm>
            <a:off x="3394080" y="4741920"/>
            <a:ext cx="457200" cy="304920"/>
          </a:xfrm>
          <a:custGeom>
            <a:avLst/>
            <a:gdLst>
              <a:gd name="textAreaLeft" fmla="*/ 66960 w 457200"/>
              <a:gd name="textAreaRight" fmla="*/ 390240 w 45720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2" name="AutoShape 37"/>
          <p:cNvSpPr/>
          <p:nvPr/>
        </p:nvSpPr>
        <p:spPr>
          <a:xfrm>
            <a:off x="3657600" y="411480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3" name="Text Box 65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4" name="Text Box 66"/>
          <p:cNvSpPr/>
          <p:nvPr/>
        </p:nvSpPr>
        <p:spPr>
          <a:xfrm>
            <a:off x="3589920" y="320184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5" name="Text Box 67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6" name="Text Box 68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7" name="Rectangle 6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ОХОД В ИНДИЮ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8" name="Text Box 65"/>
          <p:cNvSpPr/>
          <p:nvPr/>
        </p:nvSpPr>
        <p:spPr>
          <a:xfrm>
            <a:off x="8219880" y="4429080"/>
            <a:ext cx="7477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нд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0" name="20_slon.wmv" descr=""/>
          <p:cNvPicPr/>
          <p:nvPr/>
        </p:nvPicPr>
        <p:blipFill>
          <a:blip r:embed="rId1"/>
          <a:stretch/>
        </p:blipFill>
        <p:spPr>
          <a:xfrm>
            <a:off x="395280" y="76320"/>
            <a:ext cx="84787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7" dur="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1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22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3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7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8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0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1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2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3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4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5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6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7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8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39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0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1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2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3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4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5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6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7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8" name="AutoShape 30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49" name="AutoShape 31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0" name="AutoShape 3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1" name="AutoShape 3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2" name="AutoShape 3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3" name="AutoShape 35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4" name="AutoShape 36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5" name="AutoShape 37"/>
          <p:cNvSpPr/>
          <p:nvPr/>
        </p:nvSpPr>
        <p:spPr>
          <a:xfrm>
            <a:off x="3809880" y="46483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6" name="AutoShape 38"/>
          <p:cNvSpPr/>
          <p:nvPr/>
        </p:nvSpPr>
        <p:spPr>
          <a:xfrm rot="18546000">
            <a:off x="4724280" y="47239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7" name="AutoShape 39"/>
          <p:cNvSpPr/>
          <p:nvPr/>
        </p:nvSpPr>
        <p:spPr>
          <a:xfrm rot="3697800">
            <a:off x="4211280" y="4664160"/>
            <a:ext cx="1357200" cy="287280"/>
          </a:xfrm>
          <a:prstGeom prst="leftArrow">
            <a:avLst>
              <a:gd name="adj1" fmla="val 50000"/>
              <a:gd name="adj2" fmla="val 11810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8" name="AutoShape 40"/>
          <p:cNvSpPr/>
          <p:nvPr/>
        </p:nvSpPr>
        <p:spPr>
          <a:xfrm rot="20335800">
            <a:off x="4724280" y="3886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59" name="AutoShape 41"/>
          <p:cNvSpPr/>
          <p:nvPr/>
        </p:nvSpPr>
        <p:spPr>
          <a:xfrm>
            <a:off x="5562720" y="35053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0" name="AutoShape 42"/>
          <p:cNvSpPr/>
          <p:nvPr/>
        </p:nvSpPr>
        <p:spPr>
          <a:xfrm rot="3018000">
            <a:off x="6240960" y="3740760"/>
            <a:ext cx="762120" cy="59544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440"/>
              <a:gd name="textAreaBottom" fmla="*/ 508320 h 595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1" name="AutoShape 43"/>
          <p:cNvSpPr/>
          <p:nvPr/>
        </p:nvSpPr>
        <p:spPr>
          <a:xfrm rot="4648800">
            <a:off x="6393240" y="4426560"/>
            <a:ext cx="762120" cy="59508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2" name="AutoShape 44"/>
          <p:cNvSpPr/>
          <p:nvPr/>
        </p:nvSpPr>
        <p:spPr>
          <a:xfrm flipH="1" rot="8961000">
            <a:off x="6705000" y="4647960"/>
            <a:ext cx="761760" cy="595080"/>
          </a:xfrm>
          <a:custGeom>
            <a:avLst/>
            <a:gdLst>
              <a:gd name="textAreaLeft" fmla="*/ 111600 w 761760"/>
              <a:gd name="textAreaRight" fmla="*/ 650160 w 76176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3" name="AutoShape 45"/>
          <p:cNvSpPr/>
          <p:nvPr/>
        </p:nvSpPr>
        <p:spPr>
          <a:xfrm rot="17795400">
            <a:off x="7131600" y="406944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4" name="AutoShape 46"/>
          <p:cNvSpPr/>
          <p:nvPr/>
        </p:nvSpPr>
        <p:spPr>
          <a:xfrm rot="13726800">
            <a:off x="6797520" y="3031560"/>
            <a:ext cx="1338480" cy="608040"/>
          </a:xfrm>
          <a:custGeom>
            <a:avLst/>
            <a:gdLst>
              <a:gd name="textAreaLeft" fmla="*/ 195840 w 1338480"/>
              <a:gd name="textAreaRight" fmla="*/ 1142640 w 1338480"/>
              <a:gd name="textAreaTop" fmla="*/ 88920 h 608040"/>
              <a:gd name="textAreaBottom" fmla="*/ 519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465" name="Group 47"/>
          <p:cNvGrpSpPr/>
          <p:nvPr/>
        </p:nvGrpSpPr>
        <p:grpSpPr>
          <a:xfrm>
            <a:off x="6352200" y="1863360"/>
            <a:ext cx="1705320" cy="1075680"/>
            <a:chOff x="6352200" y="1863360"/>
            <a:chExt cx="1705320" cy="1075680"/>
          </a:xfrm>
        </p:grpSpPr>
        <p:sp>
          <p:nvSpPr>
            <p:cNvPr id="466" name="AutoShape 48"/>
            <p:cNvSpPr/>
            <p:nvPr/>
          </p:nvSpPr>
          <p:spPr>
            <a:xfrm rot="2395200">
              <a:off x="7314840" y="19051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7" name="AutoShape 49"/>
            <p:cNvSpPr/>
            <p:nvPr/>
          </p:nvSpPr>
          <p:spPr>
            <a:xfrm rot="18399600">
              <a:off x="6645600" y="196452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468" name="AutoShape 50"/>
          <p:cNvSpPr/>
          <p:nvPr/>
        </p:nvSpPr>
        <p:spPr>
          <a:xfrm rot="19559400">
            <a:off x="7480080" y="270936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69" name="AutoShape 51"/>
          <p:cNvSpPr/>
          <p:nvPr/>
        </p:nvSpPr>
        <p:spPr>
          <a:xfrm rot="861600">
            <a:off x="7772040" y="373356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0" name="AutoShape 52"/>
          <p:cNvSpPr/>
          <p:nvPr/>
        </p:nvSpPr>
        <p:spPr>
          <a:xfrm>
            <a:off x="8534520" y="3809880"/>
            <a:ext cx="609480" cy="60984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1" name="AutoShape 53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2" name="AutoShape 54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3" name="AutoShape 55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4" name="AutoShape 56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5" name="AutoShape 57"/>
          <p:cNvSpPr/>
          <p:nvPr/>
        </p:nvSpPr>
        <p:spPr>
          <a:xfrm rot="1275600">
            <a:off x="8164080" y="4392360"/>
            <a:ext cx="304920" cy="1752480"/>
          </a:xfrm>
          <a:prstGeom prst="downArrow">
            <a:avLst>
              <a:gd name="adj1" fmla="val 50000"/>
              <a:gd name="adj2" fmla="val 14368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6" name="AutoShape 58"/>
          <p:cNvSpPr/>
          <p:nvPr/>
        </p:nvSpPr>
        <p:spPr>
          <a:xfrm rot="224400">
            <a:off x="6552720" y="5866920"/>
            <a:ext cx="1509840" cy="304920"/>
          </a:xfrm>
          <a:prstGeom prst="leftArrow">
            <a:avLst>
              <a:gd name="adj1" fmla="val 50000"/>
              <a:gd name="adj2" fmla="val 123790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7" name="AutoShape 59"/>
          <p:cNvSpPr/>
          <p:nvPr/>
        </p:nvSpPr>
        <p:spPr>
          <a:xfrm rot="1135200">
            <a:off x="5105520" y="5484600"/>
            <a:ext cx="1450800" cy="341280"/>
          </a:xfrm>
          <a:prstGeom prst="leftArrow">
            <a:avLst>
              <a:gd name="adj1" fmla="val 50000"/>
              <a:gd name="adj2" fmla="val 106276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8" name="AutoShape 60"/>
          <p:cNvSpPr/>
          <p:nvPr/>
        </p:nvSpPr>
        <p:spPr>
          <a:xfrm rot="1220400">
            <a:off x="3657240" y="4876920"/>
            <a:ext cx="1585800" cy="380880"/>
          </a:xfrm>
          <a:prstGeom prst="leftArrow">
            <a:avLst>
              <a:gd name="adj1" fmla="val 50000"/>
              <a:gd name="adj2" fmla="val 10408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79" name="AutoShape 63"/>
          <p:cNvSpPr/>
          <p:nvPr/>
        </p:nvSpPr>
        <p:spPr>
          <a:xfrm>
            <a:off x="3657600" y="411480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0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1" name="Text Box 65"/>
          <p:cNvSpPr/>
          <p:nvPr/>
        </p:nvSpPr>
        <p:spPr>
          <a:xfrm>
            <a:off x="3589920" y="320184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2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3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4" name="Rectangle 6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  <a:ea typeface="Tahoma"/>
              </a:rPr>
              <a:t>Цель Александра – завоевать весь мир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5" name="Text Box 72"/>
          <p:cNvSpPr/>
          <p:nvPr/>
        </p:nvSpPr>
        <p:spPr>
          <a:xfrm>
            <a:off x="2413080" y="5046840"/>
            <a:ext cx="13741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авилон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86" name="AutoShape 73"/>
          <p:cNvSpPr/>
          <p:nvPr/>
        </p:nvSpPr>
        <p:spPr>
          <a:xfrm>
            <a:off x="3394080" y="4741920"/>
            <a:ext cx="457200" cy="304920"/>
          </a:xfrm>
          <a:custGeom>
            <a:avLst/>
            <a:gdLst>
              <a:gd name="textAreaLeft" fmla="*/ 66960 w 457200"/>
              <a:gd name="textAreaRight" fmla="*/ 390240 w 45720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10717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  <a:ea typeface="Tahoma"/>
              </a:rPr>
              <a:t>Смерть Александра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9680" y="4000680"/>
            <a:ext cx="8001000" cy="27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Однажды, вернувшись с пира, Александр внезапно заболел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 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Некоторые историки считают, что Александр был отравлен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     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Вечером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13 июня 323 г. до н.э.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  <a:ea typeface="Tahoma"/>
              </a:rPr>
              <a:t>один из величайших полководцев  Александр Македонский умер. Ему было всего 32 год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89" name="Picture 9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530568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8588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Территория Македонского царства находилась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85880" y="3143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) на севере Балканского полуостров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на юге Балканского полуостров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в Малой Азии, неподалеку от Аттик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  <a:ea typeface="Tahoma"/>
              </a:rPr>
              <a:t>Значение в истории  личности Александра Македонского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42960" y="2143080"/>
            <a:ext cx="357192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Александр воевал 10 лет (334-324гг. до н.э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Ему принадлежали 4 мира: Персия, Египет, Финикия, Греция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Не только завоеватель, но и созидатель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Он построил более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20 городов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f8f8f8"/>
                </a:solidFill>
                <a:latin typeface="Tahoma"/>
                <a:ea typeface="Tahoma"/>
              </a:rPr>
              <a:t>Распространитель эллинской культуры,  Александр Македонский стал одним из героев истории многих народов мир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92" name="Picture 4" descr="Македонская империя"/>
          <p:cNvPicPr/>
          <p:nvPr/>
        </p:nvPicPr>
        <p:blipFill>
          <a:blip r:embed="rId1"/>
          <a:stretch/>
        </p:blipFill>
        <p:spPr>
          <a:xfrm>
            <a:off x="4357800" y="2286000"/>
            <a:ext cx="3806640" cy="2786040"/>
          </a:xfrm>
          <a:prstGeom prst="rect">
            <a:avLst/>
          </a:prstGeom>
          <a:ln w="0">
            <a:noFill/>
          </a:ln>
        </p:spPr>
      </p:pic>
      <p:sp>
        <p:nvSpPr>
          <p:cNvPr id="493" name="TextBox 4"/>
          <p:cNvSpPr/>
          <p:nvPr/>
        </p:nvSpPr>
        <p:spPr>
          <a:xfrm>
            <a:off x="3857760" y="5357880"/>
            <a:ext cx="4929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Я думаю, что в то время 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не было ни народа,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ни города, ни человека,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до которого не дошло бы имя Александра.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                                              </a:t>
            </a: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ПЛУТАРХ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ff29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1071720" y="2286000"/>
            <a:ext cx="7286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§42 прочитать, 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1) написать мини-сочинение на тему «Что привлекает вас в личности Александра Македонского? 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Что вам не нравится в нем?»;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2) заполнить таблицу.</a:t>
            </a:r>
            <a:endParaRPr b="0" lang="en-US" sz="32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88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С призывами выступить против царя Македонии Филиппа к грекам обращался: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71720" y="342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А) Демосф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Исокра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Эсхи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1720" y="21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С призывами выступить против царя Македонии Филиппа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к грекам обращался: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71720" y="3571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) Демосф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Исокра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Эсхил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Объясните происхождение и </a:t>
            </a:r>
            <a:br>
              <a:rPr sz="3600"/>
            </a:b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смысл выражения.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Филиппика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57160" y="321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А) от имени царя Филиппа – гневная обличительная речь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от имени Филипп – сильное чувство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от имени царя Филиппа – страстная защита чего-либо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Объясните происхождение и смысл выражения.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Филиппика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57160" y="321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) от имени царя Филиппа – гневная обличительная речь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от имени Филипп – сильное чувство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от имени царя Филиппа – страстная защита чего-либо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149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Найдите лишнее.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Сильной армию македонского царя Филиппа делали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85880" y="30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А) применение осадных баш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использование преимуществ фаланг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В) применение военных судов новой конструкци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149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9ff29"/>
                </a:solidFill>
                <a:latin typeface="Tahoma"/>
                <a:ea typeface="Tahoma"/>
              </a:rPr>
              <a:t>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  <a:ea typeface="Tahoma"/>
              </a:rPr>
              <a:t>Найдите лишнее.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  <a:ea typeface="Tahoma"/>
              </a:rPr>
              <a:t>Сильной армию македонского царя Филиппа делали: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85880" y="30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А) применение осадных баш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  <a:ea typeface="Tahoma"/>
              </a:rPr>
              <a:t>Б) использование преимуществ фаланг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В) применение военных судов новой конструкци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6T12:10:00Z</dcterms:created>
  <dc:creator>ЧЕРНОВ АЛЕКСЕЙ</dc:creator>
  <dc:description/>
  <dc:language>en-US</dc:language>
  <cp:lastModifiedBy>GMR</cp:lastModifiedBy>
  <dcterms:modified xsi:type="dcterms:W3CDTF">2025-06-20T08:42:37Z</dcterms:modified>
  <cp:revision>110</cp:revision>
  <dc:subject/>
  <dc:title>Заголовок слайда отсутствует</dc:title>
</cp:coreProperties>
</file>