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D02-9191-4223-A3CD-4B378999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D85-F8C2-46B8-B012-3F4B07E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913-BE68-4F3C-B037-F9FE5FF0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52B-116F-44E3-87ED-A0B95DF1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DE5-DA1C-4E17-925D-2965D0D1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038-F056-4A85-A200-D345DF3F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BB5-8910-45FE-88BC-DEB1AF8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79D-A774-4F4E-9ACC-0C653F0B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535-A51F-41CB-A7D0-807100FB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FF4-C1B1-4B9F-80C2-D2B66A3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66A-16EE-49B9-9E8B-D400866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4D35-28B2-407A-9CC4-0A4D9FF1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EEC-96DF-4851-B7AA-C3F0FD3F7F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1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.Продолжи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смысловую цепочку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. Яковлев. «Зимний вечер» -…,  …,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 С Пушкин «Зимний вечер»-…,  …, 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0040" y="3071880"/>
            <a:ext cx="78580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Романс, музыкальность слова,  литература, мелодия, стихотворение, му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ергей Лемешев Зимний вечер (М. Яковлев - А. Пушкин) [1958].mp3" descr=""/>
          <p:cNvPicPr/>
          <p:nvPr/>
        </p:nvPicPr>
        <p:blipFill>
          <a:blip r:embed="rId1"/>
          <a:stretch/>
        </p:blipFill>
        <p:spPr>
          <a:xfrm>
            <a:off x="6357960" y="947880"/>
            <a:ext cx="7858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0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чувства вызвала у тебя музы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 Жалобы Эвридики». Запиши 2 предложения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 virtuosi di Roma 2 д. 2 сцена. Жалобы Эвридики (соло флеиты).mp3" descr=""/>
          <p:cNvPicPr/>
          <p:nvPr/>
        </p:nvPicPr>
        <p:blipFill>
          <a:blip r:embed="rId1"/>
          <a:stretch/>
        </p:blipFill>
        <p:spPr>
          <a:xfrm>
            <a:off x="6019920" y="92880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3200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связь между музыкой и литературой ты проследил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служило основой для лит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служило основой для музы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те результат работы на уро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«+»- оценк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«+»- оценк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«+»- оценк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й сказку или рассказ о музыке. Запиши её в тетра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Содержимое 4" descr="0_c18e5_2bc58f1f_L.jpeg.jpg"/>
          <p:cNvPicPr/>
          <p:nvPr/>
        </p:nvPicPr>
        <p:blipFill>
          <a:blip r:embed="rId1"/>
          <a:stretch/>
        </p:blipFill>
        <p:spPr>
          <a:xfrm>
            <a:off x="0" y="0"/>
            <a:ext cx="3071880" cy="350028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59euyeof.jpg"/>
          <p:cNvPicPr/>
          <p:nvPr/>
        </p:nvPicPr>
        <p:blipFill>
          <a:blip r:embed="rId2"/>
          <a:stretch/>
        </p:blipFill>
        <p:spPr>
          <a:xfrm>
            <a:off x="3429000" y="0"/>
            <a:ext cx="2357280" cy="3375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7345.jpg"/>
          <p:cNvPicPr/>
          <p:nvPr/>
        </p:nvPicPr>
        <p:blipFill>
          <a:blip r:embed="rId3"/>
          <a:stretch/>
        </p:blipFill>
        <p:spPr>
          <a:xfrm>
            <a:off x="4643280" y="3000240"/>
            <a:ext cx="2643480" cy="3676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images.jpg"/>
          <p:cNvPicPr/>
          <p:nvPr/>
        </p:nvPicPr>
        <p:blipFill>
          <a:blip r:embed="rId4"/>
          <a:stretch/>
        </p:blipFill>
        <p:spPr>
          <a:xfrm>
            <a:off x="1428840" y="3000240"/>
            <a:ext cx="2905200" cy="36608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VAgG.jpg"/>
          <p:cNvPicPr/>
          <p:nvPr/>
        </p:nvPicPr>
        <p:blipFill>
          <a:blip r:embed="rId5"/>
          <a:stretch/>
        </p:blipFill>
        <p:spPr>
          <a:xfrm>
            <a:off x="6357960" y="0"/>
            <a:ext cx="25398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льные сюжеты в литератур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урока: установить связь музык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ф об Орф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00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Миф об Орфее на странице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ую историю ты узнал, прочитав миф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могло Орфею спуститься в царство мёртв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м инструменте играл Орф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астливый или печальный конец у  миф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далее 3"/>
          <p:cNvSpPr/>
          <p:nvPr/>
        </p:nvSpPr>
        <p:spPr>
          <a:xfrm>
            <a:off x="7858080" y="5572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 струнный щипковый музыкальный инструмент  с двумя изогнутыми стойками, от корпуса протянуты пять или более жильных стру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Управляющая кнопка: назад 5">
            <a:hlinkClick r:id="" action="ppaction://hlinkshowjump?jump=previousslide"/>
            <a:hlinkClick r:id="rId1"/>
          </p:cNvPr>
          <p:cNvSpPr/>
          <p:nvPr/>
        </p:nvSpPr>
        <p:spPr>
          <a:xfrm>
            <a:off x="214200" y="5572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hqdefault.jpg"/>
          <p:cNvPicPr/>
          <p:nvPr/>
        </p:nvPicPr>
        <p:blipFill>
          <a:blip r:embed="rId2"/>
          <a:stretch/>
        </p:blipFill>
        <p:spPr>
          <a:xfrm>
            <a:off x="2143080" y="1606680"/>
            <a:ext cx="7000920" cy="5251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1212274079_Lyre_bg.jpg"/>
          <p:cNvPicPr/>
          <p:nvPr/>
        </p:nvPicPr>
        <p:blipFill>
          <a:blip r:embed="rId3"/>
          <a:stretch/>
        </p:blipFill>
        <p:spPr>
          <a:xfrm>
            <a:off x="0" y="1785960"/>
            <a:ext cx="21718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истоф  Глюк. Опера Орфей и Эвридика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4" descr="Joseph_Siffred_Duplessis_-_Christoph_Willibald_Gluck_-_Google_Art_Project.jpg"/>
          <p:cNvPicPr/>
          <p:nvPr/>
        </p:nvPicPr>
        <p:blipFill>
          <a:blip r:embed="rId1"/>
          <a:stretch/>
        </p:blipFill>
        <p:spPr>
          <a:xfrm>
            <a:off x="642960" y="1714680"/>
            <a:ext cx="3573360" cy="4429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42920" y="1714320"/>
            <a:ext cx="4038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14-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ецкий композ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тер оперного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2. Миф об Орфее стал для оперы К. Глю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ртю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брет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е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е 3. Прослушайте фрагмен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 Жалобы Эвридики» и заполните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760" y="1928880"/>
          <a:ext cx="8358120" cy="4643280"/>
        </p:xfrm>
        <a:graphic>
          <a:graphicData uri="http://schemas.openxmlformats.org/drawingml/2006/table">
            <a:tbl>
              <a:tblPr/>
              <a:tblGrid>
                <a:gridCol w="4179600"/>
                <a:gridCol w="4178520"/>
              </a:tblGrid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зительные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 Жалобы Эвридики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1872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Мелодия (характер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1872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Музыкальный инструмен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Динамика музы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( громкость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a"/>
                          </a:solidFill>
                          <a:latin typeface="Arial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d9"/>
                      </a:solidFill>
                    </a:lnL>
                    <a:lnR w="5760">
                      <a:solidFill>
                        <a:srgbClr val="ffffd9"/>
                      </a:solidFill>
                    </a:lnR>
                    <a:lnT w="5760">
                      <a:solidFill>
                        <a:srgbClr val="ffffd9"/>
                      </a:solidFill>
                    </a:lnT>
                    <a:lnB w="5760">
                      <a:solidFill>
                        <a:srgbClr val="ffffd9"/>
                      </a:solidFill>
                    </a:lnB>
                    <a:solidFill>
                      <a:srgbClr val="adadad"/>
                    </a:solidFill>
                  </a:tcPr>
                </a:tc>
              </a:tr>
            </a:tbl>
          </a:graphicData>
        </a:graphic>
      </p:graphicFrame>
      <p:pic>
        <p:nvPicPr>
          <p:cNvPr id="67" name="I virtuosi di Roma 2 д. 2 сцена. Жалобы Эвридики (соло флеиты).mp3" descr=""/>
          <p:cNvPicPr/>
          <p:nvPr/>
        </p:nvPicPr>
        <p:blipFill>
          <a:blip r:embed="rId1"/>
          <a:stretch/>
        </p:blipFill>
        <p:spPr>
          <a:xfrm>
            <a:off x="7143840" y="2286000"/>
            <a:ext cx="947520" cy="9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23200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е 4. Работа в групп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 для героя миф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существительных( кто он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прилагательных( какой 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глагола ( что он дела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зующих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обуй подобрать творческие, поэтические, необычные характер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Елена</cp:lastModifiedBy>
  <dcterms:modified xsi:type="dcterms:W3CDTF">2018-03-15T10:21:52Z</dcterms:modified>
  <cp:revision>97</cp:revision>
  <dc:subject/>
  <dc:title>TITLE</dc:title>
</cp:coreProperties>
</file>