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023-0979-456B-BEFA-440BA3E6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F08-EFD5-4542-B994-32A37D9B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E22-0870-4620-8F02-E4CB80CE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245-108E-4AFC-8D5A-B51120EF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C04-EFDF-45A1-8155-0A73BAC5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31A-A65F-4CDB-9A0E-6CE36C31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3A6-2F9A-4AF0-A714-8A4160C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2FA-8C00-4033-A4BB-954B2058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14C-37EB-4781-9E74-54ACE1CB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4FD-6932-467E-BAEF-1033D3C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E5E-5E90-47D8-B273-575CDDAA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44A-BFC9-41A9-94DA-0F62BB5D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C642-C435-4E75-A11A-95B666191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"/>
          <p:cNvGrpSpPr/>
          <p:nvPr/>
        </p:nvGrpSpPr>
        <p:grpSpPr>
          <a:xfrm>
            <a:off x="3352680" y="457200"/>
            <a:ext cx="5486400" cy="5919840"/>
            <a:chOff x="3352680" y="457200"/>
            <a:chExt cx="5486400" cy="5919840"/>
          </a:xfrm>
        </p:grpSpPr>
        <p:sp>
          <p:nvSpPr>
            <p:cNvPr id="42" name="TextBox 3"/>
            <p:cNvSpPr/>
            <p:nvPr/>
          </p:nvSpPr>
          <p:spPr>
            <a:xfrm>
              <a:off x="3352680" y="457200"/>
              <a:ext cx="5486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222268"/>
                  </a:solidFill>
                  <a:uFillTx/>
                  <a:latin typeface="Times New Roman"/>
                  <a:ea typeface="Times New Roman"/>
                </a:rPr>
                <a:t>        </a:t>
              </a:r>
              <a:r>
                <a:rPr b="1" lang="ru-RU" sz="4400" spc="-1" strike="noStrike" u="sng">
                  <a:solidFill>
                    <a:srgbClr val="222268"/>
                  </a:solidFill>
                  <a:uFillTx/>
                  <a:latin typeface="Times New Roman"/>
                  <a:ea typeface="Times New Roman"/>
                </a:rPr>
                <a:t>Откуда пошла Русская Земля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584160" y="5639400"/>
              <a:ext cx="4639320" cy="73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4645080" cy="5562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762120" y="1143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й Донск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4645080" cy="5562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762120" y="1143000"/>
            <a:ext cx="33526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дитель Земли Русской, объединение русских земель,  опора на православную церков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1523880" y="2065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о все времена помогало русскому народу в самых тяжелых условия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676520" y="2362320"/>
            <a:ext cx="617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К РОД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 flipV="1" rot="10800000">
            <a:off x="1676520" y="1139760"/>
            <a:ext cx="6705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Земля Русская начинает свою историю там, где народ един, где народ защищает свою родную землю, где у народа есть вера, своя культура,  своя история, свои уникальные цен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 flipV="1" rot="10800000">
            <a:off x="1676520" y="1627560"/>
            <a:ext cx="670536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ее 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рисунок к итоговому  высказыванию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 Земля Русская начинает свою историю там, где народ един, где народ защищает свою родную землю, где у народа есть вера, своя культура,  своя история, свои уникальные ценност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2"/>
          <p:cNvSpPr/>
          <p:nvPr/>
        </p:nvSpPr>
        <p:spPr>
          <a:xfrm>
            <a:off x="1981080" y="1523880"/>
            <a:ext cx="4953240" cy="441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 flipH="1">
            <a:off x="4419720" y="1523880"/>
            <a:ext cx="38160" cy="2210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V="1">
            <a:off x="4572000" y="3124080"/>
            <a:ext cx="2362320" cy="609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0"/>
          <p:cNvSpPr/>
          <p:nvPr/>
        </p:nvSpPr>
        <p:spPr>
          <a:xfrm>
            <a:off x="4495680" y="3733920"/>
            <a:ext cx="1143000" cy="1904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2"/>
          <p:cNvSpPr/>
          <p:nvPr/>
        </p:nvSpPr>
        <p:spPr>
          <a:xfrm flipH="1">
            <a:off x="2706840" y="3733920"/>
            <a:ext cx="1712880" cy="1562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4"/>
          <p:cNvSpPr/>
          <p:nvPr/>
        </p:nvSpPr>
        <p:spPr>
          <a:xfrm flipH="1" flipV="1">
            <a:off x="2362320" y="2895120"/>
            <a:ext cx="2133360" cy="838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2590920" y="358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пи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4876920" y="2590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257800" y="4191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581280" y="4648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ки археоло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топись»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то» и «писа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3009960" cy="4681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638680" y="190512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гиня Оль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3009960" cy="4681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181480" y="1447920"/>
            <a:ext cx="3200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ая, святая, умная, первая приняла христианство, строила храмы, укрепляла 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86728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676520" y="51814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Влади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86728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447920" y="472428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л «Церковный устав, способствовал строительству храмов и монастырей,  развитию икон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513216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981080" y="51055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Не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513216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523880" y="4419720"/>
            <a:ext cx="563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-избавитель, умелая политика, подъем государства, борьба с католической опас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25-03-19T17:33:4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