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FA5-6DCB-4984-AA57-05924E2F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65E-C7DB-49F1-B52D-4ED982C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D9A-A72D-42A1-92E4-C1537C2B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FB2-DD82-4EC0-B09F-8EC13D5A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424-1A08-44BA-80A7-BA404C38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D27-6D3D-4FB1-A9A5-A9DBFFF0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B54-6D0E-4A49-9573-FA1FB8A4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BAE-5F5E-46AA-84CB-43BA81BF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B86-E64C-4FC8-BFD7-F0672EC3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925-8963-4862-A1DB-F6E2C607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02F-C29E-42D4-BBD2-52A26FC4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733-5270-4519-BFB9-0A5D2EAD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9654-FEE9-44DB-B851-50401B1919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571680" y="14292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 «Детский сад № 86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28760" y="3714840"/>
            <a:ext cx="3127320" cy="2265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43" name="TextBox 3"/>
          <p:cNvSpPr/>
          <p:nvPr/>
        </p:nvSpPr>
        <p:spPr>
          <a:xfrm>
            <a:off x="642960" y="171468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Коляда, коляд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воряй ворота!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429160" y="4429080"/>
            <a:ext cx="346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готовил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вонина З.В., Генина О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тели 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143240" y="6215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2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>
            <a:off x="500040" y="117432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68360" y="4299840"/>
            <a:ext cx="82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71760" y="245880"/>
            <a:ext cx="628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Что такое свят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ы не слышали ребят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Что ж придется рассказать и конечно показать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143240" cy="44514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2946600" cy="28144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4572000" y="2000160"/>
            <a:ext cx="4200480" cy="36910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52" name="Rectangle 10"/>
          <p:cNvSpPr/>
          <p:nvPr/>
        </p:nvSpPr>
        <p:spPr>
          <a:xfrm>
            <a:off x="0" y="209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Эй, спешите все сюд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 гости коляда пришл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Будем мы шутить, смеяться, танцевать да забавл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285840" y="3357720"/>
            <a:ext cx="3854520" cy="30906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1913040" y="529200"/>
            <a:ext cx="53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Русская народная игра «Шел козел по лес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4143240" y="1857240"/>
            <a:ext cx="4667400" cy="350064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3357720" cy="32716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357120" y="3786120"/>
            <a:ext cx="3452760" cy="2589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sp>
        <p:nvSpPr>
          <p:cNvPr id="58" name="Прямоугольник 7"/>
          <p:cNvSpPr/>
          <p:nvPr/>
        </p:nvSpPr>
        <p:spPr>
          <a:xfrm>
            <a:off x="1000080" y="642960"/>
            <a:ext cx="742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Коляда во двор пришла, а хозяйку не нашла.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Становитесь дети танцевать, она должна нас услыхать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4044960" y="1785960"/>
            <a:ext cx="4970520" cy="35719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642960" y="52920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Без гаданья, что за святки. Погадаем - ка,  ребя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5857920" y="2500200"/>
            <a:ext cx="3159000" cy="38577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3429000" y="1500120"/>
            <a:ext cx="2249640" cy="213048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7120" y="2500200"/>
            <a:ext cx="2927520" cy="38671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7"/>
          <p:cNvSpPr/>
          <p:nvPr/>
        </p:nvSpPr>
        <p:spPr>
          <a:xfrm>
            <a:off x="2286000" y="3571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Мы пошли по деревеньке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Взяли сумки и мешки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Хорошо колядовали,</a:t>
            </a:r>
            <a:br>
              <a:rPr sz="2000"/>
            </a:b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Жаль, не взяли рюкзаки!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5857920" y="2071800"/>
            <a:ext cx="3071880" cy="409572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3357720" y="3500280"/>
            <a:ext cx="2357280" cy="16812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214200" y="2071800"/>
            <a:ext cx="3071880" cy="40845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286000" y="5000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08f8"/>
                </a:solidFill>
                <a:latin typeface="Times New Roman"/>
                <a:ea typeface="Times New Roman"/>
              </a:rPr>
              <a:t>Прошу всех к столу, здесь вас ждёт самовар, наколядованный товар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4286160" cy="301320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548320" y="1571760"/>
            <a:ext cx="3176640" cy="40719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1500120" y="5000760"/>
            <a:ext cx="2855880" cy="1690560"/>
          </a:xfrm>
          <a:prstGeom prst="rect">
            <a:avLst/>
          </a:prstGeom>
          <a:ln w="9360">
            <a:solidFill>
              <a:srgbClr val="130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52:02Z</dcterms:created>
  <dc:creator>Валентина</dc:creator>
  <dc:description/>
  <dc:language>en-US</dc:language>
  <cp:lastModifiedBy>User</cp:lastModifiedBy>
  <dcterms:modified xsi:type="dcterms:W3CDTF">2024-01-16T11:03:12Z</dcterms:modified>
  <cp:revision>137</cp:revision>
  <dc:subject/>
  <dc:title>Слайд 1</dc:title>
</cp:coreProperties>
</file>