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151-D2F5-421F-A229-59183778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478-8F89-4C37-A4E9-10BD6077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71C-3F00-41F6-9233-BC2D1B9F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06B-52CE-43F6-9D75-4E6985B5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977-267C-4100-8F66-A248DA1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6D5-DFC0-45FC-B745-6628E0A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850-8F46-4DD7-98AA-627D4D3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B29-007D-439F-87F1-9AFE1EC5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D46-6E76-43A9-B16E-1F070307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CAF-F335-4FAE-B7A2-EFB7AE33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B6D-7A07-4A6E-9B36-5C871C17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D1E-FD09-493B-974D-FE42692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DB31-6C81-47DE-AD3A-74226DE40D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571680" y="14292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№ 86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28760" y="3714840"/>
            <a:ext cx="3127320" cy="2265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43" name="TextBox 3"/>
          <p:cNvSpPr/>
          <p:nvPr/>
        </p:nvSpPr>
        <p:spPr>
          <a:xfrm>
            <a:off x="642960" y="171468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ляда, коля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воряй ворот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429160" y="4429080"/>
            <a:ext cx="346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вонина З.В., Генин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тели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43240" y="6215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500040" y="1174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8360" y="429984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71760" y="24588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такое св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ы не слышали реб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ж придется рассказать и конечно показа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4514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2946600" cy="2814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36910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2" name="Rectangle 10"/>
          <p:cNvSpPr/>
          <p:nvPr/>
        </p:nvSpPr>
        <p:spPr>
          <a:xfrm>
            <a:off x="0" y="209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Эй, спешите все сюд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 гости коляда при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удем мы шутить, смеяться, танцевать да заба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285840" y="3357720"/>
            <a:ext cx="3854520" cy="30906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1913040" y="529200"/>
            <a:ext cx="53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Русская народная игра «Шел козел по лес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4667400" cy="350064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3357720" cy="32716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57120" y="3786120"/>
            <a:ext cx="3452760" cy="2589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8" name="Прямоугольник 7"/>
          <p:cNvSpPr/>
          <p:nvPr/>
        </p:nvSpPr>
        <p:spPr>
          <a:xfrm>
            <a:off x="1000080" y="642960"/>
            <a:ext cx="742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Коляда во двор пришла, а хозяйку не на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Становитесь дети танцевать, она должна нас услыхат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044960" y="1785960"/>
            <a:ext cx="4970520" cy="35719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642960" y="52920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ез гаданья, что за святки. Погадаем - ка,  ребя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5857920" y="2500200"/>
            <a:ext cx="3159000" cy="38577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429000" y="1500120"/>
            <a:ext cx="2249640" cy="2130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2927520" cy="3867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7"/>
          <p:cNvSpPr/>
          <p:nvPr/>
        </p:nvSpPr>
        <p:spPr>
          <a:xfrm>
            <a:off x="2286000" y="3571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ы пошли по деревеньке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зяли сумки и мешк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Хорошо колядовал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Жаль, не взяли рюкзаки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71880" cy="40957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357720" y="3500280"/>
            <a:ext cx="2357280" cy="1681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214200" y="2071800"/>
            <a:ext cx="3071880" cy="4084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286000" y="500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Прошу всех к столу, здесь вас ждёт самовар, наколядованный товар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4286160" cy="3013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8320" y="1571760"/>
            <a:ext cx="3176640" cy="40719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500120" y="5000760"/>
            <a:ext cx="2855880" cy="1690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52:02Z</dcterms:created>
  <dc:creator>Валентина</dc:creator>
  <dc:description/>
  <dc:language>en-US</dc:language>
  <cp:lastModifiedBy>User</cp:lastModifiedBy>
  <dcterms:modified xsi:type="dcterms:W3CDTF">2024-01-16T11:03:12Z</dcterms:modified>
  <cp:revision>137</cp:revision>
  <dc:subject/>
  <dc:title>Слайд 1</dc:title>
</cp:coreProperties>
</file>