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637-1CCB-4502-B5A9-D967A093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76A-99EA-407C-8A43-2A2F325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F03-B7AB-495C-B4C8-EBDBCBF4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013-0404-4C2F-B80F-BD84C17F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2F5-33B8-487D-A6E3-402DF65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1B4-43B8-43E9-ACF8-C472B0F1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606-D38A-444B-B3B2-DB496EC3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9F-00FE-4624-BDB3-0C2ADD3F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708-8952-4E62-87C9-B06B921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C2F-F879-45D0-B8EC-C2850E3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60F-D333-4AF0-91F6-79D6346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706-6D96-4557-B292-51B5966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78E-3E82-44CF-BE35-849DD521AE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571680" y="14292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№ 86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28760" y="3714840"/>
            <a:ext cx="3127320" cy="2265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43" name="TextBox 3"/>
          <p:cNvSpPr/>
          <p:nvPr/>
        </p:nvSpPr>
        <p:spPr>
          <a:xfrm>
            <a:off x="642960" y="171468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ляда, коля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воряй ворот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429160" y="4429080"/>
            <a:ext cx="346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вонина З.В., Генин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тели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43240" y="6215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500040" y="1174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8360" y="429984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71760" y="24588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такое св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ы не слышали реб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ж придется рассказать и конечно показа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4514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2946600" cy="2814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36910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2" name="Rectangle 10"/>
          <p:cNvSpPr/>
          <p:nvPr/>
        </p:nvSpPr>
        <p:spPr>
          <a:xfrm>
            <a:off x="0" y="209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Эй, спешите все сюд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 гости коляда при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удем мы шутить, смеяться, танцевать да заба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285840" y="3357720"/>
            <a:ext cx="3854520" cy="30906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1913040" y="529200"/>
            <a:ext cx="53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Русская народная игра «Шел козел по лес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4667400" cy="350064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3357720" cy="32716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57120" y="3786120"/>
            <a:ext cx="3452760" cy="2589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8" name="Прямоугольник 7"/>
          <p:cNvSpPr/>
          <p:nvPr/>
        </p:nvSpPr>
        <p:spPr>
          <a:xfrm>
            <a:off x="1000080" y="642960"/>
            <a:ext cx="742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Коляда во двор пришла, а хозяйку не на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Становитесь дети танцевать, она должна нас услыхат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044960" y="1785960"/>
            <a:ext cx="4970520" cy="35719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642960" y="52920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ез гаданья, что за святки. Погадаем - ка,  ребя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5857920" y="2500200"/>
            <a:ext cx="3159000" cy="38577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429000" y="1500120"/>
            <a:ext cx="2249640" cy="2130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2927520" cy="3867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7"/>
          <p:cNvSpPr/>
          <p:nvPr/>
        </p:nvSpPr>
        <p:spPr>
          <a:xfrm>
            <a:off x="2286000" y="3571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ы пошли по деревеньке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зяли сумки и мешк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Хорошо колядовал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Жаль, не взяли рюкзаки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71880" cy="40957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357720" y="3500280"/>
            <a:ext cx="2357280" cy="1681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214200" y="2071800"/>
            <a:ext cx="3071880" cy="4084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286000" y="500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Прошу всех к столу, здесь вас ждёт самовар, наколядованный товар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4286160" cy="3013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8320" y="1571760"/>
            <a:ext cx="3176640" cy="40719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500120" y="5000760"/>
            <a:ext cx="2855880" cy="1690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52:02Z</dcterms:created>
  <dc:creator>Валентина</dc:creator>
  <dc:description/>
  <dc:language>en-US</dc:language>
  <cp:lastModifiedBy>User</cp:lastModifiedBy>
  <dcterms:modified xsi:type="dcterms:W3CDTF">2024-01-16T11:03:12Z</dcterms:modified>
  <cp:revision>137</cp:revision>
  <dc:subject/>
  <dc:title>Слайд 1</dc:title>
</cp:coreProperties>
</file>