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069-154E-48E9-A660-0F14C7D6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93A-FD99-43B7-B250-745C5D3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3C2-C861-4FBB-ACE9-4E9472F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8FA-7159-4412-AE42-D58B8265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2A6C-2DD4-445B-8542-E6B1C9E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A2B6-229B-425C-8041-2218BE4E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C366-2ADB-414E-B6E2-D7841089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32AA-39B8-4CCD-B27E-1F0C53C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4D32-98EA-434A-AA90-9513FF3C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F11B-CEF3-4252-B131-08EFA5D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D08D-101A-494A-9233-2567B44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363-5A4E-48B4-BC40-30B957D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0E76-8715-42D8-B245-3A2C896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4E79-9D9B-4F5C-8051-31F5706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38F3-8F18-424F-9262-1C8EFEA8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701-FA44-42CE-BC18-ECEE8983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976A-130E-43B5-A154-9413DC50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1286-8DE9-4AE2-AAB1-D7EE29F3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3726-5740-464D-A8A1-63A715A2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739B-97C6-43B9-89CA-0F9BC877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088D-B96A-4A5C-8DE6-049813EE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E985-7254-4BF7-B378-B1A6381E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E08-2665-4F2D-B402-FB5B0D2F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BF8D-D22A-4274-B56A-EF98E96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ADB1-19F4-4B28-ABBA-24F38A8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D516-3A1F-4A25-886B-1C2CE7C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FA7F-A4AB-45C2-A6C1-8031C8F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AAFF-087B-47E8-9B21-0220B3F7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AF9F-48D8-4444-8E29-4AF9AF4B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817D-7FA5-4332-8B00-2A00C64C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42C-BD86-4BCA-9CD5-227B30A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22B-7BC6-4321-9FB2-45747A2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E6C-9F40-473A-80C8-CEC88FD1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33F-8574-44AF-AD6A-3673D8E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3A0-092F-4023-8031-F41795C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46F-E5E7-4D10-A012-5B8D797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A60B-AB91-4FD6-A355-7CEAA45188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8026-5F54-487C-A704-0E7ED3F95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E32-DCA7-4AAB-AF84-847F24D86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Эпиграф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Теперь, когда мы научились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етать по воздуху, как птицы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лавать под водой, как рыбы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ам не хватает только одного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аучиться жить на земле, как люди.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 Шо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539640" y="404640"/>
            <a:ext cx="82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такое толерантность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61" name="Picture 5" descr="DD00117_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6"/>
          <p:cNvSpPr/>
          <p:nvPr/>
        </p:nvSpPr>
        <p:spPr>
          <a:xfrm>
            <a:off x="3059280" y="2060640"/>
            <a:ext cx="2881080" cy="26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ТОЛЕРАНТ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24360" y="523800"/>
            <a:ext cx="28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рпимость к чуж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нениям, верован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687840" y="47160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917680" y="5428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важение прав други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22920" y="321300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страд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49480" y="5445000"/>
            <a:ext cx="281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нятие друг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778920" y="56610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илосерд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884200" y="5373720"/>
            <a:ext cx="32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важение челове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остоин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6515280" y="3068640"/>
            <a:ext cx="24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трудничест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ух партнер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 flipH="1">
            <a:off x="2195640" y="3429000"/>
            <a:ext cx="792000" cy="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 flipV="1">
            <a:off x="4500720" y="907560"/>
            <a:ext cx="0" cy="108108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 flipH="1">
            <a:off x="2410920" y="4437000"/>
            <a:ext cx="1008360" cy="86364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5580000" y="4437000"/>
            <a:ext cx="792360" cy="79236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4500720" y="4724280"/>
            <a:ext cx="0" cy="9367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 flipH="1" flipV="1">
            <a:off x="2627280" y="1267920"/>
            <a:ext cx="1008000" cy="100836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6084720" y="3357720"/>
            <a:ext cx="503280" cy="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651640" y="1196640"/>
            <a:ext cx="1150920" cy="115236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58760" y="404640"/>
            <a:ext cx="89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ТОЛЕРАНТНАЯ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ИНТОЛЕРАН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ЛИЧ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ЛИЧНОСТЬ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79280" y="1557360"/>
            <a:ext cx="417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Уважение мнения друг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Доброжелате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Желание что-либо делать в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Понимание и принят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Чуткость, любозна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Снисходите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Доверие, гуманиз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2000" y="1773360"/>
            <a:ext cx="4572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Непо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Игнор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Эго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Нетерпи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Выражение пренебре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Раздражите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Равнодуш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Циниз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Немотивированная агресс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179280" y="1341360"/>
            <a:ext cx="8713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84720" y="260280"/>
            <a:ext cx="71280" cy="6337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6:14:47Z</dcterms:created>
  <dc:creator>ГУЛЬНАРА</dc:creator>
  <dc:description/>
  <dc:language>en-US</dc:language>
  <cp:lastModifiedBy>Admin</cp:lastModifiedBy>
  <dcterms:modified xsi:type="dcterms:W3CDTF">2010-11-05T03:13:29Z</dcterms:modified>
  <cp:revision>26</cp:revision>
  <dc:subject/>
  <dc:title>Слайд 1</dc:title>
</cp:coreProperties>
</file>