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189-DDAA-403B-A8B6-5E0C218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C5-5D83-40E8-AB4D-313D932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26C-7754-4298-A521-A7BD025D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9A7-4B28-4499-A8A3-990E7439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3AB-2D23-4141-B52E-E91465AE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34E-1F08-4AEA-A0FD-03ED5A0B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398-D917-41AB-8391-CDF59ECD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2AA-F68A-43BB-84D2-69261026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568-C2F4-45F0-ACBE-887F1E40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65B-3ABF-43E6-A208-CFB89CD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E25-C23E-405A-B8A7-BD61A6D1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B85-75C1-48F9-92A0-337FC1FD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987D-B214-414B-846A-BDE3354D1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C:\Users\Пользователь\Desktop\img1.gif"/>
          <p:cNvPicPr/>
          <p:nvPr/>
        </p:nvPicPr>
        <p:blipFill>
          <a:blip r:embed="rId1"/>
          <a:stretch/>
        </p:blipFill>
        <p:spPr>
          <a:xfrm>
            <a:off x="468360" y="314280"/>
            <a:ext cx="82072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Кластер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3500280" y="285768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часть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5715000" y="4500720"/>
            <a:ext cx="2714760" cy="12142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зме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Овал 11"/>
          <p:cNvSpPr/>
          <p:nvPr/>
        </p:nvSpPr>
        <p:spPr>
          <a:xfrm>
            <a:off x="6215040" y="1428840"/>
            <a:ext cx="2714760" cy="13572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леном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Овал 12"/>
          <p:cNvSpPr/>
          <p:nvPr/>
        </p:nvSpPr>
        <p:spPr>
          <a:xfrm>
            <a:off x="0" y="4143240"/>
            <a:ext cx="3492360" cy="12146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меет лексического 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357120" y="1214280"/>
            <a:ext cx="2428920" cy="12859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еб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Прямая со стрелкой 15"/>
          <p:cNvCxnSpPr/>
          <p:nvPr/>
        </p:nvCxnSpPr>
        <p:spPr>
          <a:xfrm flipH="1" flipV="1">
            <a:off x="2642400" y="2286000"/>
            <a:ext cx="786600" cy="64332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73" name="Прямая со стрелкой 18"/>
          <p:cNvCxnSpPr/>
          <p:nvPr/>
        </p:nvCxnSpPr>
        <p:spPr>
          <a:xfrm flipV="1">
            <a:off x="5571720" y="2714040"/>
            <a:ext cx="857880" cy="28620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74" name="Прямая со стрелкой 22"/>
          <p:cNvCxnSpPr/>
          <p:nvPr/>
        </p:nvCxnSpPr>
        <p:spPr>
          <a:xfrm>
            <a:off x="5285880" y="4000320"/>
            <a:ext cx="715320" cy="64332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75" name="Прямая со стрелкой 24"/>
          <p:cNvCxnSpPr/>
          <p:nvPr/>
        </p:nvCxnSpPr>
        <p:spPr>
          <a:xfrm flipH="1">
            <a:off x="2356560" y="3714840"/>
            <a:ext cx="1001160" cy="35784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76" name="Прямая со стрелкой 31"/>
          <p:cNvCxnSpPr/>
          <p:nvPr/>
        </p:nvCxnSpPr>
        <p:spPr>
          <a:xfrm flipH="1">
            <a:off x="1498320" y="4501800"/>
            <a:ext cx="2160" cy="42948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sp>
        <p:nvSpPr>
          <p:cNvPr id="77" name="Овал 14"/>
          <p:cNvSpPr/>
          <p:nvPr/>
        </p:nvSpPr>
        <p:spPr>
          <a:xfrm>
            <a:off x="2928960" y="5000760"/>
            <a:ext cx="2714760" cy="15714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осит различные оттенки 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Овал 16"/>
          <p:cNvSpPr/>
          <p:nvPr/>
        </p:nvSpPr>
        <p:spPr>
          <a:xfrm>
            <a:off x="3143160" y="714240"/>
            <a:ext cx="2714760" cy="135756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 для образования форм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Прямая со стрелкой 20"/>
          <p:cNvCxnSpPr/>
          <p:nvPr/>
        </p:nvCxnSpPr>
        <p:spPr>
          <a:xfrm flipV="1">
            <a:off x="4497840" y="2142720"/>
            <a:ext cx="2520" cy="572400"/>
          </a:xfrm>
          <a:prstGeom prst="straightConnector1">
            <a:avLst/>
          </a:prstGeom>
          <a:ln w="9360">
            <a:solidFill>
              <a:srgbClr val="ff0000">
                <a:alpha val="72000"/>
              </a:srgbClr>
            </a:solidFill>
            <a:miter/>
            <a:tailEnd len="med" type="arrow" w="med"/>
          </a:ln>
        </p:spPr>
      </p:cxnSp>
      <p:cxnSp>
        <p:nvCxnSpPr>
          <p:cNvPr id="80" name="Прямая со стрелкой 23"/>
          <p:cNvCxnSpPr/>
          <p:nvPr/>
        </p:nvCxnSpPr>
        <p:spPr>
          <a:xfrm flipH="1">
            <a:off x="4427280" y="4073040"/>
            <a:ext cx="2160" cy="786600"/>
          </a:xfrm>
          <a:prstGeom prst="straightConnector1">
            <a:avLst/>
          </a:prstGeom>
          <a:ln w="9360">
            <a:solidFill>
              <a:srgbClr val="ff0000">
                <a:alpha val="71000"/>
              </a:srgbClr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4244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егодня у нас открытый урок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азве сегодня у нас открытый урок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еужели сегодня у нас открытый урок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1188360"/>
            <a:ext cx="914400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ЫСЛОВЫЕ ЧАСТИЦЫ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астицы, которые вносят в предложение различные оттенки значения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79280" y="-1180800"/>
            <a:ext cx="842508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рок прошел с пользой для учеников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рок прошел бы с пользой для учеников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усть урок пройдёт с пользой для учеников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-103644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ООБРАЗУЮЩИЕ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</a:rPr>
              <a:t>ЧАСТИЦЫ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6500" spc="-1" strike="noStrike">
                <a:solidFill>
                  <a:srgbClr val="000000"/>
                </a:solidFill>
                <a:latin typeface="Times New Roman"/>
              </a:rPr>
              <a:t>это частицы, которые служат для образования форм слова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a3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55640" y="62028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714240" y="549360"/>
            <a:ext cx="77724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одержимое 2"/>
          <p:cNvSpPr/>
          <p:nvPr/>
        </p:nvSpPr>
        <p:spPr>
          <a:xfrm>
            <a:off x="866880" y="701640"/>
            <a:ext cx="77724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-217800"/>
            <a:ext cx="8785440" cy="7221960"/>
          </a:xfrm>
          <a:prstGeom prst="rect">
            <a:avLst/>
          </a:prstGeom>
          <a:solidFill>
            <a:srgbClr val="b2e389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приходим в этот мир, чтобы есть, спать и развлекаться?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верю! Есл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мы жили ...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этого,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мир открыл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м свою красоту. А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удивительно прекрасен и загадочен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ичь его тайны помогают знания физики, химии, высшей математики, биологии, астроном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йны человека раскрывает медицина, психолог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Н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бы прочувствовать мир сильнее, нужно научиться ощущать его через музыку, поэзию, танец, живопись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через искусств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 главное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через любовь ко всему живому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много можно узнать, открыть!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стремиться к этим открытиям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 откроется наше сердце для всего прекрасного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55640" y="62028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одержимое 2"/>
          <p:cNvSpPr/>
          <p:nvPr/>
        </p:nvSpPr>
        <p:spPr>
          <a:xfrm>
            <a:off x="714240" y="549360"/>
            <a:ext cx="77724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866880" y="701640"/>
            <a:ext cx="77724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9280" y="237240"/>
            <a:ext cx="8785440" cy="6311880"/>
          </a:xfrm>
          <a:prstGeom prst="rect">
            <a:avLst/>
          </a:prstGeom>
          <a:solidFill>
            <a:srgbClr val="b2e389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приходим в этот мир, чтобы есть, спать и развлекаться?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ю! Есл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жили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ОЛЬК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этого,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ЯД 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мир открыл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м свою красоту. 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Д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удивительно прекрасен и загадочен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ичь его тайны помогают знания физики, химии, высшей математики, биологии, астроном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йны человека раскрывает медицина, психолог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Ё-ТАК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бы прочувствовать мир сильнее, нужно научиться ощущать его через музыку, поэзию, танец, живопис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ерез искус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главно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ерез любовь ко всему живом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много можно узнать, открыть!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 Ж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емиться к этим открытия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кроется наше сердце для всего прекрасног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943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-410400"/>
            <a:ext cx="8893080" cy="81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й раздел науки о языке изучает части речи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интаксис; Б) морфемика; В) морфолог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кие группы делятся части речи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лавные и второстепенные; Б) самостоятельные и служебные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амостоятельные и зависимые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части речи относятся к самостоятельным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е служебные части речи мы уже изучали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длог; Б) междометие; В) союз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ое значение имеет предлог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ременное; Б) пространственное; В) в сочетании с    существительным выражает временные, пространственные, причинные, целевые, образа действия, дополнительные значен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изменяются предлоги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 лицам и числам; Б) не изменяются; В) по родам, числам и падежам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называется часть речи, которая связывает как однородные члены предложения, так и простые предложения в составе сложного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зовите основные признаки, по которым самостоятельные                                                                                                                                                                                                      части речи отличаются от служебных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5b6f"/>
                </a:solidFill>
                <a:latin typeface="Times New Roman"/>
              </a:rPr>
              <a:t>Урок русского языка в 5 классе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Е С ГЛАГОЛ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датова Лариса Евген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3" descr="fris_osenlistcve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2643120" y="1714680"/>
            <a:ext cx="457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0" y="32904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ончите предложе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………… (очень, не очень)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ен (довольна) тем, как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лся (справилась) с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Творческая работ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ово-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 прилагатель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 глаго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ркая фраза, цитата, навеянная тем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афора (итоговое слово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482760"/>
            <a:ext cx="914400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нцелярии Преображенского полка молодой писарь второпях допустил нелепое написание: вместо «Подпоручики же Стивен, Рыбин, Аракчеев назначаются…» написал «Подпоручик Киже, Стивен, Рыбин, Аракчеев назначаются…»). У него получилась лишняя фамилия в приказе. Приказ этот был подписан императором Павлом. Так появился в Преображенском полку новый офицер. Командир полка не осмелился доложить об ошибке взбалмошному императору, боясь его гнева. И пришлось ему  делать вид, что такой подпоручик служит в пол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оследствии с этим несуществующим подпоручиком Киже происходят забавные истории: его ссылают в Сибирь, возвращают из ссылки, женят на фрейлине, он дослужился до генеральского чина. Когда же Павел хотел вызвать Киже к себе и доверить ему охрану своей царственной особы, то придворные,  утаившие истину от императора, поспешили сделать так, что генерал Киже «внезапно» заболел и через 3 дня уме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Times New Roman"/>
              </a:rPr>
              <a:t>Домашнее задание </a:t>
            </a:r>
            <a:br>
              <a:rPr sz="5000"/>
            </a:br>
            <a:r>
              <a:rPr b="1" lang="ru-RU" sz="5000" spc="-1" strike="noStrike">
                <a:solidFill>
                  <a:srgbClr val="002060"/>
                </a:solidFill>
                <a:latin typeface="Times New Roman"/>
              </a:rPr>
              <a:t>(по выбору)</a:t>
            </a:r>
            <a:endParaRPr b="0" lang="en-US" sz="5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8588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Сочинить грамматическую сказку «Жила-была частица…»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Написать сочинение – рассуждение на тему «Важны ли частицы в речи?»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player.myshared.ru/9/885734/data/images/img61.gif"/>
          <p:cNvPicPr/>
          <p:nvPr/>
        </p:nvPicPr>
        <p:blipFill>
          <a:blip r:embed="rId2"/>
          <a:stretch/>
        </p:blipFill>
        <p:spPr>
          <a:xfrm>
            <a:off x="-181080" y="-14400"/>
            <a:ext cx="10014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Тайна подпоручика КИЖЕ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pic>
        <p:nvPicPr>
          <p:cNvPr id="46" name="Picture 4" descr="136"/>
          <p:cNvPicPr/>
          <p:nvPr/>
        </p:nvPicPr>
        <p:blipFill>
          <a:blip r:embed="rId1"/>
          <a:stretch/>
        </p:blipFill>
        <p:spPr>
          <a:xfrm>
            <a:off x="2714760" y="1928880"/>
            <a:ext cx="353520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682560" y="347760"/>
            <a:ext cx="7785000" cy="1414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ите два предло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ём между ними разн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поручики же Стивен, Рыбин, Аракчеев назначаются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поручик Киже, Стивен, Рыбин, Аракчеев назначаются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7168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</a:rPr>
              <a:t>Частиц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</a:rPr>
              <a:t>как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</a:rPr>
              <a:t>часть речи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943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11280" y="443520"/>
            <a:ext cx="8208720" cy="618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*гипо́тез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ы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книжное). Научное предположение, выдвигаемое для объяснения каких-нибудь явлений; вообщ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положение, требующее подтверждения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винуть плодотворную гипотезу, Гипотеза подтвердилас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И. Ожегов «Толковый словарь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1403280" y="0"/>
            <a:ext cx="6858000" cy="1146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324000" y="928800"/>
            <a:ext cx="856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Термин </a:t>
            </a:r>
            <a:r>
              <a:rPr b="0" i="1" lang="ru-RU" sz="2500" spc="-1" strike="noStrike">
                <a:solidFill>
                  <a:srgbClr val="ff0000"/>
                </a:solidFill>
                <a:latin typeface="Arial Black"/>
              </a:rPr>
              <a:t>частица </a:t>
            </a: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является буквальным переводом латинского слова </a:t>
            </a:r>
            <a:r>
              <a:rPr b="0" i="1" lang="ru-RU" sz="2500" spc="-1" strike="noStrike">
                <a:solidFill>
                  <a:srgbClr val="ff0000"/>
                </a:solidFill>
                <a:latin typeface="Arial Black"/>
              </a:rPr>
              <a:t>particula </a:t>
            </a: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и употребляется в языкознании в двух значениях: </a:t>
            </a:r>
            <a:r>
              <a:rPr b="0" i="1" lang="ru-RU" sz="2500" spc="-1" strike="noStrike">
                <a:solidFill>
                  <a:srgbClr val="7030a0"/>
                </a:solidFill>
                <a:latin typeface="Arial Black"/>
              </a:rPr>
              <a:t>широком </a:t>
            </a: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– когда к частицам речи уже 200 лет относят все служебные части речи, противопоставляя их знаменательным частям речи (А.А. Шахматов, Л.В. Щерба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В.В. Виноградов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Более 100 лет назад (в 1897 г.) впервые в русской и зарубежной лингвистике ученый Добиаш назвал частицу отдельной частью речи и отграничил ее от других служебных слов. С тех пор термин частица употребляется и </a:t>
            </a:r>
            <a:r>
              <a:rPr b="0" i="1" lang="ru-RU" sz="2500" spc="-1" strike="noStrike">
                <a:solidFill>
                  <a:srgbClr val="7030a0"/>
                </a:solidFill>
                <a:latin typeface="Arial Black"/>
              </a:rPr>
              <a:t>в узком </a:t>
            </a:r>
            <a:r>
              <a:rPr b="0" i="1" lang="ru-RU" sz="2500" spc="-1" strike="noStrike">
                <a:solidFill>
                  <a:srgbClr val="000000"/>
                </a:solidFill>
                <a:latin typeface="Arial Black"/>
              </a:rPr>
              <a:t>значении – для именования конкретной части реч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Кластер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3500280" y="285768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часть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Овал 10"/>
          <p:cNvSpPr/>
          <p:nvPr/>
        </p:nvSpPr>
        <p:spPr>
          <a:xfrm>
            <a:off x="5715000" y="4500720"/>
            <a:ext cx="2714760" cy="12142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зме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5715000" y="1000080"/>
            <a:ext cx="2714760" cy="13572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леном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12"/>
          <p:cNvSpPr/>
          <p:nvPr/>
        </p:nvSpPr>
        <p:spPr>
          <a:xfrm>
            <a:off x="0" y="4143240"/>
            <a:ext cx="3492360" cy="12146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меет лексического 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13"/>
          <p:cNvSpPr/>
          <p:nvPr/>
        </p:nvSpPr>
        <p:spPr>
          <a:xfrm>
            <a:off x="714240" y="1000080"/>
            <a:ext cx="2428920" cy="12859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еб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Прямая со стрелкой 15"/>
          <p:cNvCxnSpPr/>
          <p:nvPr/>
        </p:nvCxnSpPr>
        <p:spPr>
          <a:xfrm flipH="1" flipV="1">
            <a:off x="2642400" y="2286000"/>
            <a:ext cx="786600" cy="64332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/>
          <p:nvPr/>
        </p:nvCxnSpPr>
        <p:spPr>
          <a:xfrm flipV="1">
            <a:off x="5571720" y="2428200"/>
            <a:ext cx="786600" cy="57204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62" name="Прямая со стрелкой 22"/>
          <p:cNvCxnSpPr/>
          <p:nvPr/>
        </p:nvCxnSpPr>
        <p:spPr>
          <a:xfrm>
            <a:off x="5285880" y="4000320"/>
            <a:ext cx="715320" cy="64332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63" name="Прямая со стрелкой 24"/>
          <p:cNvCxnSpPr/>
          <p:nvPr/>
        </p:nvCxnSpPr>
        <p:spPr>
          <a:xfrm flipH="1">
            <a:off x="2356560" y="3714840"/>
            <a:ext cx="1001160" cy="35784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64" name="Прямая со стрелкой 31"/>
          <p:cNvCxnSpPr/>
          <p:nvPr/>
        </p:nvCxnSpPr>
        <p:spPr>
          <a:xfrm flipH="1">
            <a:off x="1498320" y="4501800"/>
            <a:ext cx="2160" cy="42948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INSERT-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ием маркировки текста для эффективного чтения и размыш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- это я знал(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ывает сомн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информ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зник во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6-03-03T22:10:49Z</dcterms:modified>
  <cp:revision>169</cp:revision>
  <dc:subject/>
  <dc:title>PowerPoint Presentation</dc:title>
</cp:coreProperties>
</file>