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1A6-99EA-4CAB-A24D-E28F0A47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ADE-099B-4ED8-B3E0-9AC4FA47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AA0-5D94-41B3-A213-5F3C1C67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BE3-65BC-4B6D-BB65-06C2239A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D80-8F41-4C29-8599-638FBC93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2ED-9F49-4033-8BBF-D33CCBE4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128-B675-459E-837C-2EC1C5AE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E92-9B64-418C-B990-54F2CBC3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E34-27FE-4ECF-B39C-E0816807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C0D-3B02-43DE-B645-CD368861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B82-7453-47DC-8D17-F5593C36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52D-D283-40EA-AE6E-7C58CB17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D866-7438-4A8A-90CE-5E4455E55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активные технологии    в современном образов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дыхова Эсмира Закировна,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учитель русского языка и литературы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МКОУ «Ахтынская СОШ №2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им.В.Эмир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тавьте ударение  в словах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БАЛОВАННЫЙ, СЛИВОВЫЙ, ГОФРИРОВАННЫЙ, ДИСПАНСЕР, ЖАЛЮЗИ, ЗАВИДНЫЙ, ТОРТЫ,  НЕФТЕПРОВОД, ОБЕСПЕЧЕНИЕ, ОБЛЕГЧИТЬ, ПОЗВОНИТ, ПРИНЯВШИЙ, ХОДАТАЙ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АИМО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БАЛ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АННЫЙ, СЛ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ВЫЙ, ГОФРИР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АННЫЙ, ДИСПАНС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, ЖАЛЮЗ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ЗАВ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НЫЙ, Т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ТЫ,  НЕФТЕПРОВ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, ОБЕСП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НИЕ, ОБЛЕГЧ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Ь, ПОЗВОН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, ПРИН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ШИЙ, ХОД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АЙСТВО.     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2-13б-«5»                                                                 11б-«4»                                                                            10б-«3»                                                                                9б-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solidFill>
            <a:srgbClr val="a3a3e0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БАЛОВА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чает на воп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ой? что сделанный?, м.р., ед.ч., им. пад., сов. вид., пр. вр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ффикс –нн- страдательного причас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badde1"/>
          </a:solidFill>
          <a:ln w="7632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НЯВШ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чает на воп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ой? что сделавший?, м.р., ед.ч., им. пад., сов. вид., пр. вр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ффикс –вш- действительного причас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Users\11111\Desktop\logo.png"/>
          <p:cNvPicPr/>
          <p:nvPr/>
        </p:nvPicPr>
        <p:blipFill>
          <a:blip r:embed="rId1"/>
          <a:stretch/>
        </p:blipFill>
        <p:spPr>
          <a:xfrm>
            <a:off x="6934320" y="5791320"/>
            <a:ext cx="2019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11111\Desktop\prichastiye-vid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урок (ссыл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uroki.ne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ичастие и его грамматические признаки видеоурок.mp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V. Развитие учебно-языковых, правописных и речевых ум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914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yaz-online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6" descr="IMG_20190324_095044.jpg"/>
          <p:cNvPicPr/>
          <p:nvPr/>
        </p:nvPicPr>
        <p:blipFill>
          <a:blip r:embed="rId1"/>
          <a:stretch/>
        </p:blipFill>
        <p:spPr>
          <a:xfrm>
            <a:off x="152280" y="914400"/>
            <a:ext cx="3048120" cy="3030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7" descr="IMG_20190324_095032.jpg"/>
          <p:cNvPicPr/>
          <p:nvPr/>
        </p:nvPicPr>
        <p:blipFill>
          <a:blip r:embed="rId2"/>
          <a:stretch/>
        </p:blipFill>
        <p:spPr>
          <a:xfrm>
            <a:off x="228600" y="3429000"/>
            <a:ext cx="434664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8" descr="IMG_20190324_095103.jpg"/>
          <p:cNvPicPr/>
          <p:nvPr/>
        </p:nvPicPr>
        <p:blipFill>
          <a:blip r:embed="rId3"/>
          <a:stretch/>
        </p:blipFill>
        <p:spPr>
          <a:xfrm>
            <a:off x="3657600" y="990720"/>
            <a:ext cx="3809880" cy="3276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9" descr="IMG_20190324_095139.jpg"/>
          <p:cNvPicPr/>
          <p:nvPr/>
        </p:nvPicPr>
        <p:blipFill>
          <a:blip r:embed="rId4"/>
          <a:stretch/>
        </p:blipFill>
        <p:spPr>
          <a:xfrm>
            <a:off x="5105520" y="327672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videoplayback.mp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ка вариантов ЕГЭ. Работа в парах. 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218960"/>
            <a:ext cx="4495680" cy="56386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1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тавьте все знаки препинания: укажите цифру(-ы), на месте которой(-ых) в предложении должна(-ы) стоять запятая(-ые)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лишь преклоняться перед гением Марины Цветаевой (1) создавшей совершенно неповторимый поэтический мир (2) и (3) свято верившей (4) в свою музу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круг было только торжественное море (1) посеребрённое луной (2) и (3) усеянное звёздами (4) небо.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зжающие по большой орловской дороге (1) молодые чиновники и другие незанятые люди до сих пор ещё могут заметить огромный деревянный дом (2) совершенно заброшенный (3) с провалившейся крышей и (4) наглухо забитыми (5) окнами (6) выдвинутый на самую дорог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--------------------------------------------бал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218960"/>
            <a:ext cx="464832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аком варианте ответов правильно указаны все цифры, на месте которых должны стоять запяты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тепи(1)расположенной по соседству с пустынными песками(2) в полдень(3)находилось большое стадо овец(4)улегшихся на отд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1,2,4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,3,4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4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C:\Users\11111\Desktop\5b1e6f785eaa9eb18e21c654.jpg"/>
          <p:cNvPicPr/>
          <p:nvPr/>
        </p:nvPicPr>
        <p:blipFill>
          <a:blip r:embed="rId1"/>
          <a:stretch/>
        </p:blipFill>
        <p:spPr>
          <a:xfrm>
            <a:off x="45720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аботка вариантов ЕГЭ. Работа в парах. Вариант 2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14400"/>
            <a:ext cx="4648320" cy="5943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 В каком варианте ответов правильно указаны все цифры, на месте которых должны стоять запяты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ятишки собрались у речк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 любопытством наблюдали за товарище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ырявшим в воду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вынырнувшим оттуд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 каким-то предмет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1, 2, 3,4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    2,3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  1,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914400"/>
            <a:ext cx="4495680" cy="5943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ние 17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тавьте все знаки препинания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жите цифру(-ы), на месте которой(-ых) в предложении должна(-ы) стоять запят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ые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хлюдов оделся в вычищенное и (1) приготовленное на стуле (2) платье и вышел в столовую с огромным дубовым буфетом и таким же большим раздвижным столом (3) имевшим что-то торжественное в своих (4) широко расставленных в виде львиных лап (5) резных ножках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о-помалу присоединяются к их обществу все (1) окончившие важные домашние занятия (2) поговорившие со своим доктором (3) о погоде и о небольшом прыщике (4) вскочившем на носу (5) узнавшие о здоровье лошадей и детей своих (6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рытые морщинами (1) тёмно-синие вершины гор (2) покрытые слоями снега (3) рисовались на бледном небосклоне (4) ещё сохранявшем последний отблеск зари.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б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:\Users\11111\Desktop\trtftnhudsvkix.jpg"/>
          <p:cNvPicPr/>
          <p:nvPr/>
        </p:nvPicPr>
        <p:blipFill>
          <a:blip r:embed="rId2"/>
          <a:stretch/>
        </p:blipFill>
        <p:spPr>
          <a:xfrm>
            <a:off x="228600" y="373392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 : онлайн-тест по теме «Глагол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Cup.ru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9" descr="IMG_20190323_090923.jpg"/>
          <p:cNvPicPr/>
          <p:nvPr/>
        </p:nvPicPr>
        <p:blipFill>
          <a:blip r:embed="rId1"/>
          <a:stretch/>
        </p:blipFill>
        <p:spPr>
          <a:xfrm>
            <a:off x="4645080" y="1371600"/>
            <a:ext cx="449892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7" descr="IMG_20190323_092916.jpg"/>
          <p:cNvPicPr/>
          <p:nvPr/>
        </p:nvPicPr>
        <p:blipFill>
          <a:blip r:embed="rId2"/>
          <a:stretch/>
        </p:blipFill>
        <p:spPr>
          <a:xfrm>
            <a:off x="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Само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Вариант  1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Вариант 2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474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13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13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.                             1-1                                   2-12                                3-236               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ценка :4б- «5»                   3б- «4»                                    2б- 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13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2            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.                              1-3                                           2-12456                   3-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</a:tbl>
          </a:graphicData>
        </a:graphic>
      </p:graphicFrame>
      <p:sp>
        <p:nvSpPr>
          <p:cNvPr id="141" name="Text Box 22"/>
          <p:cNvSpPr/>
          <p:nvPr/>
        </p:nvSpPr>
        <p:spPr>
          <a:xfrm>
            <a:off x="468360" y="59500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За каждое правильно выполненное задание в тесте – 1 б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Users\11111\Desktop\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Катерина Ивановна никогда ни на что не жаловалась, кроме как на старческую слабость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Но я знал от соседки и от бестолкового доброго старика Ивана Дмитриева, сторожа при пожарном сарае, что Катерина Ивановна одна на белом свете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Дочь Настя вот уже четвёртый год как не приезжает – забыла, значит, мать, а дни у Катерины Ивановны считанные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Не ровён час, так и умрёт она, не повидав дочери, не приласкав её, не погладив её русые волосы «очаровательной красоты» (так говорила о них Катерина Ивановна)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Настя присылала Катерине Ивановне деньги, но и то бывало с перерывами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Как Катерина Ивановна жила во время этих перерывов, никому не известно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(7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днажды Катерина Ивановна попросила меня проводить её в сад, где она не была с ранней весны, всё не пускала слабость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 Дорогой мой, – сказала Катерина Ивановна, – уж вы не взыщите с меня, со старой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Хочется мне вспомнить прошлое, напоследок посмотреть сад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В нём я ещё девушкой зачитывалась Тургеневым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1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Да и кое-какие деревья я посадила сам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(12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а одевалась очень долго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Надела старый тёплый салопчик, тёплый платок и, крепко держась за мою руку, медленно спустилась с крылечка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4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Уже вечерело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5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Сад облетел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6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Палые листья мешали идти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и громко трещали и шевелились под ногами, на зеленеющей заре зажглась звезд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8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Далеко над лесом висел серп месяца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9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Катерина Ивановна остановилась около обветренной липы, оперлась о неё рукой и заплакала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Я крепко держал её, чтобы она не упал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1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Плакала она, как очень старые люди, не стыдясь своих слёз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(22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  Не дай вам бог, родной мой, – сказала она мне, – дожить до такой одинокой старости!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Не дай вам бог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(24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Я осторожно повёл её домой и подумал: как бы я был счастлив, если бы у меня была такая мама!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.Г.Паустов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cen-krasivaa-melodia-instrumentalnaa-i-grustnaa-do-slezno-takaa-neznaacuvstvennaa_(mu.fm).mp3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1233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bibliotekar.ru/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ru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/index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lenagold.ru/fon/clipart/p/pero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:\Users\1\Desktop\img3.jpg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-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Какие типы речи представлены в тексте?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Какие выразительные средства использует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пределите стиль текст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C:\Users\1\Desktop\280x178_2.jpg"/>
          <p:cNvPicPr/>
          <p:nvPr/>
        </p:nvPicPr>
        <p:blipFill>
          <a:blip r:embed="rId1"/>
          <a:stretch/>
        </p:blipFill>
        <p:spPr>
          <a:xfrm>
            <a:off x="3200400" y="3200400"/>
            <a:ext cx="59436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-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формулируйте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поднимает автор данног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В каком предложении говорится об отношении автора к Катерине Иван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К какому типу  принадлежит эта проблем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Users\1\Desktop\9878-373x210.jpg"/>
          <p:cNvPicPr/>
          <p:nvPr/>
        </p:nvPicPr>
        <p:blipFill>
          <a:blip r:embed="rId1"/>
          <a:stretch/>
        </p:blipFill>
        <p:spPr>
          <a:xfrm>
            <a:off x="1447920" y="342900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-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Выписать причастия, произвести их морфемный  разбор.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2)Морфемный состав каких слов помогает нам понять авторское отношение к главной герои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C:\Users\1\Desktop\big.jpeg"/>
          <p:cNvPicPr/>
          <p:nvPr/>
        </p:nvPicPr>
        <p:blipFill>
          <a:blip r:embed="rId3"/>
          <a:stretch/>
        </p:blipFill>
        <p:spPr>
          <a:xfrm>
            <a:off x="4800600" y="2666880"/>
            <a:ext cx="434340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 ролик про ма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youtu.be/IfvK82j9fz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Все лучшее в нас от мамы (Социальный ролик) (1).mp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 урока. Рефлексия,самооце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:\Users\11111\Desktop\img9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II. Домашнее  задание                                              (дифференцированно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овый уровень: «Оратор». Подготовьте устное выступление на 1 минуту, с помощью которого убедите своего одноклассника в том, что изучение этой темы просто необходимо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ьте синквейн по теме "Причастие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ышенный уровень : вам даны причастные обороты и причастия, взятые из текста известного русского писателя. Попробуйте, используя эти языковые средства, составить собственный текст. Формы слов можно изменять. На следующем уроке мы сравним ваш текст с писательским вариа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соко стоявшие на небе, чуть брезжущем, слабо льющемся, тлеющего, задымившейся, зазеленевшимся, сверкающим, обагренным, стыдливо синевшей из-под редеющего тумана, обмытые утренней прохладой, погоняемый знакомыми мальчиками, отдохнувш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II. Включение учащихся в систему новых знаний. Формулирование темы урока (что будем повторять), целеполагание, план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2296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ная ситу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1\Desktop\1223832571_42219.jpg"/>
          <p:cNvPicPr/>
          <p:nvPr/>
        </p:nvPicPr>
        <p:blipFill>
          <a:blip r:embed="rId1"/>
          <a:stretch/>
        </p:blipFill>
        <p:spPr>
          <a:xfrm>
            <a:off x="0" y="1295280"/>
            <a:ext cx="4495680" cy="5410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11111\Desktop\Centaurlar-N-86414.gif"/>
          <p:cNvPicPr/>
          <p:nvPr/>
        </p:nvPicPr>
        <p:blipFill>
          <a:blip r:embed="rId3"/>
          <a:stretch/>
        </p:blipFill>
        <p:spPr>
          <a:xfrm>
            <a:off x="4495680" y="1295280"/>
            <a:ext cx="4648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0"/>
            <a:ext cx="4876920" cy="6858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ии слова служат сокращением человеческого слова, заключая имени и глагола силу».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В.Ломон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1\Desktop\e1b692d555beca02e4cdeba68a32fc6c.jpg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Причастие как глагольная форма.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закрепить знания о грамматических признаках причастия, сходных с грамматическими признаками глагола и прилагательн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сформировать умения находить причастия в тексте, различать лексико-грамматические разряд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повторить  правописание суффиксов причастий (-УЩ, - ЮЩ, АЩ, - ЯЩ, - ИМ, - ЕМ,- ОМ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 в предложении и тексте причастные обороты;                                                           анализировать тексты, включающие причастные об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развить  умение работать самостоятельно и в парах, вырабатывать навыки само- и взаи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. Повторение, закрепление, обобщение и систематизация изученного материал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1371600"/>
            <a:ext cx="5334120" cy="5486400"/>
          </a:xfrm>
          <a:prstGeom prst="rect">
            <a:avLst/>
          </a:prstGeom>
          <a:solidFill>
            <a:srgbClr val="d8f0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уть данного высказывания с помощью кластера                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аст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часть речи, причастная к глаголу, в образе прилагательног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И. 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809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2a4c49"/>
              </a:gs>
              <a:gs pos="100000">
                <a:srgbClr val="5ca4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Oval 6"/>
          <p:cNvGrpSpPr/>
          <p:nvPr/>
        </p:nvGrpSpPr>
        <p:grpSpPr>
          <a:xfrm>
            <a:off x="2036880" y="463680"/>
            <a:ext cx="4851360" cy="742680"/>
            <a:chOff x="2036880" y="463680"/>
            <a:chExt cx="4851360" cy="742680"/>
          </a:xfrm>
        </p:grpSpPr>
        <p:pic>
          <p:nvPicPr>
            <p:cNvPr id="70" name="Oval 6" descr=""/>
            <p:cNvPicPr/>
            <p:nvPr/>
          </p:nvPicPr>
          <p:blipFill>
            <a:blip r:embed="rId1"/>
            <a:stretch/>
          </p:blipFill>
          <p:spPr>
            <a:xfrm>
              <a:off x="2036880" y="463680"/>
              <a:ext cx="48513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757600" y="581040"/>
              <a:ext cx="3411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8"/>
          <p:cNvSpPr/>
          <p:nvPr/>
        </p:nvSpPr>
        <p:spPr>
          <a:xfrm>
            <a:off x="250920" y="981000"/>
            <a:ext cx="8640720" cy="5616720"/>
          </a:xfrm>
          <a:prstGeom prst="rect">
            <a:avLst/>
          </a:prstGeom>
          <a:gradFill rotWithShape="0">
            <a:gsLst>
              <a:gs pos="0">
                <a:srgbClr val="ecf7f8"/>
              </a:gs>
              <a:gs pos="100000">
                <a:srgbClr val="abced5"/>
              </a:gs>
            </a:gsLst>
            <a:lin ang="5400000"/>
          </a:gradFill>
          <a:ln w="9360">
            <a:solidFill>
              <a:srgbClr val="abc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642960" y="150840"/>
            <a:ext cx="1928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fff"/>
                </a:solidFill>
                <a:latin typeface="Arial Black"/>
              </a:rPr>
              <a:t>Класт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fff"/>
              </a:solidFill>
              <a:latin typeface="Arial Black"/>
              <a:ea typeface="Arial Black"/>
            </a:endParaRPr>
          </a:p>
        </p:txBody>
      </p:sp>
      <p:sp>
        <p:nvSpPr>
          <p:cNvPr id="75" name="Скругленный прямоугольник 1"/>
          <p:cNvSpPr/>
          <p:nvPr/>
        </p:nvSpPr>
        <p:spPr>
          <a:xfrm>
            <a:off x="2987640" y="1197000"/>
            <a:ext cx="2879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132000" y="13413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"/>
          <p:cNvSpPr/>
          <p:nvPr/>
        </p:nvSpPr>
        <p:spPr>
          <a:xfrm>
            <a:off x="539640" y="2712960"/>
            <a:ext cx="2448000" cy="792360"/>
          </a:xfrm>
          <a:prstGeom prst="ellips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4"/>
          <p:cNvSpPr/>
          <p:nvPr/>
        </p:nvSpPr>
        <p:spPr>
          <a:xfrm>
            <a:off x="5869080" y="2719440"/>
            <a:ext cx="2448000" cy="792000"/>
          </a:xfrm>
          <a:prstGeom prst="ellips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642960" y="29210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6084720" y="29113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108000" y="4149720"/>
            <a:ext cx="100800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1258920" y="4149720"/>
            <a:ext cx="100800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2411280" y="4149720"/>
            <a:ext cx="100836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5"/>
          <p:cNvSpPr/>
          <p:nvPr/>
        </p:nvSpPr>
        <p:spPr>
          <a:xfrm>
            <a:off x="6588000" y="4149720"/>
            <a:ext cx="100836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6"/>
          <p:cNvSpPr/>
          <p:nvPr/>
        </p:nvSpPr>
        <p:spPr>
          <a:xfrm>
            <a:off x="4462560" y="4149720"/>
            <a:ext cx="194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7"/>
          <p:cNvSpPr/>
          <p:nvPr/>
        </p:nvSpPr>
        <p:spPr>
          <a:xfrm>
            <a:off x="7740720" y="4149720"/>
            <a:ext cx="100800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08000" y="4149720"/>
            <a:ext cx="1008000" cy="39888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258920" y="4149720"/>
            <a:ext cx="1008000" cy="39888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411280" y="4149720"/>
            <a:ext cx="1008360" cy="39888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д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4462560" y="4149720"/>
            <a:ext cx="1944720" cy="39888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вра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6588000" y="4149720"/>
            <a:ext cx="1008360" cy="39888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7742160" y="4138560"/>
            <a:ext cx="1008000" cy="39888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0"/>
          <p:cNvSpPr/>
          <p:nvPr/>
        </p:nvSpPr>
        <p:spPr>
          <a:xfrm>
            <a:off x="5364000" y="5046840"/>
            <a:ext cx="1584360" cy="576000"/>
          </a:xfrm>
          <a:prstGeom prst="ellipse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5"/>
          <p:cNvSpPr/>
          <p:nvPr/>
        </p:nvSpPr>
        <p:spPr>
          <a:xfrm>
            <a:off x="7297560" y="5084640"/>
            <a:ext cx="1584360" cy="576360"/>
          </a:xfrm>
          <a:prstGeom prst="ellipse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5508720" y="506088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тояще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7451640" y="5076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шедше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углом 31"/>
          <p:cNvSpPr/>
          <p:nvPr/>
        </p:nvSpPr>
        <p:spPr>
          <a:xfrm flipH="1" rot="16200000">
            <a:off x="1771920" y="1461960"/>
            <a:ext cx="1035360" cy="136836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углом 26"/>
          <p:cNvSpPr/>
          <p:nvPr/>
        </p:nvSpPr>
        <p:spPr>
          <a:xfrm rot="5400000">
            <a:off x="6033960" y="1434600"/>
            <a:ext cx="1035360" cy="136872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28"/>
          <p:cNvCxnSpPr>
            <a:stCxn id="77" idx="3"/>
            <a:endCxn id="87" idx="0"/>
          </p:cNvCxnSpPr>
          <p:nvPr/>
        </p:nvCxnSpPr>
        <p:spPr>
          <a:xfrm flipH="1">
            <a:off x="610920" y="3389400"/>
            <a:ext cx="288000" cy="76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30"/>
          <p:cNvCxnSpPr>
            <a:stCxn id="77" idx="4"/>
            <a:endCxn id="82" idx="0"/>
          </p:cNvCxnSpPr>
          <p:nvPr/>
        </p:nvCxnSpPr>
        <p:spPr>
          <a:xfrm>
            <a:off x="1763280" y="3505320"/>
            <a:ext cx="1080" cy="64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33"/>
          <p:cNvCxnSpPr>
            <a:stCxn id="77" idx="5"/>
            <a:endCxn id="89" idx="0"/>
          </p:cNvCxnSpPr>
          <p:nvPr/>
        </p:nvCxnSpPr>
        <p:spPr>
          <a:xfrm>
            <a:off x="2629080" y="3389400"/>
            <a:ext cx="288000" cy="76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36"/>
          <p:cNvCxnSpPr>
            <a:stCxn id="78" idx="3"/>
            <a:endCxn id="90" idx="0"/>
          </p:cNvCxnSpPr>
          <p:nvPr/>
        </p:nvCxnSpPr>
        <p:spPr>
          <a:xfrm flipH="1">
            <a:off x="5435280" y="3395160"/>
            <a:ext cx="791280" cy="75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Прямая со стрелкой 38"/>
          <p:cNvCxnSpPr>
            <a:stCxn id="78" idx="4"/>
            <a:endCxn id="91" idx="0"/>
          </p:cNvCxnSpPr>
          <p:nvPr/>
        </p:nvCxnSpPr>
        <p:spPr>
          <a:xfrm>
            <a:off x="7092720" y="3511080"/>
            <a:ext cx="1080" cy="639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Прямая со стрелкой 40"/>
          <p:cNvCxnSpPr>
            <a:stCxn id="78" idx="5"/>
            <a:endCxn id="92" idx="0"/>
          </p:cNvCxnSpPr>
          <p:nvPr/>
        </p:nvCxnSpPr>
        <p:spPr>
          <a:xfrm>
            <a:off x="7958160" y="3395520"/>
            <a:ext cx="288000" cy="74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42"/>
          <p:cNvCxnSpPr>
            <a:endCxn id="93" idx="0"/>
          </p:cNvCxnSpPr>
          <p:nvPr/>
        </p:nvCxnSpPr>
        <p:spPr>
          <a:xfrm flipH="1">
            <a:off x="6156000" y="4581000"/>
            <a:ext cx="937440" cy="46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44"/>
          <p:cNvCxnSpPr>
            <a:stCxn id="84" idx="2"/>
            <a:endCxn id="96" idx="0"/>
          </p:cNvCxnSpPr>
          <p:nvPr/>
        </p:nvCxnSpPr>
        <p:spPr>
          <a:xfrm>
            <a:off x="7092720" y="4581360"/>
            <a:ext cx="10436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11111</cp:lastModifiedBy>
  <dcterms:modified xsi:type="dcterms:W3CDTF">2024-03-20T20:04:05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