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49D-D09D-4042-9B34-3ADD1DA7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26E-B7B7-4BD4-801C-BF86E0FC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4FF-3A73-4489-9148-B2B4B57B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3F2-E09A-4DF4-9AAC-A46091C5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D4B9-104F-439C-B565-DD1EF787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8E0E-66D3-4838-A5F4-56D74CDD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2C67-A896-4585-A868-59729400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6270-CD6B-4AC7-86AE-88D086E4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37CE-1BA4-4BDF-937D-8A9010E5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6F19-4A94-4FC6-9992-C0FB6E2B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0EF4-01C2-4287-8FC7-E9CDFD4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CC8-276A-404F-9493-AF1383DC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89A6-6D9D-42B9-BC29-E60594E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5574-AB84-4020-B4F7-1DF52DC1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6606-46F4-46BD-8ECB-49B98620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F103-0B02-4F2D-B05A-6C47821A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BBE8-4A9B-4801-8C3F-14D71127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617F2-96EB-4E88-86CC-FD49A69D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C12D-5913-4407-95C2-BDA66081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7412-3F3F-4820-9DFD-93C9A267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19E5-4E02-43C2-A398-2086D55B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D352-4E32-44E9-9B3D-EDC38379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28B-8AA6-465E-905B-A5D77CAC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A64B-0BA2-4AB2-A702-B190E793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6749D-A334-4AD7-8F08-8FF8781D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3F10-2970-477B-AE25-B38DB6E8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CAD0-D85D-48EE-A7DD-546D094E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0A0C-2D56-4A2D-A1DC-31044D52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3C1E-8907-423B-8B7A-E7BDEE30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5AC5-AE8B-4C31-8769-929B22B4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4459-7BA6-4ED6-874A-24C178E2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2FB3F-A511-4063-A485-97DFB31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07509-AA45-4817-BAD3-EF534CF2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9B2-7A23-4231-B43D-6BF68952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68D2-04F7-4069-9078-ABE625A0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10FFF-EACF-4335-8AC7-5F99F71B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4F22-7F32-4ED9-9429-63FC20ED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D42E8-CDD8-4901-919D-B40BA7AA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209D-D1ED-4720-B49B-DAFFB3D3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55934-996C-4466-A603-72BDE76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77D2-DBF5-40CD-84F1-7D74023E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126A-6E80-48A3-8304-E2DD9765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6747E-D4F3-428C-B6D4-080780F3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5B05-8AAD-4015-99E4-7A3F5A56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F8F-4EDA-4021-A7CF-032D64B9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1A55B-F3C8-444E-831B-3887D88D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D25A5-5C6B-44B5-B85E-55D20F0A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05D2D-6744-4480-8F1D-0F3F478A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823A-55D4-4C0C-8E03-6F9E5FA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25BB-5EBA-43B8-8AB3-1529F294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E601-4EB7-4FFA-B990-CF87A95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65162-5EEB-48E2-B39A-E449AA61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1F43C-7E5B-4B66-9AD2-6D38DF46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87219-925A-4640-95AC-ABFA2743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95A0-22C0-47D3-BF14-CBD6F086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869-E76C-4420-97F5-F5A7B614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EEFC-F9BD-4E0E-88E6-B65E8A92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A4F-5FA5-4E47-8EFF-F61406F7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36F-CC3B-470A-A35E-181C47E3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53A-6908-445A-9F21-9F280E24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BBB5-22F4-453C-A67B-A30636EBCF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F71B-41BB-4087-8B04-55A3F6617B5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8C02-AFE6-4CB2-8DC5-FCC362DB4F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D35B-B709-49D0-AA00-5276C115176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2193-2A45-4631-9A1E-5B28D6BE7A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Овал 3"/>
          <p:cNvSpPr/>
          <p:nvPr/>
        </p:nvSpPr>
        <p:spPr>
          <a:xfrm>
            <a:off x="2286000" y="928800"/>
            <a:ext cx="4357800" cy="4357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4286160" y="2643120"/>
            <a:ext cx="3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 flipV="1">
            <a:off x="4429080" y="3142800"/>
            <a:ext cx="2214720" cy="34920"/>
          </a:xfrm>
          <a:prstGeom prst="line">
            <a:avLst/>
          </a:prstGeom>
          <a:ln w="2844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14"/>
          <p:cNvSpPr/>
          <p:nvPr/>
        </p:nvSpPr>
        <p:spPr>
          <a:xfrm flipH="1">
            <a:off x="2928600" y="1571040"/>
            <a:ext cx="3081240" cy="30812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6437520" y="857160"/>
            <a:ext cx="171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2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4503960" y="2214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5361120" y="2571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"/>
          <p:cNvSpPr/>
          <p:nvPr/>
        </p:nvSpPr>
        <p:spPr>
          <a:xfrm>
            <a:off x="214200" y="89640"/>
            <a:ext cx="8572680" cy="67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тест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ему равно числ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3,24   б) 3,14   в) 4,2   г) 8,2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аметр окружности равен 5,6см, чему равен радиус окружности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3,3см б) 12,2см в) 11,2см г) 2,8см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йдите формулу длины окруж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d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d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жите формулу для нахождения площади круг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S= 2πr   б) S=πd   в) S= πr   г) S=πr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285840" y="87732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машнее зада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) Радиус одной окружности 5,2 см, другой – 15,6 см. Во сколько раз длина одной окружности больше длины другой окружности? В каком отношении находится радиус меньшей окружности к радиусу боль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) Вычис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длину окружности, ограничивающей океан Бумба шириной в 100 тысяч беря  в верстах, метрах. (1 беря = 7 верстам, 1 верста=1067 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2023920"/>
            <a:ext cx="89488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Овал 1"/>
          <p:cNvSpPr/>
          <p:nvPr/>
        </p:nvSpPr>
        <p:spPr>
          <a:xfrm>
            <a:off x="714240" y="2143080"/>
            <a:ext cx="1857600" cy="178596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"/>
          <p:cNvSpPr/>
          <p:nvPr/>
        </p:nvSpPr>
        <p:spPr>
          <a:xfrm>
            <a:off x="3786120" y="785880"/>
            <a:ext cx="4500720" cy="428616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4"/>
          <p:cNvSpPr/>
          <p:nvPr/>
        </p:nvSpPr>
        <p:spPr>
          <a:xfrm>
            <a:off x="1643040" y="3071880"/>
            <a:ext cx="9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7"/>
          <p:cNvSpPr/>
          <p:nvPr/>
        </p:nvSpPr>
        <p:spPr>
          <a:xfrm>
            <a:off x="6000840" y="292896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1071720" y="43578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2 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5719320" y="535788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1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Овал 1"/>
          <p:cNvSpPr/>
          <p:nvPr/>
        </p:nvSpPr>
        <p:spPr>
          <a:xfrm>
            <a:off x="5000760" y="1285920"/>
            <a:ext cx="3286080" cy="3286080"/>
          </a:xfrm>
          <a:prstGeom prst="ellipse">
            <a:avLst/>
          </a:prstGeom>
          <a:solidFill>
            <a:srgbClr val="4ea5d8"/>
          </a:solidFill>
          <a:ln w="42480">
            <a:solidFill>
              <a:srgbClr val="4ea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2"/>
          <p:cNvSpPr/>
          <p:nvPr/>
        </p:nvSpPr>
        <p:spPr>
          <a:xfrm>
            <a:off x="928800" y="1428840"/>
            <a:ext cx="3214440" cy="32144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1721520" y="485784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6431400" y="47862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9218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ма урок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«Длина окружности и площадь круга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500040" y="1571760"/>
          <a:ext cx="8143920" cy="3071520"/>
        </p:xfrm>
        <a:graphic>
          <a:graphicData uri="http://schemas.openxmlformats.org/drawingml/2006/table">
            <a:tbl>
              <a:tblPr/>
              <a:tblGrid>
                <a:gridCol w="1077840"/>
                <a:gridCol w="2428920"/>
                <a:gridCol w="2428920"/>
                <a:gridCol w="2208240"/>
              </a:tblGrid>
              <a:tr h="7682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1674720" y="456480"/>
            <a:ext cx="596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олнить пропущенные места в табл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5" descr=""/>
          <p:cNvPicPr/>
          <p:nvPr/>
        </p:nvPicPr>
        <p:blipFill>
          <a:blip r:embed="rId1"/>
          <a:stretch/>
        </p:blipFill>
        <p:spPr>
          <a:xfrm>
            <a:off x="5143680" y="1500120"/>
            <a:ext cx="3595680" cy="334008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5"/>
          <p:cNvSpPr/>
          <p:nvPr/>
        </p:nvSpPr>
        <p:spPr>
          <a:xfrm>
            <a:off x="1643040" y="785880"/>
            <a:ext cx="1905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6150240" y="4714920"/>
            <a:ext cx="18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357120" y="1306440"/>
            <a:ext cx="43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ину, чтобы колесо телеги прослужило долгую службу, его оббивали металлической пластиной по ободу. Представьте, что вам необходимо сделать то же сам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антиметров металлической пластины вам понадобится? Попробуйте расс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2"/>
          <p:cNvSpPr/>
          <p:nvPr/>
        </p:nvSpPr>
        <p:spPr>
          <a:xfrm>
            <a:off x="3714120" y="35712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2d00"/>
                </a:solidFill>
                <a:latin typeface="Times New Roman"/>
                <a:ea typeface="Times New Roman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i.litbook.net/47/47121/dzhangar-kalmyckij-narodnyj-epos-perepechatano-s-izdaniya-1977-goda/49/i_006.jpg"/>
          <p:cNvPicPr/>
          <p:nvPr/>
        </p:nvPicPr>
        <p:blipFill>
          <a:blip r:embed="rId1"/>
          <a:stretch/>
        </p:blipFill>
        <p:spPr>
          <a:xfrm>
            <a:off x="5072040" y="1143000"/>
            <a:ext cx="3857760" cy="55324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0" y="571680"/>
            <a:ext cx="621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ный Бумбою, солнцем-луной   осия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о синему кругу лежал оке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океан такой обладал шири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о тысяч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ир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0" y="328608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прос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ва длина окруж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вающей океан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выразите в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57120" y="4929120"/>
            <a:ext cx="4714920" cy="1557000"/>
          </a:xfrm>
          <a:prstGeom prst="rect">
            <a:avLst/>
          </a:prstGeom>
          <a:noFill/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я – старокалмыцкая мера д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еря = 7 верс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ерста = 1067 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Овал 1"/>
          <p:cNvSpPr/>
          <p:nvPr/>
        </p:nvSpPr>
        <p:spPr>
          <a:xfrm>
            <a:off x="1857240" y="571680"/>
            <a:ext cx="5143680" cy="500040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3"/>
          <p:cNvSpPr/>
          <p:nvPr/>
        </p:nvSpPr>
        <p:spPr>
          <a:xfrm>
            <a:off x="1857240" y="3071880"/>
            <a:ext cx="5143680" cy="0"/>
          </a:xfrm>
          <a:prstGeom prst="line">
            <a:avLst/>
          </a:prstGeom>
          <a:ln w="2844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5"/>
          <p:cNvSpPr/>
          <p:nvPr/>
        </p:nvSpPr>
        <p:spPr>
          <a:xfrm>
            <a:off x="4429080" y="571680"/>
            <a:ext cx="0" cy="5000400"/>
          </a:xfrm>
          <a:prstGeom prst="line">
            <a:avLst/>
          </a:prstGeom>
          <a:ln w="2844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7"/>
          <p:cNvSpPr/>
          <p:nvPr/>
        </p:nvSpPr>
        <p:spPr>
          <a:xfrm>
            <a:off x="2609280" y="1303200"/>
            <a:ext cx="3638520" cy="3537000"/>
          </a:xfrm>
          <a:prstGeom prst="line">
            <a:avLst/>
          </a:prstGeom>
          <a:ln w="2844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 flipH="1">
            <a:off x="2609640" y="1302480"/>
            <a:ext cx="3638520" cy="3537000"/>
          </a:xfrm>
          <a:prstGeom prst="line">
            <a:avLst/>
          </a:prstGeom>
          <a:ln w="2844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1"/>
          <p:cNvSpPr/>
          <p:nvPr/>
        </p:nvSpPr>
        <p:spPr>
          <a:xfrm flipH="1">
            <a:off x="3500280" y="785880"/>
            <a:ext cx="1857600" cy="4572000"/>
          </a:xfrm>
          <a:prstGeom prst="line">
            <a:avLst/>
          </a:prstGeom>
          <a:ln w="2844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3"/>
          <p:cNvSpPr/>
          <p:nvPr/>
        </p:nvSpPr>
        <p:spPr>
          <a:xfrm>
            <a:off x="3429000" y="785880"/>
            <a:ext cx="2000160" cy="4572000"/>
          </a:xfrm>
          <a:prstGeom prst="line">
            <a:avLst/>
          </a:prstGeom>
          <a:ln w="2844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 flipH="1">
            <a:off x="2071440" y="2071800"/>
            <a:ext cx="4714920" cy="2000160"/>
          </a:xfrm>
          <a:prstGeom prst="line">
            <a:avLst/>
          </a:prstGeom>
          <a:ln w="2844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8"/>
          <p:cNvSpPr/>
          <p:nvPr/>
        </p:nvSpPr>
        <p:spPr>
          <a:xfrm>
            <a:off x="2071800" y="2071800"/>
            <a:ext cx="4714920" cy="2000160"/>
          </a:xfrm>
          <a:prstGeom prst="line">
            <a:avLst/>
          </a:prstGeom>
          <a:ln w="2844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0"/>
          <p:cNvSpPr/>
          <p:nvPr/>
        </p:nvSpPr>
        <p:spPr>
          <a:xfrm>
            <a:off x="7000920" y="3071880"/>
            <a:ext cx="0" cy="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22"/>
          <p:cNvSpPr/>
          <p:nvPr/>
        </p:nvSpPr>
        <p:spPr>
          <a:xfrm flipH="1">
            <a:off x="1143000" y="3071880"/>
            <a:ext cx="714240" cy="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4"/>
          <p:cNvSpPr/>
          <p:nvPr/>
        </p:nvSpPr>
        <p:spPr>
          <a:xfrm flipH="1">
            <a:off x="1071720" y="571680"/>
            <a:ext cx="3357360" cy="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Прямая со стрелкой 29"/>
          <p:cNvCxnSpPr/>
          <p:nvPr/>
        </p:nvCxnSpPr>
        <p:spPr>
          <a:xfrm flipH="1">
            <a:off x="1212480" y="571320"/>
            <a:ext cx="2160" cy="2500920"/>
          </a:xfrm>
          <a:prstGeom prst="straightConnector1">
            <a:avLst/>
          </a:prstGeom>
          <a:ln w="28440">
            <a:solidFill>
              <a:srgbClr val="1b587c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62" name="Группа 106"/>
          <p:cNvGrpSpPr/>
          <p:nvPr/>
        </p:nvGrpSpPr>
        <p:grpSpPr>
          <a:xfrm>
            <a:off x="1856880" y="571680"/>
            <a:ext cx="5000760" cy="2500200"/>
            <a:chOff x="1856880" y="571680"/>
            <a:chExt cx="5000760" cy="2500200"/>
          </a:xfrm>
        </p:grpSpPr>
        <p:sp>
          <p:nvSpPr>
            <p:cNvPr id="263" name="Прямая соединительная линия 75"/>
            <p:cNvSpPr/>
            <p:nvPr/>
          </p:nvSpPr>
          <p:spPr>
            <a:xfrm flipH="1">
              <a:off x="1856880" y="928800"/>
              <a:ext cx="1214280" cy="21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Прямая соединительная линия 77"/>
            <p:cNvSpPr/>
            <p:nvPr/>
          </p:nvSpPr>
          <p:spPr>
            <a:xfrm flipH="1">
              <a:off x="2357280" y="714240"/>
              <a:ext cx="1285920" cy="23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79"/>
            <p:cNvSpPr/>
            <p:nvPr/>
          </p:nvSpPr>
          <p:spPr>
            <a:xfrm flipH="1">
              <a:off x="2857320" y="571680"/>
              <a:ext cx="1285920" cy="25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81"/>
            <p:cNvSpPr/>
            <p:nvPr/>
          </p:nvSpPr>
          <p:spPr>
            <a:xfrm flipH="1">
              <a:off x="3357000" y="571680"/>
              <a:ext cx="1214280" cy="25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85"/>
            <p:cNvSpPr/>
            <p:nvPr/>
          </p:nvSpPr>
          <p:spPr>
            <a:xfrm flipH="1">
              <a:off x="3857040" y="642960"/>
              <a:ext cx="1143000" cy="24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87"/>
            <p:cNvSpPr/>
            <p:nvPr/>
          </p:nvSpPr>
          <p:spPr>
            <a:xfrm flipH="1">
              <a:off x="4285800" y="785880"/>
              <a:ext cx="11430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89"/>
            <p:cNvSpPr/>
            <p:nvPr/>
          </p:nvSpPr>
          <p:spPr>
            <a:xfrm flipH="1">
              <a:off x="4714920" y="928800"/>
              <a:ext cx="1071360" cy="21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93"/>
            <p:cNvSpPr/>
            <p:nvPr/>
          </p:nvSpPr>
          <p:spPr>
            <a:xfrm flipH="1">
              <a:off x="5214600" y="1214640"/>
              <a:ext cx="928440" cy="18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95"/>
            <p:cNvSpPr/>
            <p:nvPr/>
          </p:nvSpPr>
          <p:spPr>
            <a:xfrm flipH="1">
              <a:off x="5715000" y="1500120"/>
              <a:ext cx="714240" cy="15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Прямая соединительная линия 97"/>
            <p:cNvSpPr/>
            <p:nvPr/>
          </p:nvSpPr>
          <p:spPr>
            <a:xfrm flipH="1">
              <a:off x="6143400" y="1857600"/>
              <a:ext cx="500040" cy="12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Прямая соединительная линия 99"/>
            <p:cNvSpPr/>
            <p:nvPr/>
          </p:nvSpPr>
          <p:spPr>
            <a:xfrm flipH="1">
              <a:off x="6643440" y="2357640"/>
              <a:ext cx="214200" cy="7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Box 103"/>
          <p:cNvSpPr/>
          <p:nvPr/>
        </p:nvSpPr>
        <p:spPr>
          <a:xfrm>
            <a:off x="1217880" y="121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7009200" y="85716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30"/>
          <p:cNvSpPr/>
          <p:nvPr/>
        </p:nvSpPr>
        <p:spPr>
          <a:xfrm>
            <a:off x="4429080" y="571680"/>
            <a:ext cx="0" cy="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C:\Users\Валера\Pictures\2016-02-17\001.jpg"/>
          <p:cNvPicPr/>
          <p:nvPr/>
        </p:nvPicPr>
        <p:blipFill>
          <a:blip r:embed="rId1"/>
          <a:srcRect l="6030" t="32329" r="54575" b="39270"/>
          <a:stretch/>
        </p:blipFill>
        <p:spPr>
          <a:xfrm>
            <a:off x="1357200" y="357120"/>
            <a:ext cx="6215040" cy="28576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C:\Users\Валера\Pictures\2016-02-17\001.jpg"/>
          <p:cNvPicPr/>
          <p:nvPr/>
        </p:nvPicPr>
        <p:blipFill>
          <a:blip r:embed="rId2"/>
          <a:srcRect l="11959" t="60317" r="59237" b="25740"/>
          <a:stretch/>
        </p:blipFill>
        <p:spPr>
          <a:xfrm>
            <a:off x="2643120" y="3643200"/>
            <a:ext cx="4857840" cy="1571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ая соединительная линия 4"/>
          <p:cNvSpPr/>
          <p:nvPr/>
        </p:nvSpPr>
        <p:spPr>
          <a:xfrm flipH="1">
            <a:off x="2071440" y="371484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0"/>
          <p:cNvSpPr/>
          <p:nvPr/>
        </p:nvSpPr>
        <p:spPr>
          <a:xfrm flipH="1">
            <a:off x="2071440" y="514368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Прямая со стрелкой 16"/>
          <p:cNvCxnSpPr/>
          <p:nvPr/>
        </p:nvCxnSpPr>
        <p:spPr>
          <a:xfrm flipH="1">
            <a:off x="2212200" y="3715920"/>
            <a:ext cx="25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TextBox 17"/>
          <p:cNvSpPr/>
          <p:nvPr/>
        </p:nvSpPr>
        <p:spPr>
          <a:xfrm>
            <a:off x="1860120" y="421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19"/>
          <p:cNvSpPr/>
          <p:nvPr/>
        </p:nvSpPr>
        <p:spPr>
          <a:xfrm>
            <a:off x="2928960" y="5143680"/>
            <a:ext cx="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23"/>
          <p:cNvSpPr/>
          <p:nvPr/>
        </p:nvSpPr>
        <p:spPr>
          <a:xfrm>
            <a:off x="7429680" y="514368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Прямая со стрелкой 25"/>
          <p:cNvCxnSpPr/>
          <p:nvPr/>
        </p:nvCxnSpPr>
        <p:spPr>
          <a:xfrm>
            <a:off x="2928960" y="5500800"/>
            <a:ext cx="4501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6" name="TextBox 27"/>
          <p:cNvSpPr/>
          <p:nvPr/>
        </p:nvSpPr>
        <p:spPr>
          <a:xfrm>
            <a:off x="4504320" y="51436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TextBox 28" descr=""/>
          <p:cNvPicPr/>
          <p:nvPr/>
        </p:nvPicPr>
        <p:blipFill>
          <a:blip r:embed="rId3"/>
          <a:stretch/>
        </p:blipFill>
        <p:spPr>
          <a:xfrm>
            <a:off x="3614760" y="5657760"/>
            <a:ext cx="23223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18:08:28Z</dcterms:created>
  <dc:creator>Валера</dc:creator>
  <dc:description/>
  <dc:language>en-US</dc:language>
  <cp:lastModifiedBy>admin</cp:lastModifiedBy>
  <dcterms:modified xsi:type="dcterms:W3CDTF">2023-12-03T18:26:18Z</dcterms:modified>
  <cp:revision>25</cp:revision>
  <dc:subject/>
  <dc:title>Слайд 1</dc:title>
</cp:coreProperties>
</file>