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3.jpeg" ContentType="image/jpeg"/>
  <Override PartName="/ppt/media/image23.png" ContentType="image/png"/>
  <Override PartName="/ppt/media/image4.png" ContentType="image/png"/>
  <Override PartName="/ppt/media/image22.png" ContentType="image/png"/>
  <Override PartName="/ppt/media/image19.jpeg" ContentType="image/jpeg"/>
  <Override PartName="/ppt/media/image20.jpeg" ContentType="image/jpeg"/>
  <Override PartName="/ppt/media/image15.jpeg" ContentType="image/jpeg"/>
  <Override PartName="/ppt/media/image18.jpeg" ContentType="image/jpeg"/>
  <Override PartName="/ppt/media/image16.jpeg" ContentType="image/jpeg"/>
  <Override PartName="/ppt/media/image24.png" ContentType="image/png"/>
  <Override PartName="/ppt/media/image21.gif" ContentType="image/gif"/>
  <Override PartName="/ppt/media/image1.png" ContentType="image/png"/>
  <Override PartName="/ppt/media/image25.png" ContentType="image/png"/>
  <Override PartName="/ppt/media/image2.png" ContentType="image/png"/>
  <Override PartName="/ppt/media/image3.png" ContentType="image/png"/>
  <Override PartName="/ppt/media/image26.png" ContentType="image/png"/>
  <Override PartName="/ppt/media/image1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989EF-7D6E-4779-B23E-71231DF64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AB64A-064E-4736-8F0E-0B5634A9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4AD4B1-8376-4CE4-81EF-3FE32A805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F3598-E11D-4C8F-A903-6F7A7B5E6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D4AB0-ABC7-4FE8-8F89-CC6EB2C0B3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447DA-B445-4CBA-9402-E2565F394E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4FA33-B8F4-4406-8438-2AD4E640B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B7902-9958-475B-91B3-C29B68A23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35904-4517-4F08-BAF2-A2A03BB38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3F6E3-E448-4F2E-8DF1-194908B2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1943E9-3358-4B76-966B-C613522C9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981AF9-AB45-4AB4-B1E2-D5A60DD08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84569-1C39-4424-B899-BD0F84620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7E5B-16DE-4FDD-BCDB-D8DAD52CF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4AC6A-7680-44F1-A5F0-6BD42E459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01AAF-FA6A-42E3-B0CD-233D9254C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298008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50320" y="342900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094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298008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350320" y="3628080"/>
            <a:ext cx="225720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5CDFC-C464-4CC6-AEC2-319E3F4DC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701064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A8CDDB-3CAC-46F2-B448-AA91F7D4A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1CA3D-0363-4602-9807-4750D1DCA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1056A-0EFC-44BE-83BD-A79F281B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09480" y="2666520"/>
            <a:ext cx="7010640" cy="318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5A3457-AC99-401B-8F27-A67CE7C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E5FBCF-8DE5-486E-8A5F-573975B01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201920" y="362808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B314EE-1801-4F35-9043-F60BD8A9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201920" y="3429000"/>
            <a:ext cx="342108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628080"/>
            <a:ext cx="7010640" cy="18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E7B1EF-AF6F-4A14-8D56-8CFEC3A0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718320"/>
            <a:ext cx="9144000" cy="139680"/>
          </a:xfrm>
          <a:prstGeom prst="rect">
            <a:avLst/>
          </a:prstGeom>
          <a:solidFill>
            <a:srgbClr val="519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-3960" y="0"/>
            <a:ext cx="9147960" cy="1676520"/>
            <a:chOff x="-3960" y="0"/>
            <a:chExt cx="9147960" cy="1676520"/>
          </a:xfrm>
        </p:grpSpPr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1676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8086680" y="0"/>
              <a:ext cx="1057320" cy="115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" name="" descr=""/>
            <p:cNvPicPr/>
            <p:nvPr/>
          </p:nvPicPr>
          <p:blipFill>
            <a:blip r:embed="rId4"/>
            <a:stretch/>
          </p:blipFill>
          <p:spPr>
            <a:xfrm rot="930000">
              <a:off x="76320" y="130680"/>
              <a:ext cx="861840" cy="717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4114440" y="644796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304560" y="1218960"/>
            <a:ext cx="83818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1944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8bf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304560" y="6447960"/>
            <a:ext cx="5331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C9B6-0472-45FA-9E4F-28FF619F728C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9360" y="5967360"/>
            <a:ext cx="64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ftr" idx="3"/>
          </p:nvPr>
        </p:nvSpPr>
        <p:spPr>
          <a:xfrm>
            <a:off x="914040" y="6447960"/>
            <a:ext cx="28954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" name="" descr=""/>
          <p:cNvPicPr/>
          <p:nvPr/>
        </p:nvPicPr>
        <p:blipFill>
          <a:blip r:embed="rId5"/>
          <a:srcRect l="0" t="0" r="-15" b="77"/>
          <a:stretch/>
        </p:blipFill>
        <p:spPr>
          <a:xfrm>
            <a:off x="6781680" y="5543640"/>
            <a:ext cx="2210040" cy="1314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1368360"/>
            <a:ext cx="8245440" cy="5489640"/>
          </a:xfrm>
          <a:prstGeom prst="rect">
            <a:avLst/>
          </a:prstGeom>
          <a:ln w="0">
            <a:noFill/>
          </a:ln>
        </p:spPr>
      </p:pic>
      <p:grpSp>
        <p:nvGrpSpPr>
          <p:cNvPr id="49" name=""/>
          <p:cNvGrpSpPr/>
          <p:nvPr/>
        </p:nvGrpSpPr>
        <p:grpSpPr>
          <a:xfrm>
            <a:off x="0" y="0"/>
            <a:ext cx="9144000" cy="2971800"/>
            <a:chOff x="0" y="0"/>
            <a:chExt cx="9144000" cy="2971800"/>
          </a:xfrm>
        </p:grpSpPr>
        <p:pic>
          <p:nvPicPr>
            <p:cNvPr id="50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4000" cy="2971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4"/>
            <a:stretch/>
          </p:blipFill>
          <p:spPr>
            <a:xfrm>
              <a:off x="5334120" y="0"/>
              <a:ext cx="1361880" cy="108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70106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762120" y="914400"/>
            <a:ext cx="866520" cy="53352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2"/>
          <p:cNvSpPr>
            <a:spLocks noGrp="1"/>
          </p:cNvSpPr>
          <p:nvPr>
            <p:ph type="ftr" idx="4"/>
          </p:nvPr>
        </p:nvSpPr>
        <p:spPr>
          <a:xfrm>
            <a:off x="759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5"/>
          </p:nvPr>
        </p:nvSpPr>
        <p:spPr>
          <a:xfrm>
            <a:off x="4876920" y="6613200"/>
            <a:ext cx="213336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8534520" y="6552720"/>
            <a:ext cx="4572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C4B9-CD28-4EC6-A797-49D8E3FD51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467480" y="15228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L/O/G/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8bf1d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gif-kartinki.ru/27/love_147.jpg" TargetMode="External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allforchildren.ru/pictures/showimg/house/house121gif.htm" TargetMode="External"/><Relationship Id="rId2" Type="http://schemas.openxmlformats.org/officeDocument/2006/relationships/image" Target="../media/image22.png"/><Relationship Id="rId3" Type="http://schemas.openxmlformats.org/officeDocument/2006/relationships/hyperlink" Target="http://allforchildren.ru/pictures/showimg/house/house127gif.htm" TargetMode="External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0920" y="1915920"/>
            <a:ext cx="70102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Здравствуйте!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2078" fill="hold"/>
                                        <p:tgtEl>
                                          <p:spTgt spid="9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Кузембае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979640" y="1268280"/>
            <a:ext cx="4824360" cy="4597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Рахим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539640" y="1189080"/>
            <a:ext cx="8209080" cy="456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003640" y="1844640"/>
            <a:ext cx="2989440" cy="424836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611280" y="3716280"/>
            <a:ext cx="3744720" cy="24908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rcRect l="14591" t="0" r="13625" b="63081"/>
          <a:stretch/>
        </p:blipFill>
        <p:spPr>
          <a:xfrm>
            <a:off x="250920" y="1197000"/>
            <a:ext cx="4608360" cy="213372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00000" y="333000"/>
            <a:ext cx="753768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нинг «Брачное объявление»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restart="whenNotActive" nodeType="interactiveSeq" fill="hold">
                <p:stCondLst>
                  <p:cond evt="onClick">
                    <p:tgtEl>
                      <p:spTgt spid="137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37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136166" fill="hold"/>
                                        <p:tgtEl>
                                          <p:spTgt spid="13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узыкальная пауза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448308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Когда без страсти и без дела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есцветно дни мои текли, 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как буря налетела 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унесла меня с земли.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Она меня лишила веры 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дохновение зажгла, 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Дала мне счастие без меры                   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слезы, слезы без числа...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Сухими, жесткими словами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Терзала сердце мне порой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хохотала над слезами,  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издевалась над тоской;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А иногда горячим словом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взором ласковых очей   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Гнала печаль, – и в блеске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новом 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 душе светилася моей!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Я все забыл, дышу лишь ею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сю жизнь я отдал ей во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власть,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Благословить ее не смею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И не могу ее проклясть.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Verdana"/>
              </a:rPr>
              <a:t>(А.Апухтин)</a:t>
            </a:r>
            <a:endParaRPr b="1" lang="en-US" sz="1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3780000" y="1628640"/>
            <a:ext cx="4968720" cy="3041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Мой дом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700280"/>
            <a:ext cx="1500480" cy="180000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3564000" y="1413000"/>
            <a:ext cx="1495440" cy="201600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5"/>
          <a:stretch/>
        </p:blipFill>
        <p:spPr>
          <a:xfrm>
            <a:off x="826920" y="4149720"/>
            <a:ext cx="3600720" cy="144000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6"/>
          <a:stretch/>
        </p:blipFill>
        <p:spPr>
          <a:xfrm>
            <a:off x="6156360" y="1557360"/>
            <a:ext cx="2232000" cy="194940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7"/>
          <a:stretch/>
        </p:blipFill>
        <p:spPr>
          <a:xfrm>
            <a:off x="5003640" y="3789360"/>
            <a:ext cx="1962360" cy="2160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8"/>
          <a:stretch/>
        </p:blipFill>
        <p:spPr>
          <a:xfrm>
            <a:off x="8317080" y="580536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4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4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18758" fill="hold"/>
                                        <p:tgtEl>
                                          <p:spTgt spid="1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01064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Спасибо</a:t>
            </a: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!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610920" y="3284640"/>
            <a:ext cx="7010280" cy="16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важного, полезного вы для себя возьмёте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Что сегодня стало для вас открытием?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Verdana"/>
              </a:rPr>
              <a:t>Будем ли мы продолжать такую работу в дальнейшем?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Отгадайте пословицы: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42920" y="3357720"/>
            <a:ext cx="7849800" cy="688680"/>
            <a:chOff x="1042920" y="3357720"/>
            <a:chExt cx="7849800" cy="688680"/>
          </a:xfrm>
        </p:grpSpPr>
        <p:sp>
          <p:nvSpPr>
            <p:cNvPr id="99" name=""/>
            <p:cNvSpPr/>
            <p:nvPr/>
          </p:nvSpPr>
          <p:spPr>
            <a:xfrm>
              <a:off x="1042920" y="3357720"/>
              <a:ext cx="7849800" cy="68868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1bafc3"/>
                </a:gs>
                <a:gs pos="50000">
                  <a:srgbClr val="18a0b3"/>
                </a:gs>
                <a:gs pos="100000">
                  <a:srgbClr val="1baf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062000" y="3378960"/>
              <a:ext cx="7820640" cy="636840"/>
              <a:chOff x="1062000" y="3378960"/>
              <a:chExt cx="7820640" cy="636840"/>
            </a:xfrm>
          </p:grpSpPr>
          <p:sp>
            <p:nvSpPr>
              <p:cNvPr id="101" name=""/>
              <p:cNvSpPr/>
              <p:nvPr/>
            </p:nvSpPr>
            <p:spPr>
              <a:xfrm>
                <a:off x="1062000" y="385092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1bafc3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062000" y="3378960"/>
                <a:ext cx="782064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1bafc3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3" name=""/>
          <p:cNvGrpSpPr/>
          <p:nvPr/>
        </p:nvGrpSpPr>
        <p:grpSpPr>
          <a:xfrm>
            <a:off x="1042920" y="2421000"/>
            <a:ext cx="7921440" cy="689040"/>
            <a:chOff x="1042920" y="2421000"/>
            <a:chExt cx="7921440" cy="689040"/>
          </a:xfrm>
        </p:grpSpPr>
        <p:sp>
          <p:nvSpPr>
            <p:cNvPr id="104" name=""/>
            <p:cNvSpPr/>
            <p:nvPr/>
          </p:nvSpPr>
          <p:spPr>
            <a:xfrm>
              <a:off x="1042920" y="2421000"/>
              <a:ext cx="7921440" cy="689040"/>
            </a:xfrm>
            <a:prstGeom prst="roundRect">
              <a:avLst>
                <a:gd name="adj" fmla="val 17509"/>
              </a:avLst>
            </a:prstGeom>
            <a:gradFill rotWithShape="0">
              <a:gsLst>
                <a:gs pos="0">
                  <a:srgbClr val="646ade"/>
                </a:gs>
                <a:gs pos="50000">
                  <a:srgbClr val="5b61cb"/>
                </a:gs>
                <a:gs pos="100000">
                  <a:srgbClr val="646ad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1062360" y="2442240"/>
              <a:ext cx="7891920" cy="636840"/>
              <a:chOff x="1062360" y="2442240"/>
              <a:chExt cx="7891920" cy="636840"/>
            </a:xfrm>
          </p:grpSpPr>
          <p:sp>
            <p:nvSpPr>
              <p:cNvPr id="106" name=""/>
              <p:cNvSpPr/>
              <p:nvPr/>
            </p:nvSpPr>
            <p:spPr>
              <a:xfrm>
                <a:off x="1062360" y="2914200"/>
                <a:ext cx="7891920" cy="16488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646ade">
                      <a:alpha val="0"/>
                    </a:srgbClr>
                  </a:gs>
                  <a:gs pos="100000">
                    <a:srgbClr val="fefef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062360" y="2442240"/>
                <a:ext cx="7891920" cy="165240"/>
              </a:xfrm>
              <a:prstGeom prst="roundRect">
                <a:avLst>
                  <a:gd name="adj" fmla="val 50000"/>
                </a:avLst>
              </a:prstGeom>
              <a:gradFill rotWithShape="0">
                <a:gsLst>
                  <a:gs pos="0">
                    <a:srgbClr val="fefefe"/>
                  </a:gs>
                  <a:gs pos="100000">
                    <a:srgbClr val="646ade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" name=""/>
          <p:cNvSpPr/>
          <p:nvPr/>
        </p:nvSpPr>
        <p:spPr>
          <a:xfrm>
            <a:off x="611280" y="2492280"/>
            <a:ext cx="820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ЯСТЮАРИБОС ЙЕН К ЕСВ, ОДНОЛОХ КАК: АКЧЕП – ЯЬМЕ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172" b="-250"/>
          <a:stretch/>
        </p:blipFill>
        <p:spPr>
          <a:xfrm>
            <a:off x="324000" y="3284640"/>
            <a:ext cx="792000" cy="9493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rcRect l="0" t="0" r="172" b="-250"/>
          <a:stretch/>
        </p:blipFill>
        <p:spPr>
          <a:xfrm>
            <a:off x="324000" y="2349360"/>
            <a:ext cx="792000" cy="9493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611280" y="24210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11280" y="3357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065320" y="42829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475280" y="3500280"/>
            <a:ext cx="654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Н ЫДЖУН И КАТ, ТЕВОС АД ЬВОБЮЛ ЕЬМЕС 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79640" y="2564280"/>
            <a:ext cx="806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емья – печка: как холодно, все к ней собираются.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572480" y="3499200"/>
            <a:ext cx="67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семье любовь да совет, так и нужды 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609640"/>
            <a:ext cx="511488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51944e"/>
                </a:solidFill>
                <a:latin typeface="Arial"/>
              </a:rPr>
              <a:t> </a:t>
            </a:r>
            <a:br>
              <a:rPr sz="3100"/>
            </a:b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Семья – это великий дар!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94920" y="83664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великий дар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- это то, что мы делим на вс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сем понемножку: и слёзы и смех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Взлёт и падение, радость, печаль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Дружбу и ссоры, молчанья печать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– это то, что с тобою всегда.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усть мчатся секунды, недели, года,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Но стены родные, отчий твой дом –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рдце навеки останется в нём!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Семья Перейма 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116000" y="1125360"/>
            <a:ext cx="6729480" cy="5046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Уренбасар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826920" y="1052640"/>
            <a:ext cx="7756560" cy="516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Тарасов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84360" y="1052640"/>
            <a:ext cx="7397640" cy="554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Шамардиных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7201080" cy="540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50640"/>
            <a:ext cx="7239240" cy="563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>
                <a:alpha val="50000"/>
              </a:srgbClr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Семья Мельник</a:t>
            </a:r>
            <a:endParaRPr b="1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900000" y="1052640"/>
            <a:ext cx="6945480" cy="5208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1T14:59:33Z</dcterms:created>
  <dc:creator>Марина</dc:creator>
  <dc:description>http://propowerpoint.ru - Áåñïëàòíûå øàáëîíû äëÿ ïðåçåíòàöèé. Ïîëåçíûå ñîâåòû è óðîêè  
PowerPoint .</dc:description>
  <dc:language>en-US</dc:language>
  <cp:lastModifiedBy>Марина</cp:lastModifiedBy>
  <dcterms:modified xsi:type="dcterms:W3CDTF">2018-03-15T15:24:17Z</dcterms:modified>
  <cp:revision>11</cp:revision>
  <dc:subject/>
  <dc:title>ThemeGallery  PowerTemplat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e1c0000000000010243100207f6000400038000</vt:lpwstr>
  </property>
</Properties>
</file>