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29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45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32.png" ContentType="image/png"/>
  <Override PartName="/ppt/media/image34.png" ContentType="image/png"/>
  <Override PartName="/ppt/media/image40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1.png" ContentType="image/png"/>
  <Override PartName="/ppt/media/image18.png" ContentType="image/png"/>
  <Override PartName="/ppt/media/image6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5.png" ContentType="image/png"/>
  <Override PartName="/ppt/media/image3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38C1-4D82-4456-8E79-316E8254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7FB2-269A-4591-A89A-C04EB7EA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12F9-D2C0-477D-8615-ED5FA098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0402-C0CA-43D8-BD98-7D1E9FD2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723E-26F8-4EAF-AB3D-474C6F9D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F966-7425-4CA2-99C7-19AF9E06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C10C-DF9A-410C-98D7-2312A0BF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E809-B8D8-41D9-A835-4D6AC4D2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BAB6-9A13-4909-9528-07D407CB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6E51-2293-4BD0-8013-91EC7AED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D71F-63B8-4663-B3CC-7F1B0D61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3DF4-6A38-4FBC-AF4B-4DAC032E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7C4C-FF93-4554-9F88-B39FD650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1AFE-7FE2-4222-9C0D-1826E122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3DB8-819D-4D04-A2B2-76541A37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622B-4525-4F00-9676-028FA699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1CF2-DA72-4A96-BF55-FAA4E161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326B6-B358-4698-A70C-0C7BD910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3440E-0680-48F5-BF05-E0484A00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34FB7-A963-4DF1-B5D1-1B423D7C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8F339-79D6-472F-B1E2-B3370046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18CCA-8E89-4AFF-A7E0-063606C1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DFD2-E7FA-4C99-919D-43A37E5F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BD6BD-E544-4415-9A30-B794E1B6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C67F8-514D-4E3A-A52F-7AC302C6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78FC7-69EA-48F3-A7DE-3A0A61D7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D162B-588F-418E-9253-A232B267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357E8-6C63-42E7-A121-FDE8EAF6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4ADAA-4131-4F50-B1D8-F896C244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EAA26-9E56-4F11-9E70-D33D9F13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3F1C-AED4-46AE-A9A2-BAD5C4DF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5D86-FE42-483B-B10D-98D292C7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DD69-6192-4786-A714-73974B71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C677-F27B-402D-859E-D099F88B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E301-7C38-4647-BA06-F215A4BF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8E8B-7F2B-4ACB-B355-1BDF07BA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D19A-5ED3-42B5-96CC-9A8B06C72B9A}" type="slidenum">
              <a:rPr b="0" lang="ru-RU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0F79-4FA3-4FE2-9408-B971F3D7BF1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DC22-AD01-43AD-AE2A-50620C79EC44}" type="slidenum">
              <a:rPr b="0" lang="ru-RU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image" Target="../media/image27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image" Target="../media/image27.png"/><Relationship Id="rId5" Type="http://schemas.openxmlformats.org/officeDocument/2006/relationships/image" Target="../media/image16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0.jpeg"/><Relationship Id="rId7" Type="http://schemas.openxmlformats.org/officeDocument/2006/relationships/image" Target="../media/image40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image" Target="../media/image27.png"/><Relationship Id="rId5" Type="http://schemas.openxmlformats.org/officeDocument/2006/relationships/image" Target="../media/image16.png"/><Relationship Id="rId6" Type="http://schemas.openxmlformats.org/officeDocument/2006/relationships/image" Target="../media/image28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5" descr=""/>
          <p:cNvPicPr/>
          <p:nvPr/>
        </p:nvPicPr>
        <p:blipFill>
          <a:blip r:embed="rId2"/>
          <a:stretch/>
        </p:blipFill>
        <p:spPr>
          <a:xfrm>
            <a:off x="1682640" y="755640"/>
            <a:ext cx="5199120" cy="19321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2"/>
          <p:cNvSpPr/>
          <p:nvPr/>
        </p:nvSpPr>
        <p:spPr>
          <a:xfrm>
            <a:off x="2214720" y="5286240"/>
            <a:ext cx="435744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дготовила учитель начальных классов ВКК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Красноборская средняя школа»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ангельской област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исимова Валентина Павловн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http://images.myshared.ru/5/472024/slide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Прямоугольник 2" descr=""/>
          <p:cNvPicPr/>
          <p:nvPr/>
        </p:nvPicPr>
        <p:blipFill>
          <a:blip r:embed="rId2"/>
          <a:stretch/>
        </p:blipFill>
        <p:spPr>
          <a:xfrm>
            <a:off x="792000" y="6181560"/>
            <a:ext cx="1738440" cy="451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милая улыбка"/>
          <p:cNvPicPr/>
          <p:nvPr/>
        </p:nvPicPr>
        <p:blipFill>
          <a:blip r:embed="rId3"/>
          <a:srcRect l="15000" t="2501" r="14688" b="2501"/>
          <a:stretch/>
        </p:blipFill>
        <p:spPr>
          <a:xfrm>
            <a:off x="2643120" y="6143760"/>
            <a:ext cx="428760" cy="43488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5" descr=""/>
          <p:cNvPicPr/>
          <p:nvPr/>
        </p:nvPicPr>
        <p:blipFill>
          <a:blip r:embed="rId4"/>
          <a:stretch/>
        </p:blipFill>
        <p:spPr>
          <a:xfrm>
            <a:off x="6943680" y="5321160"/>
            <a:ext cx="176220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59259E-006 C 0.00868 0.00069 0.01736 0.00046 0.02587 0.00231 C 0.02795 0.00278 0.02899 0.00579 0.0309 0.00694 C 0.0342 0.00903 0.04132 0.01157 0.04132 0.01157 C 0.06285 0.00949 0.06528 0.01667 0.07066 -0.00463 C 0.08264 -0.00278 0.09305 0.00023 0.10503 0.00231 C 0.12691 0.00162 0.14878 0.00208 0.17066 -2.59259E-006 C 0.17847 -0.0007 0.18455 -0.01019 0.19132 -0.01134 C 0.20156 -0.0132 0.21198 -0.01296 0.22239 -0.01366 C 0.22673 -0.01551 0.22917 -0.01597 0.23264 -0.0206 C 0.23403 -0.02269 0.23455 -0.0257 0.23611 -0.02755 C 0.2375 -0.02917 0.23976 -0.0287 0.24132 -0.02986 C 0.2467 -0.0338 0.25156 -0.03889 0.25677 -0.04352 C 0.26198 -0.04815 0.26719 -0.05278 0.27239 -0.05741 C 0.27413 -0.05903 0.2776 -0.06204 0.2776 -0.06204 C 0.28298 -0.07315 0.28802 -0.07755 0.29653 -0.08495 C 0.32691 -0.11158 0.31354 -0.10093 0.37066 -0.10347 C 0.37361 -0.10417 0.38246 -0.10533 0.38611 -0.1081 C 0.40399 -0.12107 0.38993 -0.11412 0.40173 -0.11945 C 0.40521 -0.12245 0.40972 -0.12408 0.41198 -0.1287 C 0.41736 -0.13935 0.42153 -0.15417 0.4309 -0.15857 C 0.43281 -0.1662 0.43455 -0.16551 0.4309 -0.16551 E">
                                      <p:cBhvr>
                                        <p:cTn id="85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Прямоугольник 1" descr=""/>
          <p:cNvPicPr/>
          <p:nvPr/>
        </p:nvPicPr>
        <p:blipFill>
          <a:blip r:embed="rId1"/>
          <a:stretch/>
        </p:blipFill>
        <p:spPr>
          <a:xfrm>
            <a:off x="1957320" y="1268280"/>
            <a:ext cx="4005360" cy="2389320"/>
          </a:xfrm>
          <a:prstGeom prst="rect">
            <a:avLst/>
          </a:prstGeom>
          <a:ln w="0">
            <a:noFill/>
          </a:ln>
        </p:spPr>
      </p:pic>
      <p:pic>
        <p:nvPicPr>
          <p:cNvPr id="158" name="Прямоугольник 5" descr=""/>
          <p:cNvPicPr/>
          <p:nvPr/>
        </p:nvPicPr>
        <p:blipFill>
          <a:blip r:embed="rId2"/>
          <a:stretch/>
        </p:blipFill>
        <p:spPr>
          <a:xfrm>
            <a:off x="1957320" y="3833640"/>
            <a:ext cx="4005360" cy="23911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9"/>
          <p:cNvSpPr/>
          <p:nvPr/>
        </p:nvSpPr>
        <p:spPr>
          <a:xfrm>
            <a:off x="1071720" y="285840"/>
            <a:ext cx="75009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связаны слагаемые и сумма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ие правила нам помогают в решении примеров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Прямоугольник 3" descr=""/>
          <p:cNvPicPr/>
          <p:nvPr/>
        </p:nvPicPr>
        <p:blipFill>
          <a:blip r:embed="rId2"/>
          <a:stretch/>
        </p:blipFill>
        <p:spPr>
          <a:xfrm>
            <a:off x="5894280" y="1511280"/>
            <a:ext cx="3225960" cy="866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G:\тетрадь по матем. 2\24.jpg"/>
          <p:cNvPicPr/>
          <p:nvPr/>
        </p:nvPicPr>
        <p:blipFill>
          <a:blip r:embed="rId1"/>
          <a:stretch/>
        </p:blipFill>
        <p:spPr>
          <a:xfrm>
            <a:off x="2416320" y="227160"/>
            <a:ext cx="4498920" cy="630684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826920" y="2276640"/>
            <a:ext cx="5400720" cy="3506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дорожке, по дорожке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чем мы на правой ножке.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по этой же дорожке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чем мы на левой ножке.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скакали до лужайки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попрыгали как зайки.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ы все дружно отдохнём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опять считать пойдём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3" name="Прямоугольник 2" descr=""/>
          <p:cNvPicPr/>
          <p:nvPr/>
        </p:nvPicPr>
        <p:blipFill>
          <a:blip r:embed="rId1"/>
          <a:stretch/>
        </p:blipFill>
        <p:spPr>
          <a:xfrm>
            <a:off x="1085760" y="60480"/>
            <a:ext cx="6467400" cy="1152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D:\клипарты\Дети\0_877ed_59781a82_S.png"/>
          <p:cNvPicPr/>
          <p:nvPr/>
        </p:nvPicPr>
        <p:blipFill>
          <a:blip r:embed="rId2"/>
          <a:stretch/>
        </p:blipFill>
        <p:spPr>
          <a:xfrm>
            <a:off x="6948360" y="3645000"/>
            <a:ext cx="1886040" cy="2717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ttp://images.myshared.ru/5/472024/slide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Прямоугольник 2" descr=""/>
          <p:cNvPicPr/>
          <p:nvPr/>
        </p:nvPicPr>
        <p:blipFill>
          <a:blip r:embed="rId2"/>
          <a:stretch/>
        </p:blipFill>
        <p:spPr>
          <a:xfrm>
            <a:off x="792000" y="6181560"/>
            <a:ext cx="1738440" cy="451080"/>
          </a:xfrm>
          <a:prstGeom prst="rect">
            <a:avLst/>
          </a:prstGeom>
          <a:ln w="0">
            <a:noFill/>
          </a:ln>
        </p:spPr>
      </p:pic>
      <p:pic>
        <p:nvPicPr>
          <p:cNvPr id="167" name="Прямоугольник 5" descr=""/>
          <p:cNvPicPr/>
          <p:nvPr/>
        </p:nvPicPr>
        <p:blipFill>
          <a:blip r:embed="rId3"/>
          <a:stretch/>
        </p:blipFill>
        <p:spPr>
          <a:xfrm>
            <a:off x="6943680" y="5321160"/>
            <a:ext cx="1762200" cy="457200"/>
          </a:xfrm>
          <a:prstGeom prst="rect">
            <a:avLst/>
          </a:prstGeom>
          <a:ln w="0">
            <a:noFill/>
          </a:ln>
        </p:spPr>
      </p:pic>
      <p:pic>
        <p:nvPicPr>
          <p:cNvPr id="168" name="Прямоугольник 6" descr=""/>
          <p:cNvPicPr/>
          <p:nvPr/>
        </p:nvPicPr>
        <p:blipFill>
          <a:blip r:embed="rId4"/>
          <a:stretch/>
        </p:blipFill>
        <p:spPr>
          <a:xfrm>
            <a:off x="2084400" y="3968640"/>
            <a:ext cx="2189160" cy="451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милая улыбка"/>
          <p:cNvPicPr/>
          <p:nvPr/>
        </p:nvPicPr>
        <p:blipFill>
          <a:blip r:embed="rId5"/>
          <a:srcRect l="15000" t="2501" r="14688" b="2501"/>
          <a:stretch/>
        </p:blipFill>
        <p:spPr>
          <a:xfrm>
            <a:off x="6572160" y="4929120"/>
            <a:ext cx="428760" cy="434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32 -0.03541 C -0.02275 -0.06088 -0.03663 -0.06574 -0.05434 -0.07222 C -0.06719 -0.07685 -0.079 -0.0831 -0.09219 -0.08611 C -0.09393 -0.08773 -0.09601 -0.08865 -0.0974 -0.09074 C -0.09861 -0.09259 -0.09757 -0.09629 -0.09913 -0.09768 C -0.10209 -0.10046 -0.10938 -0.10208 -0.10938 -0.10208 C -0.1165 -0.10833 -0.12379 -0.10995 -0.13177 -0.11365 C -0.13403 -0.11828 -0.13646 -0.12291 -0.13872 -0.12754 C -0.14306 -0.13634 -0.14167 -0.14745 -0.1474 -0.15509 C -0.15052 -0.15926 -0.15417 -0.16296 -0.15764 -0.16666 C -0.16597 -0.17592 -0.15938 -0.1669 -0.16806 -0.17338 C -0.1717 -0.17615 -0.17847 -0.18264 -0.17847 -0.18264 C -0.18247 -0.19097 -0.19045 -0.20139 -0.1974 -0.20555 C -0.2007 -0.20764 -0.20764 -0.21018 -0.20764 -0.21018 C -0.21684 -0.20949 -0.22622 -0.20972 -0.23525 -0.20787 C -0.24445 -0.20602 -0.23768 -0.20254 -0.24219 -0.19652 C -0.24358 -0.1949 -0.24584 -0.19537 -0.2474 -0.19421 C -0.24931 -0.19305 -0.2507 -0.19074 -0.25261 -0.18958 C -0.25781 -0.18657 -0.26285 -0.18333 -0.26806 -0.18032 C -0.279 -0.17384 -0.27847 -0.18078 -0.27847 -0.17338 E">
                                      <p:cBhvr>
                                        <p:cTn id="91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https://fhd.multiurok.ru/c/3/0/c309ca93e1dfeda59b64a43b4b1c62287732e93f/img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1"/>
          <p:cNvSpPr/>
          <p:nvPr/>
        </p:nvSpPr>
        <p:spPr>
          <a:xfrm>
            <a:off x="357120" y="307188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4.На столе лежит 7 книг, а тетрадей на 3 больше. Сколько тетрадей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357120" y="142920"/>
            <a:ext cx="807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1.На ветке было 7 синиц. 3 синицы улетели. Сколько осталось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357120" y="107172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2.У Артёма 7 тетрадей в клетку и 3 тетради в полоску. Сколько всего тетрадей у мальчика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357120" y="200016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3.В классе 7 мальчиков, а девочек на 3 меньше. Сколько девочек в классе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Прямоугольник 5"/>
          <p:cNvSpPr/>
          <p:nvPr/>
        </p:nvSpPr>
        <p:spPr>
          <a:xfrm>
            <a:off x="357120" y="407196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5.В магазине на полке стоят 7 машинок и куклы. Сколько всего игрушек на полке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Прямоугольник 6"/>
          <p:cNvSpPr/>
          <p:nvPr/>
        </p:nvSpPr>
        <p:spPr>
          <a:xfrm>
            <a:off x="357120" y="507204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6.На одном подносе 7 стаканов, а на другом подносе 3 стакана. На сколько больше стаканов на первом подносе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trips dir="r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ttp://images.myshared.ru/5/472024/slide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Прямоугольник 2" descr=""/>
          <p:cNvPicPr/>
          <p:nvPr/>
        </p:nvPicPr>
        <p:blipFill>
          <a:blip r:embed="rId2"/>
          <a:stretch/>
        </p:blipFill>
        <p:spPr>
          <a:xfrm>
            <a:off x="792000" y="6181560"/>
            <a:ext cx="1738440" cy="451080"/>
          </a:xfrm>
          <a:prstGeom prst="rect">
            <a:avLst/>
          </a:prstGeom>
          <a:ln w="0">
            <a:noFill/>
          </a:ln>
        </p:spPr>
      </p:pic>
      <p:pic>
        <p:nvPicPr>
          <p:cNvPr id="179" name="Прямоугольник 5" descr=""/>
          <p:cNvPicPr/>
          <p:nvPr/>
        </p:nvPicPr>
        <p:blipFill>
          <a:blip r:embed="rId3"/>
          <a:stretch/>
        </p:blipFill>
        <p:spPr>
          <a:xfrm>
            <a:off x="6943680" y="5321160"/>
            <a:ext cx="1762200" cy="457200"/>
          </a:xfrm>
          <a:prstGeom prst="rect">
            <a:avLst/>
          </a:prstGeom>
          <a:ln w="0">
            <a:noFill/>
          </a:ln>
        </p:spPr>
      </p:pic>
      <p:pic>
        <p:nvPicPr>
          <p:cNvPr id="180" name="Прямоугольник 6" descr=""/>
          <p:cNvPicPr/>
          <p:nvPr/>
        </p:nvPicPr>
        <p:blipFill>
          <a:blip r:embed="rId4"/>
          <a:stretch/>
        </p:blipFill>
        <p:spPr>
          <a:xfrm>
            <a:off x="2084400" y="3968640"/>
            <a:ext cx="2189160" cy="451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милая улыбка"/>
          <p:cNvPicPr/>
          <p:nvPr/>
        </p:nvPicPr>
        <p:blipFill>
          <a:blip r:embed="rId5"/>
          <a:srcRect l="15000" t="2501" r="14688" b="2501"/>
          <a:stretch/>
        </p:blipFill>
        <p:spPr>
          <a:xfrm>
            <a:off x="4214880" y="3571920"/>
            <a:ext cx="428400" cy="434880"/>
          </a:xfrm>
          <a:prstGeom prst="rect">
            <a:avLst/>
          </a:prstGeom>
          <a:ln w="0">
            <a:noFill/>
          </a:ln>
        </p:spPr>
      </p:pic>
      <p:pic>
        <p:nvPicPr>
          <p:cNvPr id="182" name="Прямоугольник 8" descr=""/>
          <p:cNvPicPr/>
          <p:nvPr/>
        </p:nvPicPr>
        <p:blipFill>
          <a:blip r:embed="rId6"/>
          <a:stretch/>
        </p:blipFill>
        <p:spPr>
          <a:xfrm>
            <a:off x="6076800" y="3108240"/>
            <a:ext cx="1451160" cy="452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12 0.00855 C 0.04288 0.0037 0.03803 0.00555 0.04705 0.00277 C 0.04931 -0.00024 0.05261 -0.00209 0.05452 -0.00532 C 0.05643 -0.00856 0.05643 -0.01319 0.05747 -0.01712 C 0.05539 -0.02498 0.05452 -0.02845 0.04844 -0.03123 C 0.04653 -0.03886 0.04688 -0.04788 0.04393 -0.05505 C 0.0408 -0.06245 0.03698 -0.0717 0.03351 -0.07887 C 0.03091 -0.09043 0.02952 -0.105 0.03803 -0.11263 C 0.04218 -0.11633 0.05139 -0.11587 0.05139 -0.12466 E">
                                      <p:cBhvr>
                                        <p:cTn id="124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Users\Helen\Desktop\схемы\схемы\Рисунок1.jpg"/>
          <p:cNvPicPr/>
          <p:nvPr/>
        </p:nvPicPr>
        <p:blipFill>
          <a:blip r:embed="rId1"/>
          <a:srcRect l="0" t="0" r="0" b="8327"/>
          <a:stretch/>
        </p:blipFill>
        <p:spPr>
          <a:xfrm>
            <a:off x="1500120" y="5143680"/>
            <a:ext cx="4510080" cy="1395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https://i.pinimg.com/originals/b5/be/65/b5be657e365286d1312a558ca7badea9.jpg"/>
          <p:cNvPicPr/>
          <p:nvPr/>
        </p:nvPicPr>
        <p:blipFill>
          <a:blip r:embed="rId2"/>
          <a:srcRect l="48079" t="12483" r="959" b="0"/>
          <a:stretch/>
        </p:blipFill>
        <p:spPr>
          <a:xfrm>
            <a:off x="6286680" y="1857240"/>
            <a:ext cx="2143080" cy="3573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https://avatars.mds.yandex.net/i?id=8c34cc2ee43b4753e03da2aa50fe4c76d92138ac-7551603-images-thumbs&amp;n=13"/>
          <p:cNvPicPr/>
          <p:nvPr/>
        </p:nvPicPr>
        <p:blipFill>
          <a:blip r:embed="rId3"/>
          <a:stretch/>
        </p:blipFill>
        <p:spPr>
          <a:xfrm>
            <a:off x="428760" y="3076560"/>
            <a:ext cx="3643200" cy="170028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7" descr=""/>
          <p:cNvPicPr/>
          <p:nvPr/>
        </p:nvPicPr>
        <p:blipFill>
          <a:blip r:embed="rId4"/>
          <a:stretch/>
        </p:blipFill>
        <p:spPr>
          <a:xfrm>
            <a:off x="353880" y="1798560"/>
            <a:ext cx="2157480" cy="1279440"/>
          </a:xfrm>
          <a:prstGeom prst="rect">
            <a:avLst/>
          </a:prstGeom>
          <a:ln w="0">
            <a:noFill/>
          </a:ln>
        </p:spPr>
      </p:pic>
      <p:pic>
        <p:nvPicPr>
          <p:cNvPr id="187" name="Прямоугольник 4" descr=""/>
          <p:cNvPicPr/>
          <p:nvPr/>
        </p:nvPicPr>
        <p:blipFill>
          <a:blip r:embed="rId5"/>
          <a:stretch/>
        </p:blipFill>
        <p:spPr>
          <a:xfrm>
            <a:off x="4303800" y="1579680"/>
            <a:ext cx="1792080" cy="1560240"/>
          </a:xfrm>
          <a:prstGeom prst="rect">
            <a:avLst/>
          </a:prstGeom>
          <a:ln w="0">
            <a:noFill/>
          </a:ln>
        </p:spPr>
      </p:pic>
      <p:pic>
        <p:nvPicPr>
          <p:cNvPr id="188" name="Прямоугольник 8" descr=""/>
          <p:cNvPicPr/>
          <p:nvPr/>
        </p:nvPicPr>
        <p:blipFill>
          <a:blip r:embed="rId6"/>
          <a:stretch/>
        </p:blipFill>
        <p:spPr>
          <a:xfrm>
            <a:off x="2414520" y="1785960"/>
            <a:ext cx="1803600" cy="1298520"/>
          </a:xfrm>
          <a:prstGeom prst="rect">
            <a:avLst/>
          </a:prstGeom>
          <a:ln w="0">
            <a:noFill/>
          </a:ln>
        </p:spPr>
      </p:pic>
      <p:sp>
        <p:nvSpPr>
          <p:cNvPr id="189" name="TextBox 13"/>
          <p:cNvSpPr/>
          <p:nvPr/>
        </p:nvSpPr>
        <p:spPr>
          <a:xfrm>
            <a:off x="864000" y="1285920"/>
            <a:ext cx="103248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ин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TextBox 14"/>
          <p:cNvSpPr/>
          <p:nvPr/>
        </p:nvSpPr>
        <p:spPr>
          <a:xfrm>
            <a:off x="4575600" y="1285920"/>
            <a:ext cx="126108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Ёмкость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TextBox 15"/>
          <p:cNvSpPr/>
          <p:nvPr/>
        </p:nvSpPr>
        <p:spPr>
          <a:xfrm>
            <a:off x="2789640" y="1285920"/>
            <a:ext cx="10051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сс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92" name="Прямоугольник 12" descr=""/>
          <p:cNvPicPr/>
          <p:nvPr/>
        </p:nvPicPr>
        <p:blipFill>
          <a:blip r:embed="rId7"/>
          <a:stretch/>
        </p:blipFill>
        <p:spPr>
          <a:xfrm>
            <a:off x="2968560" y="60480"/>
            <a:ext cx="3541680" cy="1012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82 0.03747 L -0.02882 0.23682 E">
                                      <p:cBhvr>
                                        <p:cTn id="130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40518E-006 L 0.10712 0.11309 E">
                                      <p:cBhvr>
                                        <p:cTn id="132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14524E-007 L 0.04549 0.48844 E">
                                      <p:cBhvr>
                                        <p:cTn id="136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40518E-006 L -0.09895 0.39639 E">
                                      <p:cBhvr>
                                        <p:cTn id="13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14524E-007 L 0.24566 0.04787 E">
                                      <p:cBhvr>
                                        <p:cTn id="142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4 0.03654 L 0.23802 0.26735 E">
                                      <p:cBhvr>
                                        <p:cTn id="144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Прямоугольник 1" descr=""/>
          <p:cNvPicPr/>
          <p:nvPr/>
        </p:nvPicPr>
        <p:blipFill>
          <a:blip r:embed="rId2"/>
          <a:stretch/>
        </p:blipFill>
        <p:spPr>
          <a:xfrm>
            <a:off x="3462480" y="1871640"/>
            <a:ext cx="227952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3" descr=""/>
          <p:cNvPicPr/>
          <p:nvPr/>
        </p:nvPicPr>
        <p:blipFill>
          <a:blip r:embed="rId3"/>
          <a:stretch/>
        </p:blipFill>
        <p:spPr>
          <a:xfrm>
            <a:off x="1195560" y="4468680"/>
            <a:ext cx="7180200" cy="2292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ttps://fs.znanio.ru/methodology/images/fc/e7/fce7d2c38d7977b531f33c0f105585cb5f7b8a91.jpg"/>
          <p:cNvPicPr/>
          <p:nvPr/>
        </p:nvPicPr>
        <p:blipFill>
          <a:blip r:embed="rId1"/>
          <a:stretch/>
        </p:blipFill>
        <p:spPr>
          <a:xfrm>
            <a:off x="500040" y="285840"/>
            <a:ext cx="8096400" cy="6072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500040" y="223920"/>
            <a:ext cx="842976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 Групп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е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узнайте длину ленточки для поделки, запишите результат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ина ленточк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_______________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Rectangle 1"/>
          <p:cNvSpPr/>
          <p:nvPr/>
        </p:nvSpPr>
        <p:spPr>
          <a:xfrm>
            <a:off x="500040" y="3009600"/>
            <a:ext cx="8429760" cy="204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 Групп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е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узнайте, сколько килограммов весят Егор и Савелий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полните таблицу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000160" y="5143680"/>
          <a:ext cx="6077160" cy="1471320"/>
        </p:xfrm>
        <a:graphic>
          <a:graphicData uri="http://schemas.openxmlformats.org/drawingml/2006/table">
            <a:tbl>
              <a:tblPr/>
              <a:tblGrid>
                <a:gridCol w="3038400"/>
                <a:gridCol w="3038760"/>
              </a:tblGrid>
              <a:tr h="490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с уче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г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вел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500040" y="294840"/>
            <a:ext cx="8429760" cy="204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 Групп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е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ме нужно сварить 2 л компота.  Хватит ли данной кастрюли для компота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: ________________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357120" y="2732400"/>
            <a:ext cx="8501040" cy="3750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4 Групп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узнайте, хватит ли денег, чтобы купить тетрадь и ручку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: __________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99" name="Picture 19" descr="http://rpk-chudesa.ru/image/data/l2941.40_7_tiff_1000x1000.jpg"/>
          <p:cNvPicPr/>
          <p:nvPr/>
        </p:nvPicPr>
        <p:blipFill>
          <a:blip r:embed="rId1"/>
          <a:stretch/>
        </p:blipFill>
        <p:spPr>
          <a:xfrm>
            <a:off x="7786800" y="5429160"/>
            <a:ext cx="857160" cy="8575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7715160" y="4929120"/>
            <a:ext cx="1000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0 руб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01" name="Рисунок 1" descr="https://avatars.mds.yandex.net/get-marketpic/165430/market_SnD0VH4kVIFyukaUi_mlnQ/orig"/>
          <p:cNvPicPr/>
          <p:nvPr/>
        </p:nvPicPr>
        <p:blipFill>
          <a:blip r:embed="rId2"/>
          <a:srcRect l="9874" t="0" r="9204" b="0"/>
          <a:stretch/>
        </p:blipFill>
        <p:spPr>
          <a:xfrm>
            <a:off x="5929200" y="4857840"/>
            <a:ext cx="1214640" cy="1496880"/>
          </a:xfrm>
          <a:prstGeom prst="rect">
            <a:avLst/>
          </a:prstGeom>
          <a:ln w="0">
            <a:noFill/>
          </a:ln>
        </p:spPr>
      </p:pic>
      <p:sp>
        <p:nvSpPr>
          <p:cNvPr id="202" name="TextBox 6"/>
          <p:cNvSpPr/>
          <p:nvPr/>
        </p:nvSpPr>
        <p:spPr>
          <a:xfrm>
            <a:off x="6000840" y="4429080"/>
            <a:ext cx="1000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0 руб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03" name="Picture 4" descr="https://avatars.mds.yandex.net/i?id=9f67972ee55696dcaeb1af2ee48d0e67_l-5245037-images-thumbs&amp;n=13"/>
          <p:cNvPicPr/>
          <p:nvPr/>
        </p:nvPicPr>
        <p:blipFill>
          <a:blip r:embed="rId3"/>
          <a:stretch/>
        </p:blipFill>
        <p:spPr>
          <a:xfrm>
            <a:off x="428760" y="485784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https://avatars.mds.yandex.net/i?id=9f67972ee55696dcaeb1af2ee48d0e67_l-5245037-images-thumbs&amp;n=13"/>
          <p:cNvPicPr/>
          <p:nvPr/>
        </p:nvPicPr>
        <p:blipFill>
          <a:blip r:embed="rId4"/>
          <a:stretch/>
        </p:blipFill>
        <p:spPr>
          <a:xfrm>
            <a:off x="428760" y="5643720"/>
            <a:ext cx="785520" cy="785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https://avatars.mds.yandex.net/i?id=8749e716b4a19a0e880ae8be82915f8951fc58da-8184763-images-thumbs&amp;n=13"/>
          <p:cNvPicPr/>
          <p:nvPr/>
        </p:nvPicPr>
        <p:blipFill>
          <a:blip r:embed="rId5"/>
          <a:stretch/>
        </p:blipFill>
        <p:spPr>
          <a:xfrm>
            <a:off x="1357200" y="48578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https://avatars.mds.yandex.net/i?id=8749e716b4a19a0e880ae8be82915f8951fc58da-8184763-images-thumbs&amp;n=13"/>
          <p:cNvPicPr/>
          <p:nvPr/>
        </p:nvPicPr>
        <p:blipFill>
          <a:blip r:embed="rId6"/>
          <a:stretch/>
        </p:blipFill>
        <p:spPr>
          <a:xfrm>
            <a:off x="1428840" y="564372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https://avatars.mds.yandex.net/i?id=8749e716b4a19a0e880ae8be82915f8951fc58da-8184763-images-thumbs&amp;n=13"/>
          <p:cNvPicPr/>
          <p:nvPr/>
        </p:nvPicPr>
        <p:blipFill>
          <a:blip r:embed="rId7"/>
          <a:stretch/>
        </p:blipFill>
        <p:spPr>
          <a:xfrm>
            <a:off x="2357280" y="564372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https://avatars.mds.yandex.net/i?id=8749e716b4a19a0e880ae8be82915f8951fc58da-8184763-images-thumbs&amp;n=13"/>
          <p:cNvPicPr/>
          <p:nvPr/>
        </p:nvPicPr>
        <p:blipFill>
          <a:blip r:embed="rId8"/>
          <a:stretch/>
        </p:blipFill>
        <p:spPr>
          <a:xfrm>
            <a:off x="2286000" y="48578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https://anytos.ru/upload/iblock/42e/42ec81e56416719e51f74b407860649f/0eb2211425a981104706e208da79dee5.jpg"/>
          <p:cNvPicPr/>
          <p:nvPr/>
        </p:nvPicPr>
        <p:blipFill>
          <a:blip r:embed="rId9"/>
          <a:stretch/>
        </p:blipFill>
        <p:spPr>
          <a:xfrm>
            <a:off x="3214800" y="485784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Прямоугольник 5" descr=""/>
          <p:cNvPicPr/>
          <p:nvPr/>
        </p:nvPicPr>
        <p:blipFill>
          <a:blip r:embed="rId2"/>
          <a:stretch/>
        </p:blipFill>
        <p:spPr>
          <a:xfrm>
            <a:off x="3693960" y="1889280"/>
            <a:ext cx="1852920" cy="1330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images.myshared.ru/5/472024/slide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2" descr=""/>
          <p:cNvPicPr/>
          <p:nvPr/>
        </p:nvPicPr>
        <p:blipFill>
          <a:blip r:embed="rId2"/>
          <a:stretch/>
        </p:blipFill>
        <p:spPr>
          <a:xfrm>
            <a:off x="792000" y="6181560"/>
            <a:ext cx="1738440" cy="45108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5" descr=""/>
          <p:cNvPicPr/>
          <p:nvPr/>
        </p:nvPicPr>
        <p:blipFill>
          <a:blip r:embed="rId3"/>
          <a:stretch/>
        </p:blipFill>
        <p:spPr>
          <a:xfrm>
            <a:off x="6943680" y="5321160"/>
            <a:ext cx="1762200" cy="457200"/>
          </a:xfrm>
          <a:prstGeom prst="rect">
            <a:avLst/>
          </a:prstGeom>
          <a:ln w="0">
            <a:noFill/>
          </a:ln>
        </p:spPr>
      </p:pic>
      <p:pic>
        <p:nvPicPr>
          <p:cNvPr id="214" name="Прямоугольник 6" descr=""/>
          <p:cNvPicPr/>
          <p:nvPr/>
        </p:nvPicPr>
        <p:blipFill>
          <a:blip r:embed="rId4"/>
          <a:stretch/>
        </p:blipFill>
        <p:spPr>
          <a:xfrm>
            <a:off x="2084400" y="3968640"/>
            <a:ext cx="2189160" cy="451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милая улыбка"/>
          <p:cNvPicPr/>
          <p:nvPr/>
        </p:nvPicPr>
        <p:blipFill>
          <a:blip r:embed="rId5"/>
          <a:srcRect l="15000" t="2501" r="14688" b="2501"/>
          <a:stretch/>
        </p:blipFill>
        <p:spPr>
          <a:xfrm>
            <a:off x="4572000" y="2928960"/>
            <a:ext cx="428760" cy="43488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8" descr=""/>
          <p:cNvPicPr/>
          <p:nvPr/>
        </p:nvPicPr>
        <p:blipFill>
          <a:blip r:embed="rId6"/>
          <a:stretch/>
        </p:blipFill>
        <p:spPr>
          <a:xfrm>
            <a:off x="6076800" y="3108240"/>
            <a:ext cx="1451160" cy="45252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9" descr=""/>
          <p:cNvPicPr/>
          <p:nvPr/>
        </p:nvPicPr>
        <p:blipFill>
          <a:blip r:embed="rId7"/>
          <a:stretch/>
        </p:blipFill>
        <p:spPr>
          <a:xfrm>
            <a:off x="2498760" y="1060560"/>
            <a:ext cx="3809880" cy="682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Овал 3"/>
          <p:cNvSpPr/>
          <p:nvPr/>
        </p:nvSpPr>
        <p:spPr>
          <a:xfrm>
            <a:off x="214200" y="2071800"/>
            <a:ext cx="1285920" cy="11998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Овал 4"/>
          <p:cNvSpPr/>
          <p:nvPr/>
        </p:nvSpPr>
        <p:spPr>
          <a:xfrm>
            <a:off x="214200" y="3786120"/>
            <a:ext cx="1285920" cy="12002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Овал 5"/>
          <p:cNvSpPr/>
          <p:nvPr/>
        </p:nvSpPr>
        <p:spPr>
          <a:xfrm>
            <a:off x="285840" y="5429160"/>
            <a:ext cx="1285920" cy="1200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1714680" y="1928880"/>
            <a:ext cx="618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Я молодец, был активным на уроке, у меня все получилось, я все понял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Прямоугольник 3"/>
          <p:cNvSpPr/>
          <p:nvPr/>
        </p:nvSpPr>
        <p:spPr>
          <a:xfrm>
            <a:off x="1643040" y="3786120"/>
            <a:ext cx="6237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Я могу лучше работать на уроке. Были ошибки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1714680" y="5429160"/>
            <a:ext cx="616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Мне было трудно на уроке. Мне нужна помощь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https://fsd.multiurok.ru/html/2020/04/28/s_5ea7c5e3ef937/img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503640" y="214200"/>
            <a:ext cx="2340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кажи ответ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357120" y="857160"/>
            <a:ext cx="835812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меньшаемое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вычитаемое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Найди разность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кажи число, которое на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меньше, чем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йди разность чисел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9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рвое слагаемое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Второе слагаемое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 Найди сумму чисел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Уменьшите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на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. Найди разность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9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7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7. Увеличьте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на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7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8. Какое число стоит перед числом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9. Какое число предшествует числу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0. Какое число стоит между числами 7 и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9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71680" y="4500720"/>
          <a:ext cx="8215200" cy="1828800"/>
        </p:xfrm>
        <a:graphic>
          <a:graphicData uri="http://schemas.openxmlformats.org/drawingml/2006/table">
            <a:tbl>
              <a:tblPr/>
              <a:tblGrid>
                <a:gridCol w="820440"/>
                <a:gridCol w="822600"/>
                <a:gridCol w="820440"/>
                <a:gridCol w="822600"/>
                <a:gridCol w="820440"/>
                <a:gridCol w="822600"/>
                <a:gridCol w="820800"/>
                <a:gridCol w="822240"/>
                <a:gridCol w="820800"/>
                <a:gridCol w="82224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</a:t>
                      </a:r>
                      <a:r>
                        <a:rPr b="1" lang="ru-RU" sz="4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30" name="Прямоугольник 24"/>
          <p:cNvSpPr/>
          <p:nvPr/>
        </p:nvSpPr>
        <p:spPr>
          <a:xfrm>
            <a:off x="785880" y="4643280"/>
            <a:ext cx="42840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Прямоугольник 25"/>
          <p:cNvSpPr/>
          <p:nvPr/>
        </p:nvSpPr>
        <p:spPr>
          <a:xfrm>
            <a:off x="1571760" y="4643280"/>
            <a:ext cx="42840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Прямоугольник 26"/>
          <p:cNvSpPr/>
          <p:nvPr/>
        </p:nvSpPr>
        <p:spPr>
          <a:xfrm>
            <a:off x="2428920" y="4643280"/>
            <a:ext cx="50004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Прямоугольник 27"/>
          <p:cNvSpPr/>
          <p:nvPr/>
        </p:nvSpPr>
        <p:spPr>
          <a:xfrm>
            <a:off x="3214800" y="4643280"/>
            <a:ext cx="50004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Прямоугольник 28"/>
          <p:cNvSpPr/>
          <p:nvPr/>
        </p:nvSpPr>
        <p:spPr>
          <a:xfrm>
            <a:off x="4071960" y="4643280"/>
            <a:ext cx="50004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Прямоугольник 29"/>
          <p:cNvSpPr/>
          <p:nvPr/>
        </p:nvSpPr>
        <p:spPr>
          <a:xfrm>
            <a:off x="4786200" y="4643280"/>
            <a:ext cx="50004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Прямоугольник 30"/>
          <p:cNvSpPr/>
          <p:nvPr/>
        </p:nvSpPr>
        <p:spPr>
          <a:xfrm>
            <a:off x="5643720" y="4643280"/>
            <a:ext cx="57132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Прямоугольник 31"/>
          <p:cNvSpPr/>
          <p:nvPr/>
        </p:nvSpPr>
        <p:spPr>
          <a:xfrm>
            <a:off x="6500880" y="4643280"/>
            <a:ext cx="50004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Прямоугольник 32"/>
          <p:cNvSpPr/>
          <p:nvPr/>
        </p:nvSpPr>
        <p:spPr>
          <a:xfrm>
            <a:off x="7358040" y="4643280"/>
            <a:ext cx="50004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Прямоугольник 33"/>
          <p:cNvSpPr/>
          <p:nvPr/>
        </p:nvSpPr>
        <p:spPr>
          <a:xfrm>
            <a:off x="8072280" y="4643280"/>
            <a:ext cx="50040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Прямоугольник 34"/>
          <p:cNvSpPr/>
          <p:nvPr/>
        </p:nvSpPr>
        <p:spPr>
          <a:xfrm>
            <a:off x="571680" y="5429160"/>
            <a:ext cx="8215200" cy="9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1" name="Прямоугольник 35" descr=""/>
          <p:cNvPicPr/>
          <p:nvPr/>
        </p:nvPicPr>
        <p:blipFill>
          <a:blip r:embed="rId1"/>
          <a:stretch/>
        </p:blipFill>
        <p:spPr>
          <a:xfrm>
            <a:off x="480960" y="5181480"/>
            <a:ext cx="8718480" cy="111600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1" descr=""/>
          <p:cNvPicPr/>
          <p:nvPr/>
        </p:nvPicPr>
        <p:blipFill>
          <a:blip r:embed="rId2"/>
          <a:stretch/>
        </p:blipFill>
        <p:spPr>
          <a:xfrm>
            <a:off x="2962440" y="0"/>
            <a:ext cx="3627360" cy="865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Прямоугольник 3" descr=""/>
          <p:cNvPicPr/>
          <p:nvPr/>
        </p:nvPicPr>
        <p:blipFill>
          <a:blip r:embed="rId2"/>
          <a:stretch/>
        </p:blipFill>
        <p:spPr>
          <a:xfrm>
            <a:off x="1066680" y="1517760"/>
            <a:ext cx="6991560" cy="225576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5" descr=""/>
          <p:cNvPicPr/>
          <p:nvPr/>
        </p:nvPicPr>
        <p:blipFill>
          <a:blip r:embed="rId3"/>
          <a:stretch/>
        </p:blipFill>
        <p:spPr>
          <a:xfrm>
            <a:off x="2610000" y="469800"/>
            <a:ext cx="4187520" cy="1114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Прямоугольник 4" descr=""/>
          <p:cNvPicPr/>
          <p:nvPr/>
        </p:nvPicPr>
        <p:blipFill>
          <a:blip r:embed="rId2"/>
          <a:stretch/>
        </p:blipFill>
        <p:spPr>
          <a:xfrm>
            <a:off x="884160" y="1547640"/>
            <a:ext cx="7766280" cy="376272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3" descr=""/>
          <p:cNvPicPr/>
          <p:nvPr/>
        </p:nvPicPr>
        <p:blipFill>
          <a:blip r:embed="rId3"/>
          <a:stretch/>
        </p:blipFill>
        <p:spPr>
          <a:xfrm>
            <a:off x="2682720" y="469800"/>
            <a:ext cx="4857840" cy="1114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mages.myshared.ru/5/472024/slide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2" descr=""/>
          <p:cNvPicPr/>
          <p:nvPr/>
        </p:nvPicPr>
        <p:blipFill>
          <a:blip r:embed="rId2"/>
          <a:stretch/>
        </p:blipFill>
        <p:spPr>
          <a:xfrm>
            <a:off x="792000" y="6181560"/>
            <a:ext cx="1738440" cy="45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милая улыбка"/>
          <p:cNvPicPr/>
          <p:nvPr/>
        </p:nvPicPr>
        <p:blipFill>
          <a:blip r:embed="rId3"/>
          <a:srcRect l="15000" t="2501" r="14688" b="2501"/>
          <a:stretch/>
        </p:blipFill>
        <p:spPr>
          <a:xfrm>
            <a:off x="2643120" y="6143760"/>
            <a:ext cx="428760" cy="434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ttps://fhd.multiurok.ru/c/3/0/c309ca93e1dfeda59b64a43b4b1c62287732e93f/img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Прямоугольник 1" descr=""/>
          <p:cNvPicPr/>
          <p:nvPr/>
        </p:nvPicPr>
        <p:blipFill>
          <a:blip r:embed="rId1"/>
          <a:stretch/>
        </p:blipFill>
        <p:spPr>
          <a:xfrm>
            <a:off x="1822320" y="19080"/>
            <a:ext cx="604224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3214800" y="1214280"/>
          <a:ext cx="2643120" cy="5446800"/>
        </p:xfrm>
        <a:graphic>
          <a:graphicData uri="http://schemas.openxmlformats.org/drawingml/2006/table">
            <a:tbl>
              <a:tblPr/>
              <a:tblGrid>
                <a:gridCol w="1268280"/>
                <a:gridCol w="1374840"/>
              </a:tblGrid>
              <a:tr h="7718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05:31:16Z</dcterms:created>
  <dc:creator>Your User Name</dc:creator>
  <dc:description/>
  <dc:language>en-US</dc:language>
  <cp:lastModifiedBy>Валентина</cp:lastModifiedBy>
  <dcterms:modified xsi:type="dcterms:W3CDTF">2023-05-29T04:40:16Z</dcterms:modified>
  <cp:revision>33</cp:revision>
  <dc:subject/>
  <dc:title>Презентация PowerPoint</dc:title>
</cp:coreProperties>
</file>