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7.gif" ContentType="image/gif"/>
  <Override PartName="/ppt/media/image10.jpeg" ContentType="image/jpeg"/>
  <Override PartName="/ppt/media/image6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4.gif" ContentType="image/gif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gif" ContentType="image/gi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023-56BA-4073-A677-50F558434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CE29-05CD-4134-9C6C-FCD45FE9B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B2B-A18D-4000-AC75-2FBEA342D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EB6E-690F-4381-BA19-6FDC5317E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F92D-BC7F-4D9A-AE5E-CF8DDCE96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0BB-8EB2-496C-9C8D-256D93D03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447-5765-4F85-AD56-F0F575EF8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D88F-A042-450F-8FF1-A0F3E4A51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800C-EC77-4C31-8C94-7BE3794D6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E589-DF70-4C09-AE3A-B746BD8E6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959-A336-4A33-8721-123F54606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CBBF-2E0E-4BD1-A27F-CBDDAFFC1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E11-1EFB-408F-BDE9-236B5F918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C721-000C-4B68-9B66-41C9003CF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236-13DC-4553-901C-557386FBE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AEB9-10C5-4111-9CE4-50077B603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ACD9-E5EE-4577-BB62-CE1A5BFBE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73BC-D994-4F1A-A09A-BEF998D90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F82-A23A-4CA9-B0DD-9D9B3E4D4E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2BB-1239-444C-B38D-4B9BF70A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ACE-2B30-4F11-A243-E5435445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C5D4-EF1D-412F-80A2-B4E420E7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FBD-316E-49C5-B7E7-EB4FA5A1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B31-25CC-44CF-9CB4-A1317C78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846-8D18-424B-9AF2-B523010E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06F-1340-4C93-B19D-F78DC900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ED8-E117-4A71-AA20-24CD08D7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B5E-2C36-457E-A248-F4E08AF7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967-9129-40EB-B7D3-A6126506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BB7-07A5-44B5-BDB3-7BF583F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21B-C604-488A-9D80-B9EDD14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54DA-DDED-499E-A320-55BE58C7AD4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chnologijos.lt/upload/image/technologijos/archyvas/kitas_kampas/kuryba/k_knygos/zinia_kuria_mums_pranesa_vanduo/101.jpg/f-10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smiles.33b.ru/smile.108105.html" TargetMode="Externa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Ставим условие – долой сквернослов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05320" y="4419360"/>
            <a:ext cx="4495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и прове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андрова Ю.Н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сный руководитель 10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асару Эмо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Картинка 2 из 21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905120"/>
            <a:ext cx="285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1828800" y="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XX веке японский ученый Масару Эмото научно доказал, что вода не только воспринимает информацию, но может меняться под воздействием слова и даже мысли. С помощью новейшего оборудования он смог заморозить и сфотографировать воду под микроскопом. То, что он разглядел на молекулярном уровне, его поразило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6" descr="discovery_masaru_emoto13"/>
          <p:cNvPicPr/>
          <p:nvPr/>
        </p:nvPicPr>
        <p:blipFill>
          <a:blip r:embed="rId1"/>
          <a:stretch/>
        </p:blipFill>
        <p:spPr>
          <a:xfrm>
            <a:off x="838080" y="3200400"/>
            <a:ext cx="3175200" cy="3174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iscovery_masaru_emoto20"/>
          <p:cNvPicPr/>
          <p:nvPr/>
        </p:nvPicPr>
        <p:blipFill>
          <a:blip r:embed="rId2"/>
          <a:stretch/>
        </p:blipFill>
        <p:spPr>
          <a:xfrm>
            <a:off x="4952880" y="304812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28800" y="6858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гмент фильма японского ученого Масаро Эмо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C:\Users\USER\Desktop\Screenshot_1.jpg"/>
          <p:cNvPicPr/>
          <p:nvPr/>
        </p:nvPicPr>
        <p:blipFill>
          <a:blip r:embed="rId1"/>
          <a:stretch/>
        </p:blipFill>
        <p:spPr>
          <a:xfrm>
            <a:off x="1676520" y="2590920"/>
            <a:ext cx="637056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дии ма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ерв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человек впервые слышит нецензурное слово, он испытывает стыд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огда человек впервые употребляет такое скверное слово – за компанию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ретья стадия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человек привыкает к этому слову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1569960" y="5335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мата в наше врем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800360" y="1539720"/>
            <a:ext cx="69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для повышения эмоциональности реч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эмоциональной разряд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оскорбления, унижения адресата реч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демонстрации агресси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) демонстрации отсутствия страх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) демонстрации раскованности, пренебрежительного отношения к системе запрет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) демонстрации принадлежности к "своим"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7" descr="24m5"/>
          <p:cNvPicPr/>
          <p:nvPr/>
        </p:nvPicPr>
        <p:blipFill>
          <a:blip r:embed="rId1"/>
          <a:stretch/>
        </p:blipFill>
        <p:spPr>
          <a:xfrm>
            <a:off x="5715000" y="4952880"/>
            <a:ext cx="248436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Человечек-1"/>
          <p:cNvPicPr/>
          <p:nvPr/>
        </p:nvPicPr>
        <p:blipFill>
          <a:blip r:embed="rId2"/>
          <a:stretch/>
        </p:blipFill>
        <p:spPr>
          <a:xfrm>
            <a:off x="1295280" y="5181480"/>
            <a:ext cx="1009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Как борется с матом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.20,ч.1 «Кодекса РФ об административных правонарушениях» предусматривает следующее наказание за нецензурную брань в общественных местах: штраф в размере от 5 до 15 минимальных размеров оплаты труда или административный арест на срок до 15 сут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тирекла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использует мат, тот умишком не бог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– помоев уш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– дорога в а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уродует девч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 – это ядов концентр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лассе мы найдём управу на словесную отра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Слайд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Слайд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Слайд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2057400" y="387360"/>
            <a:ext cx="640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чь – это показатель ума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Сенека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т музыки слаще, чем ангельские голоса ребятишек, если не особенно вслушиваться в произносимые ими слова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Логан Пирсолл Сми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6" descr="14122957"/>
          <p:cNvPicPr/>
          <p:nvPr/>
        </p:nvPicPr>
        <p:blipFill>
          <a:blip r:embed="rId1"/>
          <a:stretch/>
        </p:blipFill>
        <p:spPr>
          <a:xfrm>
            <a:off x="762120" y="38862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Слайд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Слайд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3048120"/>
            <a:ext cx="81536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тказавшись  от уродливого матерного языка, вы обретёте здоровье, счастье, везение, ясность мыслей, поступков и любовь ваших близк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j0300553"/>
          <p:cNvPicPr/>
          <p:nvPr/>
        </p:nvPicPr>
        <p:blipFill>
          <a:blip r:embed="rId1"/>
          <a:stretch/>
        </p:blipFill>
        <p:spPr>
          <a:xfrm>
            <a:off x="5916600" y="0"/>
            <a:ext cx="25876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304920"/>
            <a:ext cx="5770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    </a:t>
            </a: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Ах, как нам добрые слова нужны!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Не раз мы в этом убеждались с вами, 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А может, не слова – дела важны?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Дела делами, а слова – словам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   </a:t>
            </a: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Они живут у каждого из нас.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На дне души до времени хранимы, 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Чтоб их произнести в тот самый час, </a:t>
            </a:r>
            <a:br>
              <a:rPr sz="3000"/>
            </a:br>
            <a:r>
              <a:rPr b="1" i="1" lang="ru-RU" sz="3000" spc="-1" strike="noStrike">
                <a:solidFill>
                  <a:srgbClr val="3b4453"/>
                </a:solidFill>
                <a:latin typeface="Times New Roman"/>
              </a:rPr>
              <a:t>Когда они другим необходимы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b44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photo1330"/>
          <p:cNvPicPr/>
          <p:nvPr/>
        </p:nvPicPr>
        <p:blipFill>
          <a:blip r:embed="rId1"/>
          <a:stretch/>
        </p:blipFill>
        <p:spPr>
          <a:xfrm>
            <a:off x="6705720" y="838080"/>
            <a:ext cx="22986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440" y="404640"/>
            <a:ext cx="7086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годня мы с вами узнали, что в скверном слове таится огромная разрушительная си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роятно, если бы человек мог видеть, какой мощный отрицательный заряд, словно ударная волна взорвавшейся бомбы, распространяется во все стороны от скверного слова, он никогда не произнес бы его. Давайте задумаемся о словах, которые мы произносим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сейчас ответьте на вопр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овы ли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отказаться от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квернословия?»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5"/>
          <p:cNvPicPr/>
          <p:nvPr/>
        </p:nvPicPr>
        <p:blipFill>
          <a:blip r:embed="rId1"/>
          <a:stretch/>
        </p:blipFill>
        <p:spPr>
          <a:xfrm>
            <a:off x="457200" y="3659040"/>
            <a:ext cx="14716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88 -0.00393 L 0.58333 -0.01065 E">
                                      <p:cBhvr>
                                        <p:cTn id="20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Слайд20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imagesCAEPEU4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5"/>
          <p:cNvSpPr txBox="1"/>
          <p:nvPr/>
        </p:nvSpPr>
        <p:spPr>
          <a:xfrm>
            <a:off x="1219320" y="1600200"/>
            <a:ext cx="6248160" cy="20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его доброг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6" descr="2ed289bfe88d1f4c332b5e9791f4305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403848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77880" y="1666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сквернослов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200240" y="3962520"/>
            <a:ext cx="735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вернословие — это речь, наполненная неприличными выражениями, непристойными словами, бранью. У этого явления много определений: нецензурная брань, непечатные выражения, матерщина, нецензурная лексика и др. Но издревле матерщина в русском народе именуется сквернословием, от слова "скверн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7" descr="ssora1"/>
          <p:cNvPicPr/>
          <p:nvPr/>
        </p:nvPicPr>
        <p:blipFill>
          <a:blip r:embed="rId1"/>
          <a:stretch/>
        </p:blipFill>
        <p:spPr>
          <a:xfrm>
            <a:off x="2743200" y="960480"/>
            <a:ext cx="426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1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возникновения сквернослов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657600" y="747720"/>
            <a:ext cx="5486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ни этого явления уходят в далекую языческую древность. Скверные слова были включены в заклинания, обращенные к языческим божествам, а в языческое время был распространен культ плодородия, поэтому все скверные слова связаны с половой сферой. Таким образом, так называемый мат является языком общения с демонами. Наши предки произносили эти слова, призывая себе на помощь демонов зла. Ведьмы и колдуньи использовали сквернословие в своих наговорах, насылая проклят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7" descr="7374695_43edd1d7"/>
          <p:cNvPicPr/>
          <p:nvPr/>
        </p:nvPicPr>
        <p:blipFill>
          <a:blip r:embed="rId1"/>
          <a:stretch/>
        </p:blipFill>
        <p:spPr>
          <a:xfrm>
            <a:off x="25560" y="1676520"/>
            <a:ext cx="35366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430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Бранить  детей нельзя матом, они будут мучимы бес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Материться в доме нельзя: бесы будут жить в этом жилищ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371600" y="18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Также нельзя было ругаться в лесу: леший может обиде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d5a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5a50"/>
                </a:solidFill>
                <a:latin typeface="Times New Roman"/>
              </a:rPr>
              <a:t>На  берегу реки или озера – оскорбится водян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AN472"/>
          <p:cNvPicPr/>
          <p:nvPr/>
        </p:nvPicPr>
        <p:blipFill>
          <a:blip r:embed="rId1"/>
          <a:stretch/>
        </p:blipFill>
        <p:spPr>
          <a:xfrm>
            <a:off x="1790640" y="249120"/>
            <a:ext cx="1398600" cy="159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505"/>
          <p:cNvPicPr/>
          <p:nvPr/>
        </p:nvPicPr>
        <p:blipFill>
          <a:blip r:embed="rId2"/>
          <a:stretch/>
        </p:blipFill>
        <p:spPr>
          <a:xfrm>
            <a:off x="3063960" y="5165640"/>
            <a:ext cx="1944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371600" y="7621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828800" y="152280"/>
            <a:ext cx="716292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вернословие на Руси примерно до середины XIX века не только не было распространено даже в деревне, но и являлось уголовно наказуемы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 времена царя Алексея Михайловича Романова услышать на улице мат было просто невозможно. И это объясняется не только скромностью и деликатностью наших предков, но и политикой, проводимой государством. По Соборному уложению за использование непотребных слов налагалось жестокое наказание — вплоть до смертной казни. 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Picture 7" descr="550206"/>
          <p:cNvPicPr/>
          <p:nvPr/>
        </p:nvPicPr>
        <p:blipFill>
          <a:blip r:embed="rId1"/>
          <a:stretch/>
        </p:blipFill>
        <p:spPr>
          <a:xfrm>
            <a:off x="388800" y="42670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720" y="1599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де же человеку можно было выругаться, выплеснуть из себя всю злость?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-158760" y="3333600"/>
            <a:ext cx="94550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29528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вернословие и здоров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3880" y="1523880"/>
            <a:ext cx="5334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 действием звуков, в том числе и человеческой речи, молекулы воды (а наше тело примерно на 80 процентов состоит из нее) начинают выстраиваться в сложные структуры. И в зависимости от ритма и смысловой нагрузки эти структуры могут лечить или, наоборот, отравлять организ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7" descr="46# бегущий мышонок&#13;&#10;"/>
          <p:cNvPicPr/>
          <p:nvPr/>
        </p:nvPicPr>
        <p:blipFill>
          <a:blip r:embed="rId1"/>
          <a:stretch/>
        </p:blipFill>
        <p:spPr>
          <a:xfrm>
            <a:off x="6827760" y="213372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04-07T10:37:5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