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7.gif" ContentType="image/gif"/>
  <Override PartName="/ppt/media/image10.jpeg" ContentType="image/jpeg"/>
  <Override PartName="/ppt/media/image6.gif" ContentType="image/gif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gif" ContentType="image/gif"/>
  <Override PartName="/ppt/media/image20.jpeg" ContentType="image/jpeg"/>
  <Override PartName="/ppt/media/image14.gif" ContentType="image/gif"/>
  <Override PartName="/ppt/media/image22.png" ContentType="image/png"/>
  <Override PartName="/ppt/media/image19.jpeg" ContentType="image/jpeg"/>
  <Override PartName="/ppt/media/image1.jpeg" ContentType="image/jpeg"/>
  <Override PartName="/ppt/media/image21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gif" ContentType="image/gi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7B29-8A9C-4B24-A283-327155161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5C9D-2364-4C09-B0C5-31E6B9A18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913B-6F4D-4F1C-BD4D-032299292F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28A3-8737-4CE1-8881-F3ED4E309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8AAF-11BE-4CCB-B83C-24ABDE235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C7CC-47BF-47BE-B3D2-A385D3837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F250-6A3E-4AA1-919D-BBDE1897B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5553-7F04-4B10-934C-411D22A42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5CE-E4B4-4F51-9114-F98463DDF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E6DD-33DF-4F49-878D-64362DFA7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E08-75A1-481D-A7A2-2F004BE6C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9725-4D19-4E4B-9AAD-2B0B75188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8D8C-3EFD-4AC5-A342-965D2BE13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555D-2994-4356-88A6-1C1658312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87C7-AB85-488E-B680-07C39B739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8C79-36DE-4D96-921C-E33F0C197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734A-47F2-4B7A-9067-1CAE5CEAA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E802-6FAB-4A71-984E-6220AF49E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67D9-52C1-4052-9DE0-5CA33A610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D80-EE2C-4186-91D3-E9F17A89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58C-FB9E-45DF-8EF3-8193FB92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531-6FF0-4FAF-BBF1-1AB27860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E95-9D22-4358-B2A1-ABACD390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8E8-0E6C-4428-B39B-40C00E38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86F-FB42-4A5F-825B-AA377FE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987-5852-4344-A1CB-17942125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71F-537B-43DB-9AB0-9331664A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123-9D4C-475C-B18A-5127AE31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195-48CC-40A9-B40D-1047A6C3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94C-7C60-4DB1-9503-A1919080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CD7-2E62-4EA9-953C-42511348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0FBC-61C9-412E-BA9A-5E691445ED8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chnologijos.lt/upload/image/technologijos/archyvas/kitas_kampas/kuryba/k_knygos/zinia_kuria_mums_pranesa_vanduo/101.jpg/f-10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smiles.33b.ru/smile.108105.html" TargetMode="Externa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Ставим условие – долой сквернослов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05320" y="4419360"/>
            <a:ext cx="4495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 и прове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андрова Ю.Н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 10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асару Эмо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Картинка 2 из 21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905120"/>
            <a:ext cx="285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1828800" y="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XX веке японский ученый Масару Эмото научно доказал, что вода не только воспринимает информацию, но может меняться под воздействием слова и даже мысли. С помощью новейшего оборудования он смог заморозить и сфотографировать воду под микроскопом. То, что он разглядел на молекулярном уровне, его поразило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6" descr="discovery_masaru_emoto13"/>
          <p:cNvPicPr/>
          <p:nvPr/>
        </p:nvPicPr>
        <p:blipFill>
          <a:blip r:embed="rId1"/>
          <a:stretch/>
        </p:blipFill>
        <p:spPr>
          <a:xfrm>
            <a:off x="838080" y="3200400"/>
            <a:ext cx="3175200" cy="3174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discovery_masaru_emoto20"/>
          <p:cNvPicPr/>
          <p:nvPr/>
        </p:nvPicPr>
        <p:blipFill>
          <a:blip r:embed="rId2"/>
          <a:stretch/>
        </p:blipFill>
        <p:spPr>
          <a:xfrm>
            <a:off x="4952880" y="3048120"/>
            <a:ext cx="31752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28800" y="6858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гмент фильма японского ученого Масаро Эмо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C:\Users\USER\Desktop\Screenshot_1.jpg"/>
          <p:cNvPicPr/>
          <p:nvPr/>
        </p:nvPicPr>
        <p:blipFill>
          <a:blip r:embed="rId1"/>
          <a:stretch/>
        </p:blipFill>
        <p:spPr>
          <a:xfrm>
            <a:off x="1676520" y="2590920"/>
            <a:ext cx="63705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дии ма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ервая стад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человек впервые слышит нецензурное слово, он испытывает стыд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торая стад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человек впервые употребляет такое скверное слово – за компанию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ретья стадия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человек привыкает к этому слову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569960" y="533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мата в наше врем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800360" y="1539720"/>
            <a:ext cx="696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для повышения эмоциональности реч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эмоциональной разрядк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оскорбления, унижения адресата реч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демонстрации агресси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) демонстрации отсутствия страх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) демонстрации раскованности, пренебрежительного отношения к системе запрет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) демонстрации принадлежности к "своим"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7" descr="24m5"/>
          <p:cNvPicPr/>
          <p:nvPr/>
        </p:nvPicPr>
        <p:blipFill>
          <a:blip r:embed="rId1"/>
          <a:stretch/>
        </p:blipFill>
        <p:spPr>
          <a:xfrm>
            <a:off x="5715000" y="4952880"/>
            <a:ext cx="2484360" cy="13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Человечек-1"/>
          <p:cNvPicPr/>
          <p:nvPr/>
        </p:nvPicPr>
        <p:blipFill>
          <a:blip r:embed="rId2"/>
          <a:stretch/>
        </p:blipFill>
        <p:spPr>
          <a:xfrm>
            <a:off x="1295280" y="5181480"/>
            <a:ext cx="10098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Как борется с матом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.20,ч.1 «Кодекса РФ об административных правонарушениях» предусматривает следующее наказание за нецензурную брань в общественных местах: штраф в размере от 5 до 15 минимальных размеров оплаты труда или административный арест на срок до 15 сут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тирекла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использует мат, тот умишком не бог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 – помоев уш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 – дорога в а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 уродует девч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 – это ядов концентр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лассе мы найдём управу на словесную отра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Слайд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Слайд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Слайд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057400" y="387360"/>
            <a:ext cx="640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чь – это показатель ума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Сенека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т музыки слаще, чем ангельские голоса ребятишек, если не особенно вслушиваться в произносимые ими слова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Логан Пирсолл Сми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6" descr="14122957"/>
          <p:cNvPicPr/>
          <p:nvPr/>
        </p:nvPicPr>
        <p:blipFill>
          <a:blip r:embed="rId1"/>
          <a:stretch/>
        </p:blipFill>
        <p:spPr>
          <a:xfrm>
            <a:off x="762120" y="38862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Слайд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Слайд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3048120"/>
            <a:ext cx="81536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казавшись  от уродливого матерного языка, вы обретёте здоровье, счастье, везение, ясность мыслей, поступков и любовь ваших близки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j0300553"/>
          <p:cNvPicPr/>
          <p:nvPr/>
        </p:nvPicPr>
        <p:blipFill>
          <a:blip r:embed="rId1"/>
          <a:stretch/>
        </p:blipFill>
        <p:spPr>
          <a:xfrm>
            <a:off x="5916600" y="0"/>
            <a:ext cx="25876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304920"/>
            <a:ext cx="5770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    </a:t>
            </a: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Ах, как нам добрые слова нужны!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Не раз мы в этом убеждались с вами, 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А может, не слова – дела важны?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Дела делами, а слова – словам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   </a:t>
            </a: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Они живут у каждого из нас.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На дне души до времени хранимы, 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Чтоб их произнести в тот самый час, 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Когда они другим необходимы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b44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photo1330"/>
          <p:cNvPicPr/>
          <p:nvPr/>
        </p:nvPicPr>
        <p:blipFill>
          <a:blip r:embed="rId1"/>
          <a:stretch/>
        </p:blipFill>
        <p:spPr>
          <a:xfrm>
            <a:off x="6705720" y="838080"/>
            <a:ext cx="22986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440" y="404640"/>
            <a:ext cx="7086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годня мы с вами узнали, что в скверном слове таится огромная разрушительная си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роятно, если бы человек мог видеть, какой мощный отрицательный заряд, словно ударная волна взорвавшейся бомбы, распространяется во все стороны от скверного слова, он никогда не произнес бы его. Давайте задумаемся о словах, которые мы произносим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 сейчас ответьте на вопр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овы ли в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отказаться от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квернословия?»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5"/>
          <p:cNvPicPr/>
          <p:nvPr/>
        </p:nvPicPr>
        <p:blipFill>
          <a:blip r:embed="rId1"/>
          <a:stretch/>
        </p:blipFill>
        <p:spPr>
          <a:xfrm>
            <a:off x="457200" y="3659040"/>
            <a:ext cx="14716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8 -0.00393 L 0.58333 -0.01065 E">
                                      <p:cBhvr>
                                        <p:cTn id="20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Слайд20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imagesCAEPEU4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1219320" y="1600200"/>
            <a:ext cx="6248160" cy="20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его доброг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6" descr="2ed289bfe88d1f4c332b5e9791f4305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4038480"/>
            <a:ext cx="2743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77880" y="1666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сквернослов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200240" y="3962520"/>
            <a:ext cx="735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вернословие — это речь, наполненная неприличными выражениями, непристойными словами, бранью. У этого явления много определений: нецензурная брань, непечатные выражения, матерщина, нецензурная лексика и др. Но издревле матерщина в русском народе именуется сквернословием, от слова "скверна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7" descr="ssora1"/>
          <p:cNvPicPr/>
          <p:nvPr/>
        </p:nvPicPr>
        <p:blipFill>
          <a:blip r:embed="rId1"/>
          <a:stretch/>
        </p:blipFill>
        <p:spPr>
          <a:xfrm>
            <a:off x="2743200" y="960480"/>
            <a:ext cx="4267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1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возникновения сквернослов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657600" y="747720"/>
            <a:ext cx="5486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ни этого явления уходят в далекую языческую древность. Скверные слова были включены в заклинания, обращенные к языческим божествам, а в языческое время был распространен культ плодородия, поэтому все скверные слова связаны с половой сферой. Таким образом, так называемый мат является языком общения с демонами. Наши предки произносили эти слова, призывая себе на помощь демонов зла. Ведьмы и колдуньи использовали сквернословие в своих наговорах, насылая проклят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7" descr="7374695_43edd1d7"/>
          <p:cNvPicPr/>
          <p:nvPr/>
        </p:nvPicPr>
        <p:blipFill>
          <a:blip r:embed="rId1"/>
          <a:stretch/>
        </p:blipFill>
        <p:spPr>
          <a:xfrm>
            <a:off x="25560" y="1676520"/>
            <a:ext cx="35366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5a50"/>
                </a:solidFill>
                <a:latin typeface="Times New Roman"/>
              </a:rPr>
              <a:t>Бранить  детей нельзя матом, они будут мучимы бес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5a50"/>
                </a:solidFill>
                <a:latin typeface="Times New Roman"/>
              </a:rPr>
              <a:t>Материться в доме нельзя: бесы будут жить в этом жилищ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d5a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371600" y="18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5a50"/>
                </a:solidFill>
                <a:latin typeface="Times New Roman"/>
              </a:rPr>
              <a:t>Также нельзя было ругаться в лесу: леший может обиде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5a50"/>
                </a:solidFill>
                <a:latin typeface="Times New Roman"/>
              </a:rPr>
              <a:t>На  берегу реки или озера – оскорбится водян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AN472"/>
          <p:cNvPicPr/>
          <p:nvPr/>
        </p:nvPicPr>
        <p:blipFill>
          <a:blip r:embed="rId1"/>
          <a:stretch/>
        </p:blipFill>
        <p:spPr>
          <a:xfrm>
            <a:off x="1790640" y="249120"/>
            <a:ext cx="1398600" cy="1590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505"/>
          <p:cNvPicPr/>
          <p:nvPr/>
        </p:nvPicPr>
        <p:blipFill>
          <a:blip r:embed="rId2"/>
          <a:stretch/>
        </p:blipFill>
        <p:spPr>
          <a:xfrm>
            <a:off x="3063960" y="5165640"/>
            <a:ext cx="19447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371600" y="7621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828800" y="152280"/>
            <a:ext cx="716292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вернословие на Руси примерно до середины XIX века не только не было распространено даже в деревне, но и являлось уголовно наказуемым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 времена царя Алексея Михайловича Романова услышать на улице мат было просто невозможно. И это объясняется не только скромностью и деликатностью наших предков, но и политикой, проводимой государством. По Соборному уложению за использование непотребных слов налагалось жестокое наказание — вплоть до смертной казни. 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7" descr="550206"/>
          <p:cNvPicPr/>
          <p:nvPr/>
        </p:nvPicPr>
        <p:blipFill>
          <a:blip r:embed="rId1"/>
          <a:stretch/>
        </p:blipFill>
        <p:spPr>
          <a:xfrm>
            <a:off x="388800" y="426708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720" y="15998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де же человеку можно было выругаться, выплеснуть из себя всю злость?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-158760" y="3333600"/>
            <a:ext cx="94550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129528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вернословие и здоровь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3880" y="1523880"/>
            <a:ext cx="5334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 действием звуков, в том числе и человеческой речи, молекулы воды (а наше тело примерно на 80 процентов состоит из нее) начинают выстраиваться в сложные структуры. И в зависимости от ритма и смысловой нагрузки эти структуры могут лечить или, наоборот, отравлять организ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7" descr="46# бегущий мышонок&#13;&#10;"/>
          <p:cNvPicPr/>
          <p:nvPr/>
        </p:nvPicPr>
        <p:blipFill>
          <a:blip r:embed="rId1"/>
          <a:stretch/>
        </p:blipFill>
        <p:spPr>
          <a:xfrm>
            <a:off x="6827760" y="213372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07T10:37:5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