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5FC-4408-4510-9D49-FF49962C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D05-6F14-4A7C-8701-975D1C09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10A-8ED6-4005-8EBB-DEF79FC3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D8B-44B2-4FAE-9D49-528A0350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C7EE-6727-4D70-8BE7-F480315B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F345-C487-4DB9-A585-491F8CAD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44C0-7D6C-401E-93DE-897C54D7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3D72-A13B-47D3-9197-78B5428A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4A13-2506-414E-A295-97A73E9F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E82B-C3C6-4C06-9938-2CB71853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1E59-3077-4260-BB97-04437F64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76D-233F-4C70-AEFE-44CB6818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C023-1D48-4871-9FEF-3CA2E7E2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051D-B9BA-4E66-ABA9-DE431791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859C-18D7-460E-850F-52F00B9F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2C88-2473-41EA-ACB7-6C40E67C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4C88-0033-4BF5-B8E6-58CBADAB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7FDE-34B4-4E5C-89F1-C88867FF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5DF-669C-491D-964F-099AE278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A02-478B-4AD5-A6CF-39A1627F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F40-62D1-4717-A8B6-6CB39692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D684-E360-45BA-9E71-A9E6DA06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CC3-2696-4727-BAD1-A18FE583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0D1-2DF2-4AA7-91E7-01983AF5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1FE0-F84E-4A30-9313-AE0D52EBC4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50A5-C833-4313-B745-9948554B190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очинение по картине В.Г.Перова «Тройк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11280" y="2637000"/>
            <a:ext cx="792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к развития речи  в 4 клас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ь МАОУ НОШ №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 Южно-Сахалин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ирнова Е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 rot="21026400">
            <a:off x="4211280" y="4149720"/>
            <a:ext cx="719280" cy="98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viuga 1.mp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766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тройка Перов"/>
          <p:cNvPicPr/>
          <p:nvPr/>
        </p:nvPicPr>
        <p:blipFill>
          <a:blip r:embed="rId1"/>
          <a:srcRect l="23637" t="31549" r="40169" b="31549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pic>
        <p:nvPicPr>
          <p:cNvPr id="228" name="viuga 1.mp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тройка Перов"/>
          <p:cNvPicPr/>
          <p:nvPr/>
        </p:nvPicPr>
        <p:blipFill>
          <a:blip r:embed="rId1"/>
          <a:srcRect l="57570" t="26087" r="0" b="19221"/>
          <a:stretch/>
        </p:blipFill>
        <p:spPr>
          <a:xfrm>
            <a:off x="0" y="-1251000"/>
            <a:ext cx="9144000" cy="8686800"/>
          </a:xfrm>
          <a:prstGeom prst="rect">
            <a:avLst/>
          </a:prstGeom>
          <a:ln w="0">
            <a:noFill/>
          </a:ln>
        </p:spPr>
      </p:pic>
      <p:pic>
        <p:nvPicPr>
          <p:cNvPr id="230" name="viuga 1.mp3" descr=""/>
          <p:cNvPicPr/>
          <p:nvPr/>
        </p:nvPicPr>
        <p:blipFill>
          <a:blip r:embed="rId2"/>
          <a:stretch/>
        </p:blipFill>
        <p:spPr>
          <a:xfrm>
            <a:off x="2509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тройка Перов"/>
          <p:cNvPicPr/>
          <p:nvPr/>
        </p:nvPicPr>
        <p:blipFill>
          <a:blip r:embed="rId1"/>
          <a:srcRect l="6149" t="42810" r="63603" b="11933"/>
          <a:stretch/>
        </p:blipFill>
        <p:spPr>
          <a:xfrm>
            <a:off x="0" y="-3267000"/>
            <a:ext cx="9182160" cy="10125000"/>
          </a:xfrm>
          <a:prstGeom prst="rect">
            <a:avLst/>
          </a:prstGeom>
          <a:ln w="0">
            <a:noFill/>
          </a:ln>
        </p:spPr>
      </p:pic>
      <p:pic>
        <p:nvPicPr>
          <p:cNvPr id="232" name="viuga 1.mp3" descr=""/>
          <p:cNvPicPr/>
          <p:nvPr/>
        </p:nvPicPr>
        <p:blipFill>
          <a:blip r:embed="rId2"/>
          <a:stretch/>
        </p:blipFill>
        <p:spPr>
          <a:xfrm>
            <a:off x="2509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viuga 1.mp3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третьяковская"/>
          <p:cNvPicPr/>
          <p:nvPr/>
        </p:nvPicPr>
        <p:blipFill>
          <a:blip r:embed="rId1"/>
          <a:srcRect l="0" t="5249" r="0" b="0"/>
          <a:stretch/>
        </p:blipFill>
        <p:spPr>
          <a:xfrm>
            <a:off x="1871640" y="189000"/>
            <a:ext cx="5400720" cy="3411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третьяковская 5"/>
          <p:cNvPicPr/>
          <p:nvPr/>
        </p:nvPicPr>
        <p:blipFill>
          <a:blip r:embed="rId2"/>
          <a:stretch/>
        </p:blipFill>
        <p:spPr>
          <a:xfrm>
            <a:off x="324000" y="3786120"/>
            <a:ext cx="3743280" cy="2806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третьяковская 4"/>
          <p:cNvPicPr/>
          <p:nvPr/>
        </p:nvPicPr>
        <p:blipFill>
          <a:blip r:embed="rId3"/>
          <a:stretch/>
        </p:blipFill>
        <p:spPr>
          <a:xfrm>
            <a:off x="5076720" y="3789360"/>
            <a:ext cx="3745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611280" y="1413000"/>
            <a:ext cx="784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Можешь ли ты назвать себя счастливым ребенко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буклет1"/>
          <p:cNvPicPr/>
          <p:nvPr/>
        </p:nvPicPr>
        <p:blipFill>
          <a:blip r:embed="rId1"/>
          <a:stretch/>
        </p:blipFill>
        <p:spPr>
          <a:xfrm>
            <a:off x="179280" y="189000"/>
            <a:ext cx="5292720" cy="3741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буклет2"/>
          <p:cNvPicPr/>
          <p:nvPr/>
        </p:nvPicPr>
        <p:blipFill>
          <a:blip r:embed="rId2"/>
          <a:stretch/>
        </p:blipFill>
        <p:spPr>
          <a:xfrm>
            <a:off x="4067280" y="3157560"/>
            <a:ext cx="496872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611280" y="1484280"/>
            <a:ext cx="8137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Bookman Old Style"/>
              </a:rPr>
              <a:t>Сочинение по картин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i="1" lang="ru-RU" sz="4800" spc="-1" strike="noStrike">
                <a:solidFill>
                  <a:srgbClr val="ffffff"/>
                </a:solidFill>
                <a:latin typeface="Bookman Old Style"/>
              </a:rPr>
              <a:t>В. Перова «Тройка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47640" y="37162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анализировать произвед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здать буклет для музе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84360" y="4762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Garamond"/>
              </a:rPr>
              <a:t>Запись в буклете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умеречный морозный вечер. Снежная мгла бьёт в лицо. Встречный ветер срывает одежду. Трое ребят, изнемогая, тащат в гору сани…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259920"/>
            <a:ext cx="799308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Анализ содержания картин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6360" y="1267920"/>
            <a:ext cx="799128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9920" indent="-34884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е время года изображено на картине? Какая стоит погод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9920" indent="-34884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то изображен на картине? Что тащат трое ребя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58920" y="2835360"/>
            <a:ext cx="842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находится в санях? Какая бочка? С ч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можно сказать о детях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выражают их ли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то решил облегчить нелегкий труд дете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в колорит картины? Почем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е мысли и чувства вызывает карти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33480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чему художник решил её напис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547640" y="907920"/>
          <a:ext cx="6480360" cy="4324320"/>
        </p:xfrm>
        <a:graphic>
          <a:graphicData uri="http://schemas.openxmlformats.org/drawingml/2006/table">
            <a:tbl>
              <a:tblPr/>
              <a:tblGrid>
                <a:gridCol w="2086200"/>
                <a:gridCol w="43941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ессиленные, обездоленные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дальческие, горестные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тхая, грязная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лость, презрение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омная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4"/>
          <p:cNvSpPr/>
          <p:nvPr/>
        </p:nvSpPr>
        <p:spPr>
          <a:xfrm>
            <a:off x="1258920" y="1052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14560" y="2421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258920" y="414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еж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219640" y="119700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сли и чув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5796000" y="400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324000" y="333360"/>
          <a:ext cx="8569080" cy="6002280"/>
        </p:xfrm>
        <a:graphic>
          <a:graphicData uri="http://schemas.openxmlformats.org/drawingml/2006/table">
            <a:tbl>
              <a:tblPr/>
              <a:tblGrid>
                <a:gridCol w="2068200"/>
                <a:gridCol w="650088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вшие, г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о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дные, измуче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е тяжким трудом обессиле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е, обездоле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можде</a:t>
                      </a:r>
                      <a:r>
                        <a:rPr b="0" lang="ru-RU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нн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е, безучастные к окружающему, страдальческие, горестны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тхая, рваная, грязная, не по погод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страдание, жалость, сочувствие, возмущение,  презрение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0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дяная, невыносимо тяжёлая, огромна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WordArt 43"/>
          <p:cNvSpPr txBox="1"/>
          <p:nvPr/>
        </p:nvSpPr>
        <p:spPr>
          <a:xfrm>
            <a:off x="826920" y="836640"/>
            <a:ext cx="1038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ти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4" name="WordArt 45"/>
          <p:cNvSpPr txBox="1"/>
          <p:nvPr/>
        </p:nvSpPr>
        <p:spPr>
          <a:xfrm>
            <a:off x="826920" y="2060640"/>
            <a:ext cx="1086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иц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5" name="WordArt 47"/>
          <p:cNvSpPr txBox="1"/>
          <p:nvPr/>
        </p:nvSpPr>
        <p:spPr>
          <a:xfrm>
            <a:off x="539640" y="3255840"/>
            <a:ext cx="165600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дежд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6" name="WordArt 49"/>
          <p:cNvSpPr txBox="1"/>
          <p:nvPr/>
        </p:nvSpPr>
        <p:spPr>
          <a:xfrm>
            <a:off x="552600" y="4114800"/>
            <a:ext cx="1719000" cy="96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сли и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увств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7" name="WordArt 52"/>
          <p:cNvSpPr txBox="1"/>
          <p:nvPr/>
        </p:nvSpPr>
        <p:spPr>
          <a:xfrm>
            <a:off x="712800" y="5470560"/>
            <a:ext cx="1297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ч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067520" cy="5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cecff"/>
                </a:solidFill>
                <a:latin typeface="Garamond"/>
              </a:rPr>
              <a:t>Орфографическая подготовк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1384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45000"/>
              </a:lnSpc>
              <a:spcBef>
                <a:spcPts val="1375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…дяная, …дежда, л…цо, м…роз, т…жёлая, с…бака, пр…хожий, сочу…ствие, горес…ные, безучас…ные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619280" y="1827360"/>
            <a:ext cx="5763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4282920" y="186228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7380360" y="184932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1055520" y="289548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6300720" y="289080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332000" y="3962520"/>
            <a:ext cx="576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3276720" y="2916360"/>
            <a:ext cx="576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5292720" y="393372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2233440" y="5008680"/>
            <a:ext cx="5763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6554880" y="5018040"/>
            <a:ext cx="5760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8ae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25520" y="476280"/>
            <a:ext cx="82915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1 ря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Что находится в санях? Какая бочка? С че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акими изображены де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2 ря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Какие лица у дете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Какой взгляд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3 ря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Во что одеты де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Какие мысли и чувства вызывает карти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дети1 Перов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317680" y="189000"/>
            <a:ext cx="4506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тройка Перов"/>
          <p:cNvPicPr/>
          <p:nvPr/>
        </p:nvPicPr>
        <p:blipFill>
          <a:blip r:embed="rId1"/>
          <a:stretch/>
        </p:blipFill>
        <p:spPr>
          <a:xfrm>
            <a:off x="-190440" y="-81000"/>
            <a:ext cx="9524880" cy="70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755640" y="404280"/>
            <a:ext cx="81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Произведениями изобразительного искусства человек живет не только в залах картинных галерей и музеев. Как ценен молчаливый разговор с самим собой, когда полотна и статуи оживают в сердце. Надо только не закрывать перед собой двери в храм красоты, не обкрадывать себя, а постепенно тренировать свой вкус так же, как и мускулы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й Тимофеевич Конен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дети Перов"/>
          <p:cNvPicPr/>
          <p:nvPr/>
        </p:nvPicPr>
        <p:blipFill>
          <a:blip r:embed="rId1"/>
          <a:stretch/>
        </p:blipFill>
        <p:spPr>
          <a:xfrm>
            <a:off x="2465280" y="189000"/>
            <a:ext cx="4194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Спящие дети Перов"/>
          <p:cNvPicPr/>
          <p:nvPr/>
        </p:nvPicPr>
        <p:blipFill>
          <a:blip r:embed="rId1"/>
          <a:stretch/>
        </p:blipFill>
        <p:spPr>
          <a:xfrm>
            <a:off x="1187280" y="453960"/>
            <a:ext cx="6769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Последний путь Перов"/>
          <p:cNvPicPr/>
          <p:nvPr/>
        </p:nvPicPr>
        <p:blipFill>
          <a:blip r:embed="rId1"/>
          <a:stretch/>
        </p:blipFill>
        <p:spPr>
          <a:xfrm>
            <a:off x="468360" y="324000"/>
            <a:ext cx="8157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дети1 Перо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16000" y="117360"/>
            <a:ext cx="2303640" cy="3311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дети Перов"/>
          <p:cNvPicPr/>
          <p:nvPr/>
        </p:nvPicPr>
        <p:blipFill>
          <a:blip r:embed="rId2"/>
          <a:stretch/>
        </p:blipFill>
        <p:spPr>
          <a:xfrm>
            <a:off x="6066000" y="3429000"/>
            <a:ext cx="2097000" cy="3240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Спящие дети Перов"/>
          <p:cNvPicPr/>
          <p:nvPr/>
        </p:nvPicPr>
        <p:blipFill>
          <a:blip r:embed="rId3"/>
          <a:stretch/>
        </p:blipFill>
        <p:spPr>
          <a:xfrm>
            <a:off x="468360" y="3503520"/>
            <a:ext cx="3672000" cy="3229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Последний путь Перов"/>
          <p:cNvPicPr/>
          <p:nvPr/>
        </p:nvPicPr>
        <p:blipFill>
          <a:blip r:embed="rId4"/>
          <a:stretch/>
        </p:blipFill>
        <p:spPr>
          <a:xfrm>
            <a:off x="4788000" y="189000"/>
            <a:ext cx="419724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Перов"/>
          <p:cNvPicPr/>
          <p:nvPr/>
        </p:nvPicPr>
        <p:blipFill>
          <a:blip r:embed="rId1"/>
          <a:stretch/>
        </p:blipFill>
        <p:spPr>
          <a:xfrm>
            <a:off x="2500200" y="189000"/>
            <a:ext cx="4098960" cy="5183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403280" y="5445000"/>
            <a:ext cx="6193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асилий Григорье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6600" y="1052280"/>
            <a:ext cx="7930800" cy="415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ccecff"/>
                </a:solidFill>
                <a:latin typeface="Arial"/>
              </a:rPr>
              <a:t>ТРОЙКА</a:t>
            </a:r>
            <a:endParaRPr b="0" lang="en-US" sz="129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1:27:13Z</dcterms:created>
  <dc:creator>User</dc:creator>
  <dc:description/>
  <dc:language>en-US</dc:language>
  <cp:lastModifiedBy>Елена</cp:lastModifiedBy>
  <dcterms:modified xsi:type="dcterms:W3CDTF">2018-10-27T09:51:09Z</dcterms:modified>
  <cp:revision>10</cp:revision>
  <dc:subject/>
  <dc:title>Сочинение по картине В.Г.Перова «Тройка»</dc:title>
</cp:coreProperties>
</file>