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64A-654F-4C0B-A1A0-2CF956F9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0A73-61B7-43AF-BD49-4D5D33F7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546-6579-4857-A8A4-F74B5B58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3EF-2239-4FCE-A68D-4C157E1D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B906-C574-4544-859D-2C20FC74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6E12-20C9-4A24-B34C-D1A7D66D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C410-741E-4220-A51E-9FBAAB50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3740-9586-4129-ADA2-28EAEADB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7935-CBE4-4BBE-9A63-C96AE5B3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ABD2-6941-4894-AAB5-FD9BCD86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53B1-D3CF-4E6A-8027-029D421E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571-AE49-4422-919C-7A406755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AEED-8DBA-46BD-B09E-F22EBE06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D967-5730-490A-B3FA-0CB95036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A38D-C98B-42F9-BCE5-3DC39B6F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5556-CE21-4EEB-90FC-2B88456F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0AAB-F11A-44B9-A4FA-B40A8C42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C32-93E6-4E58-BD7E-4F886951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AC99-A56A-45E7-8307-170B2280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1E8-61CB-4A34-8F77-AFF560F7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D8B-A2B8-4440-874F-0101AA8F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FE7-05F3-4DCE-A958-C330B27A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69D-F3AC-4EC1-9571-D7B36170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D62-7076-4E2D-8C47-DC1E2C66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600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600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-28706" y="9670"/>
                      <a:pt x="-28706" y="21600"/>
                    </a:cubicBezTo>
                    <a:cubicBezTo>
                      <a:pt x="-28706" y="21835"/>
                      <a:pt x="-28710" y="22070"/>
                      <a:pt x="-287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-28706" y="9670"/>
                      <a:pt x="-28706" y="21600"/>
                    </a:cubicBezTo>
                    <a:cubicBezTo>
                      <a:pt x="-28706" y="21835"/>
                      <a:pt x="-28710" y="22070"/>
                      <a:pt x="-287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F00A-243C-4A3B-9108-DD8DE4C63B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120" y="2234520"/>
                    <a:ext cx="712800" cy="50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600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600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0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0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0"/>
                          <a:pt x="15230" y="0"/>
                        </a:cubicBezTo>
                        <a:cubicBezTo>
                          <a:pt x="27159" y="0"/>
                          <a:pt x="-28706" y="9670"/>
                          <a:pt x="-28706" y="21600"/>
                        </a:cubicBezTo>
                        <a:cubicBezTo>
                          <a:pt x="-28706" y="21835"/>
                          <a:pt x="-28710" y="22070"/>
                          <a:pt x="-287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0"/>
                          <a:pt x="15230" y="0"/>
                        </a:cubicBezTo>
                        <a:cubicBezTo>
                          <a:pt x="27159" y="0"/>
                          <a:pt x="-28706" y="9670"/>
                          <a:pt x="-28706" y="21600"/>
                        </a:cubicBezTo>
                        <a:cubicBezTo>
                          <a:pt x="-28706" y="21835"/>
                          <a:pt x="-28710" y="22070"/>
                          <a:pt x="-287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0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0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CB61-7EC5-4E33-8052-CE1E7CA845A4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ПОЭТЫ ВОСТОЧНОЙ СИБИРИ 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О ВЕЛИКОЙ ОТЕЧЕСТВЕННОЙ ВОЙНЕ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920" y="301320"/>
            <a:ext cx="86421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АНКЕТИРОВАНИЕ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Были заданы вопросы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аких поэтов Восточной Сибири вы знаете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акие произведения поэтов Восточной Сибири вы знаете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Times New Roman"/>
              </a:rPr>
              <a:t>РЕЗУЛЬТАТЫ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Среди детей: знают поэтов Восточной Сибири – 26%;       не знают – 74% 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Среди взрослых: знают поэтов Восточной Сибири – 55%,       не знают – 45%.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Среди детей: знают произведения поэтов Восточной Сибири – 13%;       не знают – 87% 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Среди взрослых: знают произведения поэтов Восточной Сибири – 26%,       не знают – 74%.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Участники проекта пришли к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выводу: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необходимо продолжать знакомиться с поэтами Восточной Сибири, чтобы не забывать их творчество. Для этого необходимо больше читать,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ть творчество писателей и поэтов,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бращаться к дополнительной литературе, вести поисковую работу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31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6 класс школа №4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роблема нашего проекта: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ем больше времени проходит со дня окончания ВОв, тем больше она забывается. Всё меньше остаётся среди нас ветеранов, которые могут, как очевидцы и участники рассказать о том, чем была война для нашей Родины. Тем ценнее для нас творчество известных и менее известных поэтов Восточной Сибири. Многие создали прекрасные стихотворения о войне, но оказались несправедливо забытым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Times New Roman"/>
              </a:rPr>
              <a:t>Собрать материал и обработать его.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ЭТАПЫ НАШЕЙ РАБОТЫ: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оиск биографий (портретов) поэто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бор поэтического материа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руппирование материа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роведение анкетирования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Чтение стихотворений в класс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риготовление кроссворда, викторин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оставление презентаци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76720" y="333360"/>
            <a:ext cx="367200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Иосиф Уткин</a:t>
            </a:r>
            <a:br>
              <a:rPr sz="7200"/>
            </a:b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(1903-1944)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8" name="Picture 9" descr="10a"/>
          <p:cNvPicPr/>
          <p:nvPr/>
        </p:nvPicPr>
        <p:blipFill>
          <a:blip r:embed="rId1"/>
          <a:stretch/>
        </p:blipFill>
        <p:spPr>
          <a:xfrm>
            <a:off x="395280" y="333360"/>
            <a:ext cx="3889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32000" y="404280"/>
            <a:ext cx="375444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Марк Сергеев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(1926-1997)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Picture 4" descr="mark-sergeev"/>
          <p:cNvPicPr/>
          <p:nvPr/>
        </p:nvPicPr>
        <p:blipFill>
          <a:blip r:embed="rId1"/>
          <a:stretch/>
        </p:blipFill>
        <p:spPr>
          <a:xfrm>
            <a:off x="468360" y="1052640"/>
            <a:ext cx="4103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32000" y="476280"/>
            <a:ext cx="375444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Моисей Рыбаков (1919-1943)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2" name="Picture 4" descr="hello_html_m4574fad9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859280" y="475920"/>
            <a:ext cx="382752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Джек Алтаузен (1907-1942)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Picture 4" descr="doc6s1my9k5vk7xcef134_800_480"/>
          <p:cNvPicPr/>
          <p:nvPr/>
        </p:nvPicPr>
        <p:blipFill>
          <a:blip r:embed="rId1"/>
          <a:stretch/>
        </p:blipFill>
        <p:spPr>
          <a:xfrm>
            <a:off x="584280" y="476280"/>
            <a:ext cx="3571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32000" y="475920"/>
            <a:ext cx="375444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Анатолий Горбунов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(1942)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6" name="Рисунок 1" descr="https://im0-tub-ru.yandex.net/i?id=8157781d0e1aebf004b56f802d9cd35f-l&amp;n=13"/>
          <p:cNvPicPr/>
          <p:nvPr/>
        </p:nvPicPr>
        <p:blipFill>
          <a:blip r:embed="rId1"/>
          <a:stretch/>
        </p:blipFill>
        <p:spPr>
          <a:xfrm>
            <a:off x="468360" y="404640"/>
            <a:ext cx="3816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6T13:09:30Z</dcterms:created>
  <dc:creator>User</dc:creator>
  <dc:description/>
  <dc:language>en-US</dc:language>
  <cp:lastModifiedBy>Домашний</cp:lastModifiedBy>
  <dcterms:modified xsi:type="dcterms:W3CDTF">2022-08-31T07:00:20Z</dcterms:modified>
  <cp:revision>10</cp:revision>
  <dc:subject/>
  <dc:title>ПОЭТЫ ВОСТОЧНОЙ СИБИРИ  О ВЕЛИКОЙ ОТЕЧЕСТВЕННОЙ ВОЙНЕ</dc:title>
</cp:coreProperties>
</file>