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EF8-5520-40F0-B77F-72FBBBD6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4EE-4CD1-4399-A625-B142F8B2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15A-3E15-44A2-BC34-9065FF8E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EE8-3E30-4E83-8B2E-A84CE00D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605-9FA3-4182-B818-8D6A0CB3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79F-6345-4456-B439-AF9DFC8C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60B-0862-4D01-BFA9-16A1F059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636-0E4E-47CF-8716-D2D33399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FE8-64F5-4711-A589-4D70D06F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2E2-8373-4DEC-B996-C7DC12A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D4A-0519-45C1-B688-468F278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EFF-59F5-4B1C-B194-9854079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0D5-1F96-43AC-BE58-6154F322E8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областное автономно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нковский агропромышленный техникум»</a:t>
            </a: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исследовательская работа на тему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«Как укрепить здоровье?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(из личного опыта студента ГОАПО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«Данковского  агропромышленного техникума»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ыполни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тудент группы Т-21-1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Дронкин Роман Евгеньевич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уководитель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Дудкина Наталья Викторовна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ков, 2022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403280" y="90792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Calibri"/>
              </a:rPr>
              <a:t>Музы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имулирует выработку гормонов, ответственных за эмоциональное состояние человека, в том числе и тех, которые связаны с ощущением вдохновения и душевного поко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лучайно, великий ученый и мыслитель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Calibri"/>
              </a:rPr>
              <a:t>Пифаг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читал, что музыка – это та же математика, и сочинял научно обоснованные мелодии,  которые лечили, «очищали» человеческие действия и восстанавливали первоначальную гармо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квернословие и здоровь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116000" y="1052640"/>
            <a:ext cx="7570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 - обоюдоострое оружие, как меч без рукоятки: другого поразишь, но и сам руки обреж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Гнилые слова – от гнилого серд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вернословие отрицательно влияет на здоровье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особствует снижению интеллекта, провоцирует преступления, создавая иллюзию вседозволенности, обворовывает нас духовно, унижает и оскорбля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питывая в себя словесную грязь, калечит людские судьбы, приводит к раннему старению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Сквернословие и здоровь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826920" y="1444680"/>
            <a:ext cx="7058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Calibri"/>
                <a:ea typeface="Calibri"/>
              </a:rPr>
              <a:t>Негативные эмоции сказываются на  структуре организма и подобные изменения в организме человека неизменно приводят к возникновению различны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сару Эм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сслед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ть вопрос «Как укрепить здоровье», приобретение опыта решения данной проблем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нализ научной и методической литературы по данной тем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ссказ о влиянии моего образа жизни на моё здоровь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писать исследования в области укрепления здоровь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писать результаты положительного личного опы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ть рекомендации другим людям по ведению здорового образа жизн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формировать ценностное отношение к своему здоровью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кт исследован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проблемы укрепления собственного здоровья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ая, публицистическая и методическая литература, интернет – источники по данной тем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ы и приёмы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аучной и методической литературы по данной теме; метод собственного лингвистического осмысления материала (описательный, заключающийся в классификации материала и его системном описании, исходя из задач работы), 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методики сравнения, сопоставления и интерпретац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 до того перевешивает все блага жизн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поистине здоровый нищий счастливее больного короля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ртур Шопенгауэр)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 – это вершина, которую каждый должен покори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4560"/>
            <a:ext cx="83628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db6b"/>
                </a:solidFill>
                <a:latin typeface="Calibri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первая и важнейшая потребность человека, определяющая способность его к труду и обеспечивающая гармоничное развитие личности. Оно является важнейшей предпосылкой к познанию окружающего мира, к самоутверждению и счастью человек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826920" y="1268280"/>
            <a:ext cx="777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alibri"/>
                <a:ea typeface="Calibri"/>
              </a:rPr>
              <a:t>Здоровь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ляет собой гармоничную совокупность структурно-функциональных данных организма, адекватных окружающей среде и обеспечивающих организму оптимальную жизнедеятельность, а также полноценную трудовую жизнедеятельност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alibri"/>
              </a:rPr>
              <a:t>Здоровь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бесценное достояние не только каждого человека, но и все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нам выполнять наши планы, успешно решать основные жизненные задачи, преодолевать трудности, а если придется, то и значительные перегрузки. Доброе здоровье, разумно сохраняемое и укрепляемое самим человеком, обеспечивает ему долгую и актив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826920" y="260280"/>
            <a:ext cx="7777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изическ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это естественное состояние организма, обусловленное нормальным функционированием всех его органов и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сихическ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висит от состояния головного мозга, оно характеризуется уровнем и качеством мышления, развитием внимания и памяти, степенью эмоциональной устойчивости, развитием волевых кач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равственн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пределяется теми моральными принципами, которые являются основой социальной жизни человека, т.е. жизни в определенном человеческом обществе. Отличительными признаками нравственного здоровья человека являются, прежде всего, сознательное отношение к труду, овладение сокровищами культуры, активное неприятие нравов и привычек, противоречащих нормальному образу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https://gp16.medkhv.ru/images/zoj1.jpg"/>
          <p:cNvPicPr/>
          <p:nvPr/>
        </p:nvPicPr>
        <p:blipFill>
          <a:blip r:embed="rId1"/>
          <a:stretch/>
        </p:blipFill>
        <p:spPr>
          <a:xfrm>
            <a:off x="1116000" y="476280"/>
            <a:ext cx="6912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http://school18.admsurgut.ru/images/5735.jpg"/>
          <p:cNvPicPr/>
          <p:nvPr/>
        </p:nvPicPr>
        <p:blipFill>
          <a:blip r:embed="rId1"/>
          <a:stretch/>
        </p:blipFill>
        <p:spPr>
          <a:xfrm>
            <a:off x="1187280" y="119700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308</cp:lastModifiedBy>
  <dcterms:modified xsi:type="dcterms:W3CDTF">2022-06-17T08:41:41Z</dcterms:modified>
  <cp:revision>175</cp:revision>
  <dc:subject/>
  <dc:title>Слайд 1</dc:title>
</cp:coreProperties>
</file>