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84E-AE44-4965-8082-512456FE7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407-C70A-4458-921C-3016FBEAD6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403-3EE6-4AB8-8834-B800F1F3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08D-7365-4EDC-9CD3-BE41B6C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366-7FD8-4D8F-BF95-FC182EB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7DC-981B-46F4-9382-16CD1F9D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C37-EB2D-45AD-A43A-BD81785B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E42-28D0-48C9-BF6C-BB5EF14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1DD-3944-4C07-86C9-10754FA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4E5-E101-40A1-B21A-88275DD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39F-7D6F-439B-83AD-C9F4545D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FF6-6869-46C2-BB4D-49FA780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255-227E-4D21-991A-5D49392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92B-E700-4562-A326-5036CED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59EB-81D5-44E3-980C-5A06C7C6A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835280" y="2060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Сложение д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375240" y="1196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.03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Александр Порфирьевич Бор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5640" y="5300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ё первое музыкальное произведение Бородин написал в 9 лет. Играл на фортепиано, флейте и виолонч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C0131146-Aleksander_Borodin,_Russian_chemist-SPL-edited3"/>
          <p:cNvPicPr/>
          <p:nvPr/>
        </p:nvPicPr>
        <p:blipFill>
          <a:blip r:embed="rId3"/>
          <a:stretch/>
        </p:blipFill>
        <p:spPr>
          <a:xfrm>
            <a:off x="1908000" y="1341360"/>
            <a:ext cx="521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Джоаккино Росс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55640" y="501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 первые работы в качестве композитора Россини начал выпускать уже к 12 год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1107791"/>
          <p:cNvPicPr/>
          <p:nvPr/>
        </p:nvPicPr>
        <p:blipFill>
          <a:blip r:embed="rId3"/>
          <a:stretch/>
        </p:blipFill>
        <p:spPr>
          <a:xfrm>
            <a:off x="2050920" y="1341360"/>
            <a:ext cx="5112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979200" y="119700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1763640" y="1125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498320" y="227664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/18 б) 19/18 в) 43/72 г) 9/15 д) 7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68360" y="981000"/>
            <a:ext cx="83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Как сравнить две дроби с одинаков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68360" y="2781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ложить две дроби с одинаков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84360" y="1844640"/>
            <a:ext cx="77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55640" y="371628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ложить две дроби с разн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042920" y="2060640"/>
            <a:ext cx="77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6699"/>
                </a:solidFill>
                <a:latin typeface="Arial"/>
              </a:rPr>
              <a:t>Еще в древности утверждали, что математика и музыка сест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2117880" y="3283560"/>
            <a:ext cx="59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Чтобы найти длину такта, нужно сложить дроб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Безымянный"/>
          <p:cNvPicPr/>
          <p:nvPr/>
        </p:nvPicPr>
        <p:blipFill>
          <a:blip r:embed="rId2"/>
          <a:stretch/>
        </p:blipFill>
        <p:spPr>
          <a:xfrm>
            <a:off x="971640" y="620640"/>
            <a:ext cx="7427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763640" y="494172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С музыкою веселей изучение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А без дроби так и сяк будет в нотах кава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Бей"/>
          <p:cNvPicPr/>
          <p:nvPr/>
        </p:nvPicPr>
        <p:blipFill>
          <a:blip r:embed="rId3"/>
          <a:stretch/>
        </p:blipFill>
        <p:spPr>
          <a:xfrm>
            <a:off x="3059280" y="3645000"/>
            <a:ext cx="3889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0" y="-243000"/>
            <a:ext cx="9155160" cy="710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971640" y="692280"/>
          <a:ext cx="7416720" cy="5113080"/>
        </p:xfrm>
        <a:graphic>
          <a:graphicData uri="http://schemas.openxmlformats.org/drawingml/2006/table">
            <a:tbl>
              <a:tblPr/>
              <a:tblGrid>
                <a:gridCol w="1431720"/>
                <a:gridCol w="2189160"/>
                <a:gridCol w="1203480"/>
                <a:gridCol w="1109520"/>
                <a:gridCol w="148284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5+1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5+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б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7+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тор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4+5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5+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5" descr="depositphotos_31442387-stock-photo-musical-instruments-oboe"/>
          <p:cNvPicPr/>
          <p:nvPr/>
        </p:nvPicPr>
        <p:blipFill>
          <a:blip r:embed="rId2"/>
          <a:stretch/>
        </p:blipFill>
        <p:spPr>
          <a:xfrm>
            <a:off x="6948360" y="2781360"/>
            <a:ext cx="1440000" cy="96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9" descr="339e_fdc7"/>
          <p:cNvPicPr/>
          <p:nvPr/>
        </p:nvPicPr>
        <p:blipFill>
          <a:blip r:embed="rId3"/>
          <a:stretch/>
        </p:blipFill>
        <p:spPr>
          <a:xfrm>
            <a:off x="6948360" y="4797360"/>
            <a:ext cx="14097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1" descr="1438755441_8-8"/>
          <p:cNvPicPr/>
          <p:nvPr/>
        </p:nvPicPr>
        <p:blipFill>
          <a:blip r:embed="rId4"/>
          <a:stretch/>
        </p:blipFill>
        <p:spPr>
          <a:xfrm>
            <a:off x="7380360" y="692280"/>
            <a:ext cx="577800" cy="104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3" descr="domra-4-hstrunnaya"/>
          <p:cNvPicPr/>
          <p:nvPr/>
        </p:nvPicPr>
        <p:blipFill>
          <a:blip r:embed="rId5"/>
          <a:stretch/>
        </p:blipFill>
        <p:spPr>
          <a:xfrm>
            <a:off x="7020000" y="175428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5" descr="LIpsDWCsPEZwDOqPzU3VXiwZJ_mkPunXnGeOyNguSw3V9AfJmtofK9G1G2cq3-5ZO_I"/>
          <p:cNvPicPr/>
          <p:nvPr/>
        </p:nvPicPr>
        <p:blipFill>
          <a:blip r:embed="rId6"/>
          <a:stretch/>
        </p:blipFill>
        <p:spPr>
          <a:xfrm>
            <a:off x="7164360" y="3789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78" name="Line 96"/>
          <p:cNvSpPr/>
          <p:nvPr/>
        </p:nvSpPr>
        <p:spPr>
          <a:xfrm>
            <a:off x="4356000" y="1125360"/>
            <a:ext cx="1584360" cy="1943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8"/>
          <p:cNvSpPr/>
          <p:nvPr/>
        </p:nvSpPr>
        <p:spPr>
          <a:xfrm>
            <a:off x="4211640" y="2133720"/>
            <a:ext cx="1873080" cy="21589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9"/>
          <p:cNvSpPr/>
          <p:nvPr/>
        </p:nvSpPr>
        <p:spPr>
          <a:xfrm>
            <a:off x="4067280" y="3213000"/>
            <a:ext cx="1944720" cy="19447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0"/>
          <p:cNvSpPr/>
          <p:nvPr/>
        </p:nvSpPr>
        <p:spPr>
          <a:xfrm flipV="1">
            <a:off x="4067280" y="2204640"/>
            <a:ext cx="1873080" cy="2879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1"/>
          <p:cNvSpPr/>
          <p:nvPr/>
        </p:nvSpPr>
        <p:spPr>
          <a:xfrm flipV="1">
            <a:off x="3924360" y="1196640"/>
            <a:ext cx="2016000" cy="2879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692360" y="306864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rkestr_Polya_Moria_Muzyka_iz_k_filma_Cygan4ik_(mp3co.ooo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240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175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Сергей Сергеевич 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Сергей Сергеевич Прокофьев."/>
          <p:cNvPicPr/>
          <p:nvPr/>
        </p:nvPicPr>
        <p:blipFill>
          <a:blip r:embed="rId3"/>
          <a:stretch/>
        </p:blipFill>
        <p:spPr>
          <a:xfrm>
            <a:off x="2627280" y="1413000"/>
            <a:ext cx="3198960" cy="3456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900000" y="5157720"/>
            <a:ext cx="66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читают русским музыкальным вундеркиндом: композировал он с 5 лет, в 9 написал две оперы, а в 13 лет стал студентом Санкт-Петербургской консерватори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Людвиг ван Бетхо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55640" y="51577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Бетховена, мечтавший сделать из сына великого исполнителя, запрещал ему сочинять музыку – ребёнок не должен был отвлекаться. К счастью для искусства, мальчик оказался не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i?id=26172ce5325f4bf2ac6830655bc61813-l&amp;n=13"/>
          <p:cNvPicPr/>
          <p:nvPr/>
        </p:nvPicPr>
        <p:blipFill>
          <a:blip r:embed="rId3"/>
          <a:stretch/>
        </p:blipFill>
        <p:spPr>
          <a:xfrm>
            <a:off x="1692360" y="1341360"/>
            <a:ext cx="51433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6:59:24Z</dcterms:created>
  <dc:creator>МКОУ Белогорьевская СОШ</dc:creator>
  <dc:description/>
  <dc:language>en-US</dc:language>
  <cp:lastModifiedBy>3</cp:lastModifiedBy>
  <dcterms:modified xsi:type="dcterms:W3CDTF">2018-04-09T11:16:07Z</dcterms:modified>
  <cp:revision>5</cp:revision>
  <dc:subject/>
  <dc:title>Слайд 1</dc:title>
</cp:coreProperties>
</file>