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58A-895F-4510-83CB-74172074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F1F-658C-48D3-8996-6FBC50A8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1DDE3-F099-4DD8-ABF1-0EA93E50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910A7-39A1-4F5D-86F2-DD4FBE2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C58A0-766A-47CB-BFB5-7F633965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B0FFB-FB8B-4A6D-A1EE-35EC5AD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31849-88E6-4449-A4DB-47C55AE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BC7957-E360-43DD-BB0C-E6EE25C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997F09-C59D-477A-963C-37FE25B5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1EDBB9-63C6-48CA-BB0E-2FBE0687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02A47-6D88-4650-84D1-23A2C81D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733-0031-440A-8698-C900D5EA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C97-7DDA-42F6-92F7-F30114A0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B65C9-78E5-48FB-86DE-3DB49210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8D7D0-B40C-4D5E-A493-62B23EAC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755BF-DF8F-46FF-A3C3-BDCF986A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6F88D-3284-4152-96DB-9114CD08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46184-839F-4D92-97BE-C9B6CFE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749F5-391C-400A-AC53-92CE5768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34ECE-4A65-4BAE-94F8-97A007F7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59A-0C15-4669-B993-E15DB776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9636-AC28-41E8-8541-74DFDDE7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C568C-1248-4FB6-AAFA-A621D083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A3E86-4610-46D2-8F8F-BEAE294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5465D-C627-4ACF-AFC1-94EF4B82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0DD0-CE67-41ED-9879-0C7E2CA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1CC8-5D7F-47FB-9943-492562AD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C415-051B-49BF-8048-4A4D81DE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2AB8-C3D8-400E-87CC-6709681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1366-80DD-4676-B61F-1E9701A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80F7-0BAF-46E3-89A7-9F280E3B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02A-FA6F-44AB-8761-E46A8CF4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CAFB-A5BE-4AA0-9489-2E143DB4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0BF5-4A64-4D1D-93CF-FB89A7F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09A03-5235-4A87-8D47-22F86939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8DF2-3725-4FE5-9518-62B0A2D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4147-09D9-425B-8129-E231F0A7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FA84-DB4A-4ED5-A314-553BE209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8E38-1754-46B1-B926-9B335EA9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426BC-9FEF-43D0-9E02-7FB46EE4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CDC58-2357-45DB-B1FF-B38BAC0A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4FB30-CC71-406C-B341-38107290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52A-D314-48C0-8ECA-471B7609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A4CB1-9C14-4563-9533-64AF8C4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CA5EC-CB25-4B7B-94A2-9CB09D3E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AF82C-6B40-448F-81E9-68CFCC57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77B4F-2581-4D9C-BFDD-043B0848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F0663-0743-48B0-9C83-EF9A432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A640C6-F098-4776-AAFB-9BE1F24C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41504-F422-4372-AB1D-C7F311D2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B7881-44B8-4FDA-8B29-61E31831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5E145-4CE4-4463-A749-93CB73C1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7C20-BB2C-4707-B0E9-87083DB5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51E-CC73-41E2-A89B-C04F9069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7E986-ADA9-494B-AF17-76207AD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29B7-CB62-4297-A40F-3023CEC9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0806-3DF3-4C00-A105-5F59E22C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B892-A7DC-4EA7-9A5A-1BA1653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E495-58AB-4753-8EA2-1DDBB1F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D0425-FC41-4576-9DEF-4B14BF82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22E9-DBF5-4ACA-AB51-ED50D8C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381F4-A111-46A7-BC23-760E450E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3820-4602-4DC3-86F5-1051A312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B325-9877-4204-BFE3-514C739C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A3B-B37A-4B63-A58E-E2E6420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F1321-3BB3-4D39-BCB3-1F447D30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FE3C-A048-41A9-AD6F-971357BE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DB42-E027-444F-8673-E4841D8D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A676D-5032-46D7-B536-691DC51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8398-51E3-4DB9-BAD1-97F5F04D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4B01-5BD7-470B-8966-7F10E60C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C6CC-D322-4975-B710-80AEBB2E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C831-07D0-47F4-9751-B5439EC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F685-A83A-4805-8C28-8C583CD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6E6C-12A4-4A6B-817B-EA2313B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B3E-86ED-4006-A83D-ACE19C45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883A-A9E8-488B-96A1-2BC19AB6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33C42-33EE-4780-87CC-BFB5640C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2E08-9017-4603-B778-6347921C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E0836-399A-49CE-AEAA-8AAC6202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542B2-13AB-43F9-BF27-EC3D019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F1F9-F01D-4E3F-AE94-A247B460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AEF9-73E3-4143-8D94-6652EBB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7F4A3-AB64-42B9-8EA5-AD7CAFCF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5ECDC-337C-4B76-812B-2C2257A9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4AE2-1D4C-4685-8AD1-A9972ED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827-7910-47DE-A4A6-54ECA4A6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AB9A5-1D9A-4976-B1B0-9A8227C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32ADC-9E65-49B3-83D8-B3345135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0797-EC05-4A82-BDE6-7B41B466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2626-FB5C-490B-9297-C2DF6BB7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44A9A-CB78-45E3-890B-BC5C7EB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7E911-8594-4FFB-9CBC-856772B7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F9F47B-850E-40A6-B84E-6BE3C1E6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0552C-053D-476C-AE91-39302FA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70476-F782-40AA-B248-1CA951B8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1210E5-0B9E-43D6-82D2-EFE64F2E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75B-22E1-4F6F-8541-906214C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E444B6-6486-435F-8615-E74FC71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2CEC70-A600-49D7-841C-F47B9302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85C55-E6CB-40C9-83A0-667F44E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B5A56-1FB5-4671-A203-E6D9375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5D180B-0AE6-4EBD-B691-00AC7A75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D2604-937F-489C-A861-71446FBF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F37A3-AA9A-48AA-AE9F-BF493774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512D1-C915-4E6A-8777-6D0FA859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C855D2-FE14-4F08-8E4C-AB631F85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C1D0B5-CA72-44E3-B5C1-2364240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FF2C-EF79-4679-B00E-5676C8F87C8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056-68A9-4971-A923-433DF68EC1F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7BD-26A2-4644-B3E6-2232A99148D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F3A1-F26E-4531-8A6B-95948A86A22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BDB-4FDE-43AF-956F-405E2B3F197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CBEA-0D62-4965-8AFE-0ADE608480B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30D0-032A-4DAE-8BD9-3720DF46DAA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A60-A0E8-4AA5-B9E1-51DD4CE03BE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4A4B-F22D-400E-AEDE-DDE2DC49CDB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2" descr="C:\Users\user\Downloads\2-pag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user\Downloads\2-page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25360" y="-237960"/>
            <a:ext cx="8699400" cy="1768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4114800" y="2743200"/>
            <a:ext cx="5029200" cy="411480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4"/>
          <p:cNvSpPr/>
          <p:nvPr/>
        </p:nvSpPr>
        <p:spPr>
          <a:xfrm>
            <a:off x="609480" y="30492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физик и химик, работала во Франции, член академий многих стран, в том числе член-корреспондент Петербургской академии наук, а затем почетный член Академии наук СССР, дважды лауреат Нобелевских премий, совместно с мужем открыла радиоактивные элементы полоний и радий. Я по поручению Брюссельского радиологического конгресса изготовила первый эталон радия, до сих пор хранящийся в Международном бюро мер и весов. Кто я?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user\Downloads\c20d45fe73c26eef8538f668469e6867178ce07d.jpg"/>
          <p:cNvPicPr/>
          <p:nvPr/>
        </p:nvPicPr>
        <p:blipFill>
          <a:blip r:embed="rId3"/>
          <a:stretch/>
        </p:blipFill>
        <p:spPr>
          <a:xfrm>
            <a:off x="685800" y="2895480"/>
            <a:ext cx="2895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25360" y="-237960"/>
            <a:ext cx="8699400" cy="17683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6840" y="1646280"/>
            <a:ext cx="3429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0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380880" y="1447920"/>
            <a:ext cx="8763120" cy="541008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4"/>
          <p:cNvSpPr/>
          <p:nvPr/>
        </p:nvSpPr>
        <p:spPr>
          <a:xfrm>
            <a:off x="2819520" y="457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146160" y="-847800"/>
            <a:ext cx="8955000" cy="2249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46160" y="139680"/>
            <a:ext cx="897876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3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382240" cy="228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4191120" y="1981080"/>
            <a:ext cx="4952880" cy="464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user\Downloads\800px-Roentgen2.jpg"/>
          <p:cNvPicPr/>
          <p:nvPr/>
        </p:nvPicPr>
        <p:blipFill>
          <a:blip r:embed="rId3"/>
          <a:stretch/>
        </p:blipFill>
        <p:spPr>
          <a:xfrm>
            <a:off x="457200" y="19810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25360" y="-237960"/>
            <a:ext cx="8858160" cy="1768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2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F:\Sergey_Kapitsa (1).jpg"/>
          <p:cNvPicPr/>
          <p:nvPr/>
        </p:nvPicPr>
        <p:blipFill>
          <a:blip r:embed="rId3"/>
          <a:stretch/>
        </p:blipFill>
        <p:spPr>
          <a:xfrm>
            <a:off x="152280" y="1676520"/>
            <a:ext cx="3733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359080" y="311040"/>
            <a:ext cx="4290840" cy="1451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6840" y="1600200"/>
            <a:ext cx="3962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граниченная область пространства, в которой потенциальная энергия частицы меньше, чем вне нее?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2. Химический элемент, представляющий собой газ без запаха и цвета, обладающий сверхтекучестью и применяется в технике низких температур? 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3. Чтобы получить француза, надо итальянца поделить на немца. Кстати, формула, по которой мы считаем, как раз в честь этого немца и названа. Назовите всех троих.  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6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4343400" y="14479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432160" y="-6480"/>
            <a:ext cx="4340160" cy="1238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35812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начала он плавал, потом стал и летать. Он многим, будучи их проводником, спас жизнь. Он не любит большую жару и сильную тряску. Он всегда целенаправлен. Он безразличен к драгоценным металлам и алмазам, но волнуется при взаимодействии с железом. 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9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4114800" y="160020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25360" y="-237960"/>
            <a:ext cx="8699400" cy="1768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6840" y="1646280"/>
            <a:ext cx="3429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Имеются два бруска льда одинаковой массы, взятые при разных температурах, равных соответственно 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ambria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 и –25</a:t>
            </a:r>
            <a:r>
              <a:rPr b="1" lang="ru-RU" sz="2400" spc="-1" strike="noStrike" baseline="30000">
                <a:solidFill>
                  <a:srgbClr val="ffffff"/>
                </a:solidFill>
                <a:latin typeface="Cambria"/>
              </a:rPr>
              <a:t>0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С. У какого бруска самый большой объем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Picture 2" descr="C:\Users\user\Downloads\2-page-1.jpg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541008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4"/>
          <p:cNvSpPr/>
          <p:nvPr/>
        </p:nvSpPr>
        <p:spPr>
          <a:xfrm>
            <a:off x="2819520" y="457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НЫЙ Я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7T22:30:43Z</dcterms:created>
  <dc:creator>user</dc:creator>
  <dc:description/>
  <dc:language>en-US</dc:language>
  <cp:lastModifiedBy>user</cp:lastModifiedBy>
  <dcterms:modified xsi:type="dcterms:W3CDTF">2021-10-19T19:21:5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