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854-ED41-42FA-94DD-FC2AE5AD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085-CE1B-4350-BB04-7C5646A1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A76-7958-4AF7-88D1-F405426D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DD3-09EA-4810-AA57-2DA0C57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C80-BFD6-4526-9E79-4B9BD26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1B7-A8A6-4F37-850D-419D468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DDB-CEDE-415C-98D2-A3CFB412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5CF-948C-4634-9DE7-CD444A68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A8F-B16D-42E8-A054-89DA115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32E-FBBF-4483-8383-1782889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3CA-5EC2-41E0-B3C4-269A9C3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EE8-0F24-44BB-B62F-DC47A01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C0F3-AC14-439B-A964-311F8130D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Пока человек чувствует боль – он жив. Пока человек чувствует чужую боль – он </a:t>
            </a: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Человек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Франсуа Ги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egoe Script"/>
              </a:rPr>
              <a:t>(Французский историк, политический дея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 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Тезис.Вступ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 Аргументы (доказательства).Основная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 Вывод. Заключ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Композиция сочинения-рассужд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Script"/>
              </a:rPr>
              <a:t>Тезис –сформулированное определение понят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+ комментарий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В комментарии нужно показать актуальность, жизненность, важность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Связать вступление с основной частью можно с помощью речевых  клиш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Попробуем разобраться в смысле этого поня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Попробуем  объяснить это опре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Докажу справедливость своих слов на конкретных приме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Избегайте такой формулировки: Человечность – это когд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863640" y="612720"/>
            <a:ext cx="714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Аргументы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В основной части аргументируется тезис. Необходимо привести 2 пример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1) из указанного текс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2)из жизненного опыта (или читательский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Для включения в сочинение примеров-аргументов можно использовать такие речевые клиш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Чтобы подтвердить сказанное, обратимся к текс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Проиллюстрировать это понятие можно на примере текста (указать автора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Это определение можно доказать на таком прим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В подтверждение приведу пример из жиз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93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Заключение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812880" y="1055520"/>
            <a:ext cx="725148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Заключение, так же как и вступление, не должно превышать по объему основную часть сочин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Задача заключения- обобщить сказанное, подвести ит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Начать заключение можно вводными словами: итак, следовательно, таким обра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Или речевыми клише: мы пришли к выводу, подводя итог, делая выводы из вышеизложенного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1160" y="1872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Script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270080"/>
            <a:ext cx="7886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Научились работать над сочинени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Расширили свой кругоз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Развили свой словарный зап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Какое качество в себе воспитыв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было труд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было особенно полез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удивило? Порадовало? Опечалил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Написать сочинение-рассуждение на тему: «Что такое человечно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966960"/>
            <a:ext cx="7886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Segoe Script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3760" y="6318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Тема урок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чинение-рассуждение на морально-этическую тему. Задание 9.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0720" y="3031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«Что такое человечность»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Задание 9.3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8240" y="847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ы понимаете значение сло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ч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Сформулируйте и прокомментируйте данное определение. Напишите сочинение-рассуждение на тему: «Что такое человечность?»,взяв в качестве тезиса данное Вами определ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гументируя свой тезис, приведите 2 примера-аргумента, подтверждающих Ваши рассуждения: один пример-аргумент приведите из прочитанного текста, а второй - из Вашего жизненного опы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ём сочинения должен составлять не менее 70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очинение представляет собой пересказанный или полостью переписанный текст, без каких бы то ни было комментариев, то такая работа оценивается нулём баллов. Сочинение пишите аккуратно, разборчивым почер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Значение слова человечност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Синонимы: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гуманность, доброта, отзывчивость, сочувствие, забота, внимание, сострадание, милосердие, человеколюби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Антонимы: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равнодушие, эгоизм, бездушие, черствость, безжалостнос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Способы толкования лексического значения слова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1 Понятийный (перечисление основных признаков, составляющих понят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2 Синонимический (путем подбора синоним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3 Описательный (описание значения путем указания на важные признаки предмета(явления или действ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4 Комбинированный (совокупность способ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СЛОВАР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966960"/>
            <a:ext cx="7886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ЧЕЛОВЕЧНОСТЬ – ГУМАННОСТЬ, ЧЕЛОВЕЧЕСКОЕ ОТНОШЕНИЕ К ОКРУЖАЮЩИМ. (Толковый словарь Ушак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ЧЕЛОВЕЧНОСТЬ-МОРАЛЬНОЕ КАЧЕСТВО, ВЫРАЖАЮЩЕЕ ПРИНЦИП ГУМАННОСТИ, ПРИМЕНИТЕЛЬНО К ПОВСЕДНЕВНЫМ ВЗАИМООТНОШЕНИЯМ. ВКЛЮЧАЕТ РЯД ЧАСТНЫХ КАЧЕСТВ: БЛАГОЖЕЛАТЕЛЬНОСТЬ, УВАЖЕНИЕ К ЛЮДЯМ, СОЧУВСТВИЕ И ДОВЕРИЕ К НИМ, ВЕЛИКОДУШИЕ, САМОПОЖЕРТВОВАНИЕ РАДИ ИНТЕРЕСОВ ДРУГИХ. (Философский словар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Человечность- поведение, достойное человека, отзывчивость, гуманность. (Словарь русского языка Ожег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натолий Игнатьевич Приставки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24320" y="1218960"/>
            <a:ext cx="4176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1931 - 2008) — советский и российский писатель, общественный деяте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Anatoly_Ignatyevich_Pristavkin.jpg"/>
          <p:cNvPicPr/>
          <p:nvPr/>
        </p:nvPicPr>
        <p:blipFill>
          <a:blip r:embed="rId1"/>
          <a:stretch/>
        </p:blipFill>
        <p:spPr>
          <a:xfrm>
            <a:off x="738360" y="1725480"/>
            <a:ext cx="317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ЧЕЛОВЕЧЕСКИЙ КОРИДО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358640"/>
            <a:ext cx="788688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)Это было в сорок первом году. 2)Темная и суровая Москва, спасая нас, детей, от войны, погрузила в </a:t>
            </a:r>
            <a:r>
              <a:rPr b="1" lang="ru-RU" sz="1600" spc="-1" strike="noStrike">
                <a:solidFill>
                  <a:srgbClr val="000000"/>
                </a:solidFill>
                <a:latin typeface="Segoe Script"/>
              </a:rPr>
              <a:t>поезда</a:t>
            </a: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 и отправила в Сибирь. 3)Мы ехали медленно, задыхаясь от недостатка кислорода и страдая от голода. 4)В Челябинске нас высадили и повели на вокзал. 5)Была ночь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6)— Здесь есть пища, — сказал Николай Петрович, сутулый, желтый от болезни челове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7)Вокзал хлестанул по глазам ярким светом. 8)Но скоро мы увидели и другое. 9)Многотысячная толпа беженцев осаждала единственный ресторан. 10)Там, как нам казалось, шевелилось что-то черное, и ухало, и кричало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1) Ближе к нам, прямо на рельсах, стояли, сидели, лежали люди. 12)Здесь начиналась очередь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3)Мы стояли и смотрели на окна. 14)Там было тепло, там раздавали людям горячую, дымящуюся жизнь, наполняя ею тарелки. 15)Потом встал наш Николай Петрович на ящик и что-то закричал. 16)И нам было видно, как он нервно вздергивает острые плечи. 17)И голос у него слабый, голос чахоточного человека. 18)Кто из этих голодающих, сутками простаивающих беженцев сможет его услышать?.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9)А люди вдруг зашевелились. 20)Они подались назад, и маленькая трещинка расколола черную толпу. 21)А потом мы увидели еще: какие-то люди взялись за руки и образовали коридор. 22)Человеческий коридор..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23)Я потом побродил немало, но всегда мне казалось, что я не перестаю шагать этим человеческим коридором. 24)А тогда — мы шли через него, качающийся, живой, трудный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25)И мы не видели лиц, просто стена больших и верных людей. 26)И яркий свет вдали. 27)Свет, где нам было очень тепло, где и нам отвалили по целой порции жизни, горячей жизни, наполнив ею до краев дымящиеся тарелки. (А. Приставк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3760" y="313920"/>
            <a:ext cx="78865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Segoe Script"/>
              </a:rPr>
              <a:t>Орфографическая работ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сострадание сопережи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сочувств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6:35:35Z</dcterms:created>
  <dc:creator>Инна</dc:creator>
  <dc:description/>
  <dc:language>en-US</dc:language>
  <cp:lastModifiedBy>User</cp:lastModifiedBy>
  <dcterms:modified xsi:type="dcterms:W3CDTF">2020-03-11T19:24:53Z</dcterms:modified>
  <cp:revision>42</cp:revision>
  <dc:subject/>
  <dc:title>Презентация PowerPoint</dc:title>
</cp:coreProperties>
</file>