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E8247-CDFE-4B1E-A763-50AC612F3D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E38E5-47AF-45D8-A7D0-7F78AE922F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04286-270E-4A4D-A931-6C3C552D36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A1BFE-3C7C-4D60-94AB-FF237F950B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0A081-8FFF-42F1-A8AD-D471298884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B181-B6A9-449C-A108-A711BB5E95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F17C7-2B54-4913-AD53-6F24819D57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6CD40-A66E-4CB5-9BA1-1A79BB4B74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D7CE6-82E3-423E-9ADD-054E231207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EA5FA-0B7D-487A-BBBC-F42968EA68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9BFB6-FCDA-4736-8AF0-C60C03C3F1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39803-A8B3-44D8-BE1A-CD41A6F099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5D147-C9A2-4584-A668-071AC2FC17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ECE4C-8A99-4FD9-9084-A5838F198D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E9DA4-16C1-4664-A627-8B17B1FCF6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7640" cy="399420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75564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5850A-BAEF-410B-B223-CD048A415A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848E2-0550-41CC-8A12-B42EF9CA87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B5558-5971-4106-BF23-AFD0A31277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877D4-919C-4533-9E84-3B1DCB8302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2455E-A00E-4316-A1B4-044866EDD0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AF084-9240-49CC-95D8-CE15275E81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35BAB-DC45-4ABF-80DE-B769693726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78ACA-34CC-496B-AC45-F88041ABFD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8545E-88D0-4427-BE08-AEB3EC5798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596D4-B9ED-4840-A72B-0146F0FF7A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CBBC2-D191-45E7-B291-7703CE3BCD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3CDC-248D-4DAA-B941-BFF420E1AD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AA0D4-3ACA-47C8-800B-4AA0906F6C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AD69-0153-42CF-9E23-671D29DA28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ED044-9047-47CD-B502-5306DC8C67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B6C0A-49E3-4CA1-8269-4B65066258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E56AB-FC91-4875-ACE6-4E58463B9F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B6728-457B-4585-B2AB-E34E5593C5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DFA16-AAA2-47E1-AB73-0DE05FC0D1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8ECB4-A78D-4CE8-B99C-F788963890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4C6DE-4716-45AF-8698-1A74A086D9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5D07E-8CD4-4100-A3CB-CC37C061FA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5584-3E2F-4AD8-91A5-4A3FA6E664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7640" cy="39942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75564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578C3-2BE7-4667-89FD-C3A21AECD6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EDF7F-1BCD-408A-A669-5990812BA6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DF65-BCFE-4CEA-A802-51BC80011C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500BA-4DEA-4FD6-8654-98A4FBA171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8A4A4-3A2B-4992-9175-EDAF9D9CFC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2548D-335B-49DA-8C14-7743C2476D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665A-B55A-4CCD-9DB3-B5EDDFF581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FA2D-63C7-458D-8DF7-FD98D9ACDD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08F34-772F-48EB-9252-916C7950E3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CD9B4-A682-4518-841E-EC23B4355A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85702-4E76-456B-A230-C524D90004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49856-3126-4C58-8CED-C8B325A657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23462-4FE1-4742-AE83-DFFC726BB6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ACD00-6EBC-4B60-8DE0-C21A4BFF7D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7640" cy="3994200"/>
          </a:xfrm>
          <a:prstGeom prst="rect">
            <a:avLst/>
          </a:prstGeom>
          <a:ln w="0">
            <a:noFill/>
          </a:ln>
        </p:spPr>
      </p:sp>
      <p:sp>
        <p:nvSpPr>
          <p:cNvPr id="303" name="Text Box 2"/>
          <p:cNvSpPr/>
          <p:nvPr/>
        </p:nvSpPr>
        <p:spPr>
          <a:xfrm>
            <a:off x="75564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B6867-D433-4093-99D2-65415F280C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628E-B36B-4811-B9ED-32BDBF5C6E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F1CB8-73B9-4D5E-80BD-BA15F5E57B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EDAB3-52D8-4AB2-A60C-7D2F1D5558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5C183-1C0C-4C2A-AE9F-877C2EF97F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CCB1B-963E-4568-A400-FEFF2E021E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CF72B-5028-4C9E-9B2F-4848B2424B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177CF-0D52-4126-BF6A-4FE680A6C3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87AF3-7BBC-4DBE-9DE8-B8D3CFE38A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5355D-AD88-4C7D-901C-B5BF7580D6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D8410-7DA5-4C00-8301-9B2554FDCB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B39F7-AFCC-4AE0-968A-854C30D4B3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0A9B5-392E-4BCC-9D40-C4E43250E2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129-6316-49C9-838F-0C838D85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C56-D9A9-4656-9C99-028E89F0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61D-76A3-48B3-AF42-D14DBF8D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309-F560-467C-99E7-E67A09AD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92C-734B-4AFF-850F-E4D69F55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16D-1A7B-462A-BC25-2A2383D6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AE9-8EEC-4934-A629-92E35F9A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7A5-E248-40D2-87B6-102B0208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B5D-CA46-45D0-9819-F76B30F7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EA1-DBFD-4051-961F-2E68D9B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294-09E3-4496-8E9E-1219B5C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981-71F5-4427-B23F-C09774EA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C43EA-AAF6-44C2-AADF-3C3D42A354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file:///F:/&#1053;&#1086;&#1074;&#1086;&#1075;&#1086;&#1076;&#1085;&#1103;&#1103; &#1083;&#1080;&#1090;&#1077;&#1088;&#1072;&#1090;&#1091;&#1088;&#1085;&#1072;&#1103; &#1074;&#1080;&#1082;&#1090;&#1086;&#1088;&#1080;&#1085;&#1072;/10.1.1.mp3" TargetMode="External"/><Relationship Id="rId2" Type="http://schemas.microsoft.com/office/2007/relationships/media" Target="file:///F:/&#1053;&#1086;&#1074;&#1086;&#1075;&#1086;&#1076;&#1085;&#1103;&#1103; &#1083;&#1080;&#1090;&#1077;&#1088;&#1072;&#1090;&#1091;&#1088;&#1085;&#1072;&#1103; &#1074;&#1080;&#1082;&#1090;&#1086;&#1088;&#1080;&#1085;&#1072;/10.1.1.mp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file:///F:/&#1053;&#1086;&#1074;&#1086;&#1075;&#1086;&#1076;&#1085;&#1103;&#1103; &#1083;&#1080;&#1090;&#1077;&#1088;&#1072;&#1090;&#1091;&#1088;&#1085;&#1072;&#1103; &#1074;&#1080;&#1082;&#1090;&#1086;&#1088;&#1080;&#1085;&#1072;/10.1.2.mp3" TargetMode="External"/><Relationship Id="rId2" Type="http://schemas.microsoft.com/office/2007/relationships/media" Target="file:///F:/&#1053;&#1086;&#1074;&#1086;&#1075;&#1086;&#1076;&#1085;&#1103;&#1103; &#1083;&#1080;&#1090;&#1077;&#1088;&#1072;&#1090;&#1091;&#1088;&#1085;&#1072;&#1103; &#1074;&#1080;&#1082;&#1090;&#1086;&#1088;&#1080;&#1085;&#1072;/10.1.2.mp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file:///F:/&#1053;&#1086;&#1074;&#1086;&#1075;&#1086;&#1076;&#1085;&#1103;&#1103; &#1083;&#1080;&#1090;&#1077;&#1088;&#1072;&#1090;&#1091;&#1088;&#1085;&#1072;&#1103; &#1074;&#1080;&#1082;&#1090;&#1086;&#1088;&#1080;&#1085;&#1072;/10.1.3.mp3" TargetMode="External"/><Relationship Id="rId2" Type="http://schemas.microsoft.com/office/2007/relationships/media" Target="file:///F:/&#1053;&#1086;&#1074;&#1086;&#1075;&#1086;&#1076;&#1085;&#1103;&#1103; &#1083;&#1080;&#1090;&#1077;&#1088;&#1072;&#1090;&#1091;&#1088;&#1085;&#1072;&#1103; &#1074;&#1080;&#1082;&#1090;&#1086;&#1088;&#1080;&#1085;&#1072;/10.1.3.mp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90709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Mistral"/>
                <a:ea typeface="Times New Roman"/>
              </a:rPr>
              <a:t>Новогодняя литературная викторина «Самый умный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0360" y="2958840"/>
            <a:ext cx="92138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одгото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ОУ «СОШ № 5 г. Балаково Саратовской об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Дмитрий Сергеевич Жи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6000" y="28796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k.cc/5ZBkq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" y="-129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Как ласково называют Деда Мороза в некоторых русских сказ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Морозил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Морозк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Морозец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Холодец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76000" y="17928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ак называется сказка В. Ф. Одоевског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«Мороз Иванович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«Холод Петрович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«Колотун Николаевич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«Стужа Семёновна»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2920" y="108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ую сказку написал Х. К. Андерсе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«Ель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«Сосн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«Пихт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«Кедр»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47280" y="-3204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) В каком году в журнале «Малютка» было опубликовано стихотворение «Ёлочка» («В лесу родилась ёлочка...») Р. А. Кудашевой, к которому впоследствии композитор Л. К. Бекман написал музы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190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190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19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1904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7600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5) Кто придумал Планету новогодних ёлок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А. Барт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Бр. Грим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А. Линдгре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Дж. Родар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2920" y="-22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6) Кто написал стихотворение «Ёлка в школе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А. Н. Плещее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М. В. Исаковск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С. В. Михалк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А. Л. Барто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36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ЖЕРЕБЬЁВКА ПЕРЕД I ПОЛУФИНАЛО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-34920" y="4680"/>
          <a:ext cx="10080720" cy="7880400"/>
        </p:xfrm>
        <a:graphic>
          <a:graphicData uri="http://schemas.openxmlformats.org/drawingml/2006/table">
            <a:tbl>
              <a:tblPr/>
              <a:tblGrid>
                <a:gridCol w="5038560"/>
                <a:gridCol w="5042160"/>
              </a:tblGrid>
              <a:tr h="188928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) А. С. Пушкин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) «Снегурочка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0824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2) А. Н. Островский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б) «Вечера на хуторе близ Диканьки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88892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3) И. А. Гончаров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в) «Метель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89396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4) Н. В. Гоголь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г) «Обломов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 ПОЛУФИН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ВОПРОСЫ ПРО НОВЫЙ Г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10082160" cy="7558200"/>
        </p:xfrm>
        <a:graphic>
          <a:graphicData uri="http://schemas.openxmlformats.org/drawingml/2006/table">
            <a:tbl>
              <a:tblPr/>
              <a:tblGrid>
                <a:gridCol w="3359160"/>
                <a:gridCol w="3360600"/>
                <a:gridCol w="336240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Музы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Кинемато-гра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Живопис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0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Библейские предан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заи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эт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Драматур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изведени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ерсонаж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 2 сраз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Секр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48000" y="5688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44360" y="71280"/>
            <a:ext cx="979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Великий русский композитор XX в. Георгий Свиридов написал всемирно известные музыкальные иллюстрации к «зимней» повести А. С. Пушкина, отрывок из которых только что прозвучал. Как называется эта пове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44360" y="179280"/>
            <a:ext cx="979164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Чудесный фильм 1964 года знаменитого советского режиссёра Александра Роу, которого по праву можно считать одним из основателей детского кино в СССР — это экранизация сказки о плохой дочери и хорошей падчерице. По какой русской народной сказке был снят одноимённый с ней филь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Почему сказка «Морозко» приводит в ужас американцев"/>
          <p:cNvPicPr/>
          <p:nvPr/>
        </p:nvPicPr>
        <p:blipFill>
          <a:blip r:embed="rId1"/>
          <a:stretch/>
        </p:blipFill>
        <p:spPr>
          <a:xfrm>
            <a:off x="2771640" y="3708360"/>
            <a:ext cx="4537080" cy="35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7636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На слайде представлены иллюстрации Ольги Ионайтис. Моменты какого произведения на них запечатле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то его напис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8440" y="4172040"/>
            <a:ext cx="2635560" cy="339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664000" y="4172040"/>
            <a:ext cx="2641320" cy="3394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5305320" y="4165560"/>
            <a:ext cx="2646360" cy="339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7931160" y="4176720"/>
            <a:ext cx="2652840" cy="339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0" y="1781280"/>
            <a:ext cx="1871640" cy="23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6"/>
          <a:stretch/>
        </p:blipFill>
        <p:spPr>
          <a:xfrm>
            <a:off x="8207280" y="1770120"/>
            <a:ext cx="186372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В каких книгах Евангелия повествуется о событиях Святой ночи Рожде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вятитель Николай Сербский. Рождество Христово. Евангелие о Первенце. |  www.newmartyros.ru"/>
          <p:cNvPicPr/>
          <p:nvPr/>
        </p:nvPicPr>
        <p:blipFill>
          <a:blip r:embed="rId1"/>
          <a:stretch/>
        </p:blipFill>
        <p:spPr>
          <a:xfrm>
            <a:off x="2448000" y="2484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Чудная карти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 ты мне род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лая равни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лная лу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вет небес выс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 блестящий 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 саней далё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динокий б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эта, который написал это стихотворение, известный отечественный филолог M. Л. Гаспаров назвал безглагольным. Назовите имя и фамилию поэ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Зима!.. Крестьянин, торжеств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 дровнях обновляет п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го лошадка, снег по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етется рысью как-нибу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разды пушистые взры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етит кибитка удал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Ямщик сидит на облу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тулупе, в красном куша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от бегает дворовый мальч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салазки жучку поса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ебя в коня преобраз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Шалун уж заморозил пальч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му и больно и сме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 мать грозит ему в ок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з какого произведения А. С. Пушкина это описание зи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576360" y="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Обломов, герой романа И. А. Гончарова, так встречает посетителей, зашедших к нему: «Не подходите, не подходите: вы с холода!.. Не подходи, не подходи! Ты с холоду». В каком месяце происходит действие в этих сценах ром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Гости Обломова в романе Обломов: характеристика в таблице"/>
          <p:cNvPicPr/>
          <p:nvPr/>
        </p:nvPicPr>
        <p:blipFill>
          <a:blip r:embed="rId1"/>
          <a:stretch/>
        </p:blipFill>
        <p:spPr>
          <a:xfrm>
            <a:off x="2592360" y="2916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576360" y="2340000"/>
            <a:ext cx="9070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В одном из литературных произведений герой отправляется за обувью для своей возлюбленной, в другом — обувь используется для гадания. Назовите два эти произведения и их ав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66560" y="19080"/>
            <a:ext cx="907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Три светлых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ри светлых царя из восточно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учались у всяких доми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равлялись: как пройти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 девочек всех, у мальчи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и старый, ни малый не мог расс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ари прошли все стра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юбовным лучом золот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пути разгоняла тум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д домом Иосифа встала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ни туда постуч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ычал бычок, кричало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ри светлых царя распев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ому событию посвящено стихотворение Г. Ге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Кто в 1700 году издал указ, согласно которому Новый год необходимо отмечать первого январ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I ОТБОРОЧНЫЙ ТЕ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76000" y="28796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k.cc/5ZBQAJ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892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Как звали мальчиков из рассказа Аркадия Гайдара, приехавших к отцу в далёкую тайгу встречать Новый год с геологической экспедиц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Том и Джер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Сойер и Фин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Иван Иванович и Иван Никифорови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Чук и Г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92000" y="0"/>
            <a:ext cx="9071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то из братьев-месяцев подарил падчерице колечко в сказке С. Я. Маршака «Двенадцать месяцев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Январ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Мар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Апрел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Декабр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92000" y="-1296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Чечевицын – «Монтигомо Ястребиный Коготь». Это герой какого новогоднего рассказ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А. П. Чехов «Мальч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А. И. Куприн «Тапёр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О. Генри «Дары волхв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Х. К. Андерсен «Девочка со спичкам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000" y="-129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) У какого русского поэта есть цикл стихотворений «Круглый год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С. В. Михал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К. И. Чуковск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С. Я. Марша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А. С. Пушки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1892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5) В какой стране находились владения Снежной королевы в сказке Х. К. 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ндерсе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нлянд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Норвег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Лапланд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Швец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18920" y="-32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6) Как называлась деревня, в которой в рождественскую ночь произошли удивительные события, о которых нам рассказал Н. В. Гогол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) Мир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) Гор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) Иван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) Дикань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ЖЕРЕБЬЁВКА ПЕРЕД II ПОЛУФИНАЛО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-34920" y="4680"/>
          <a:ext cx="10080720" cy="7561440"/>
        </p:xfrm>
        <a:graphic>
          <a:graphicData uri="http://schemas.openxmlformats.org/drawingml/2006/table">
            <a:tbl>
              <a:tblPr/>
              <a:tblGrid>
                <a:gridCol w="5038560"/>
                <a:gridCol w="5042160"/>
              </a:tblGrid>
              <a:tr h="188928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Мальчик у Христа на ёлке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) Х. К. Андерсен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88892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2) «Синяя птица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б) Ф. М. Достоевский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88928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3) «Девочка со спичками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в) Э. Т. А. Гофман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89396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4) «Щелкунчик, или мышиный король»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г) М. Метерлинк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6000" y="24555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Сколько резиденций имеет Дед Мороз в Росси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I ПОЛУФИН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10082160" cy="7558200"/>
        </p:xfrm>
        <a:graphic>
          <a:graphicData uri="http://schemas.openxmlformats.org/drawingml/2006/table">
            <a:tbl>
              <a:tblPr/>
              <a:tblGrid>
                <a:gridCol w="3359160"/>
                <a:gridCol w="3360600"/>
                <a:gridCol w="336240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Музы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Кинемато-гра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Живопис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0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Библейские предан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заи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эт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Драматур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изведени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ерсонаж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 2 сраз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Секр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75280" y="561672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144360" y="360360"/>
            <a:ext cx="979164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акая опера П. И. Чайковского, отрывок из которой только что прозвучал, написана на сюжет повести Н. В. Гоголя «Ночь перед Рождеством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57636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По какому произведению А. С. Пушкина  Владимир Басов снял широкоформатный художественный фильм в 1964 год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43120" y="4675320"/>
            <a:ext cx="68580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57636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На слайде иллюстрация Ирины Андреевны Петелиной. К какому произведению? Какова его жанровая принадлежность? Кто его написа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28720" y="4248000"/>
            <a:ext cx="3527640" cy="335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5264280" y="4248000"/>
            <a:ext cx="33764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49280" y="10825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В каком городе родился Иисус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Вифлеем на Рождество превратился в город-призрак | Туристические новости от  Турпрома"/>
          <p:cNvPicPr/>
          <p:nvPr/>
        </p:nvPicPr>
        <p:blipFill>
          <a:blip r:embed="rId1"/>
          <a:stretch/>
        </p:blipFill>
        <p:spPr>
          <a:xfrm>
            <a:off x="1800360" y="3274920"/>
            <a:ext cx="6368760" cy="33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503280" y="1692360"/>
            <a:ext cx="907092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Кто из русских писателей в возрасте 70 лет катался на коньках, в 75 — увлекался велосипедным спортом, в 82 года быстро ездил верхом на лошад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503280" y="39528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«Последний день перед Рождеством прошёл. Зимняя, ясная ночь наступила. Глянули звезды. Месяц величаво поднялся на небо посветить добрым людям и всему миру, чтобы всем было весело колядовать и славить Христа. Морозило сильнее, чем с утра; но зато так было тихо, что скрып мороза под сапогом слышался за полверсты. Еще ни одна толпа парубков не показывалась под окнами хат; месяц один только заглядывал в них украдкою, как бы вызывая принаряживавшихся девушек выбежать скорее на скрыпучий снег. Тут через трубу одной хаты клубами повалился дым и пошёл тучею по небу, и вместе с дымом поднялась ведьма верхом на метл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зовите произведение, из которого взят отрывок, 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87280" y="161928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В какую новогоднюю игрушку превратил молодого принца король мышей, если верить сказке Э. Т. А. Гофм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Сказка Щелкунчик и Мышиный король - Гофман, читать онлайн"/>
          <p:cNvPicPr/>
          <p:nvPr/>
        </p:nvPicPr>
        <p:blipFill>
          <a:blip r:embed="rId1"/>
          <a:stretch/>
        </p:blipFill>
        <p:spPr>
          <a:xfrm>
            <a:off x="3441600" y="284328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8728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Не трещите, моро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заповедном 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 сосны, у берё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 грызите кор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лно вам воронь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моражи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еловечье жиль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ыхолажи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тры, бури, урага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уйте что есть мо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ихри, вьюги и бура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зыграйтесь к но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облаках трубите гром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йтесь над землё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усть бежит в полях позё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лою змеё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ие 2 зимних месяца из сказки «Двенадцать месяцев» обращаются к природе с такими слов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4464000" y="611280"/>
            <a:ext cx="42102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6000" y="24555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Йоулупук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какой стране у Деда Мороза такое забавное им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87280" y="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Известный отечественный филолог Ю. М. Лотман отметил, что в произведениях Пушкина особую роль в сюжете играют стихийные бедствия: наводнение, буран, метель, чума. Как называются эти 4 произвед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1765080"/>
            <a:ext cx="90709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ЖЕРЕБЬЁВКА ПЕРЕД ФИНАЛО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10080720" cy="7569360"/>
        </p:xfrm>
        <a:graphic>
          <a:graphicData uri="http://schemas.openxmlformats.org/drawingml/2006/table">
            <a:tbl>
              <a:tblPr/>
              <a:tblGrid>
                <a:gridCol w="5038560"/>
                <a:gridCol w="5042160"/>
              </a:tblGrid>
              <a:tr h="151452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В. А. Жуковский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а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Доктор Живаго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51344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Б. Л. Пастерна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Евгений Онегин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1452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С. А. Марша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в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Двенадцать месяцев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511280"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. С. Пушкин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г) </a:t>
                      </a: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«Светлана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156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д) «Морозко»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ФИН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0"/>
          <a:ext cx="10082160" cy="7558200"/>
        </p:xfrm>
        <a:graphic>
          <a:graphicData uri="http://schemas.openxmlformats.org/drawingml/2006/table">
            <a:tbl>
              <a:tblPr/>
              <a:tblGrid>
                <a:gridCol w="3359160"/>
                <a:gridCol w="3360600"/>
                <a:gridCol w="336240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Музы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Кинемато-гра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Живопис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0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Библейские предан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заик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эт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Драматур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роизведени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ерсонаж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По 2 сраз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Секре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03640" y="5472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274680" y="936720"/>
            <a:ext cx="955656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то из русских композиторов написал оперу на сюжет повести Н. В. Гоголя «Ночь перед Рождеством» с таким же названием, отрывок из которой только что прозвуча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254160" y="216000"/>
            <a:ext cx="95979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ой советский полнометражный мультфильм был снят Иваном Ивановым-Вано по мотивам одноимённой с ним пьесы Самуила Маршака, написанной во время Великой Отечественной войны в 1942–1943 годах для МХА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Двенадцать месяцев (мультфильм) — Википедия"/>
          <p:cNvPicPr/>
          <p:nvPr/>
        </p:nvPicPr>
        <p:blipFill>
          <a:blip r:embed="rId1"/>
          <a:stretch/>
        </p:blipFill>
        <p:spPr>
          <a:xfrm>
            <a:off x="3286080" y="3995640"/>
            <a:ext cx="353376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63400" y="-136440"/>
            <a:ext cx="90712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На слайде картина Марии Павловой. По мотивам какого произведения она написана? Кто его автор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79640" y="3684600"/>
            <a:ext cx="468000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03280" y="20509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ие животные были привязаны к яслям Младенц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20509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ctr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ой писатель считается основателем традиции рождественских рассказов в европейской литератур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6000" y="18716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4) Жители какой области Российской Федерации Новый год встречают позже всех остальных россия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31640" y="0"/>
            <a:ext cx="90712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«…У Христа всегда в этот день ёлка для маленьких деточек, у которых там нет своей ёл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…</a:t>
            </a: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 все они теперь здесь, все они теперь, как ангелы, у Христа, и он сам посреди их, и простирает к ним руки, и благословляет их и их грешных матерей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з какого произведения Ф. М. Достоевского взят этот отрыв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503280" y="75564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Какой персонаж в какой костюм был наряжен на святочном бале в романе «Война и мир» Л. Н. Толстог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Наряженные дворовые, медведи, турки, трактирщики, барыни, страшные и смешные, принеся с собою холод и веселье, сначала робко жались в передней; потом, прячась один за другого, вытеснялись в залу; и сначала застенчиво, а потом все веселее и дружнее начались песни, пляски, хоровые и святочные игры. Графиня, узнав лица и посмеявшись на наряженных, ушла в гостиную. Граф Илья Андреич с сияющей улыбкой сидел в зале, одобряя играющих. Молодежь исчезла куда-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ерез полчаса в зале между другими ряжеными появилась еще старая барыня в фижмах — это был &lt;...&gt;. Турчанка был &lt;...&gt;. Паяс — это был Диммлер, гусар — &lt;...&gt; и черкес — &lt;...&gt;, с нарисованными пробочными усами и бровя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75564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В русской литературе зима получила такие названия: чародейка-зима, волшебница-зима. Кто автор каждого из назван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31640" y="-15840"/>
            <a:ext cx="90712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«Юра смотрел по сторонам и видел то же самое, что незадолго до него попадалось на глаза Ларе. &lt;...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ветящиеся изнутри и заиндевелые окна домов походили на драгоценные ларцы из дымчатого слоистого топаза. Внутри них теплилась святочная жизнь Москвы, горели елки, толпились гости и играли в прятки и колечко дурачащиеся ряже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друг Юра подумал, что Блок это явление Рождества во всех областях русской жизни, в северном городском быту и в новейшей литературе, под звездным небом современной улицы и вокруг зажженной елки в гостиной нынешнего века. Он подумал, что никакой статьи о Блоке не надо, а просто надо написать русское поклонение волхвов, как у голландцев, с морозом, волками и темным еловым ле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ни проезжали по Камергерскому. Юра обратил внимание на черную протаявшую скважину в ледяном наросте одного из 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квозь эту скважину просвечивал огонь свечи, проникавший на улицу почти с сознательностью взгляда, точно пламя подсматривало за едущими и кого-то поджид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«...»&gt; — шептал Юра про себя начало чего-то смутного неоформившегося, в надежде, что продолжение придет само собой, без принуждения. Оно не приходи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 каким стихотворением Юрия Живаго связан следующий отрывок из романа Б. Л. Пастерна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НАГРАЖДЕ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6000" y="244764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5) Сколько раз в России можно встречать Новый год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6000" y="22399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6) Какой древний российский город считается родиной Деда Мороз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2879640"/>
            <a:ext cx="907092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Mistral"/>
                <a:ea typeface="Times New Roman"/>
              </a:rPr>
              <a:t>I ОТБОРОЧНЫЙ ТЕ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0T11:12:57Z</dcterms:created>
  <dc:creator/>
  <dc:description/>
  <dc:language>en-US</dc:language>
  <cp:lastModifiedBy>Дмитрий</cp:lastModifiedBy>
  <dcterms:modified xsi:type="dcterms:W3CDTF">2021-10-15T15:40:55Z</dcterms:modified>
  <cp:revision>7</cp:revision>
  <dc:subject/>
  <dc:title>Новогодняя литературная викторина «Самый умны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10000000000010291210207f7000400038000</vt:lpwstr>
  </property>
</Properties>
</file>