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22D-D594-446F-A70C-BFD93BDF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74B-9AAE-431D-A0EF-9FD61CDE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E1D3B-87E9-4E51-9CC5-D53B4A01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21DE9-2884-4DAD-866B-CD5C21A2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2EED2-AD32-49C0-85B3-B860F029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D3A7D-D61E-4B4F-A759-0EE593C7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6AC6F-F8CD-4174-AB4F-93CD1E51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93BCC-B943-4939-844E-B8950145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F7D82-671E-4DEC-B58C-6AE4587F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98E43-B302-4B62-A51A-CFD725C0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452DB-1A91-4B08-8E7B-B80FA619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7BC4A-3522-42F9-97C6-283572C9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7BC-AF6A-404F-97D6-DEAA5275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7A36C-290F-4E49-A4A4-21CFCCB2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79A39-6856-4F3A-AF31-480841DC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62EF8-44C5-4681-ABF6-AF02221E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87474-D67E-4776-A818-97F356E2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2E329-502A-49A8-87E4-B52476A4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E053D-EC1B-42BD-B2C6-62A385DF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3730A-FD8C-458B-BFFE-381CC7A6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A118C-3937-428B-B1A8-0EAAFAF8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B27CC-E190-43CA-8118-A9EC73E6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025A2-6CF6-46F0-8440-4B8AAEAE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CD6-31E8-4749-BFA6-5F399828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DF198-F847-4F66-9873-FEF1D61D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7864A-0001-4789-B3AE-244B52D2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A00D2-1A05-4F1B-B6F0-03E515A6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BC368-DA85-484A-968B-90F805D8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451D0-3E2D-4538-B0C7-0E248CE2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5F7BC-44FA-4533-AF30-945CAD07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A77F3-B80B-469B-9148-BAA250C6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39D55-8400-44EC-9126-9F0D355E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B68A9-603B-44F8-8F48-E51B1362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7EE3E-7AA4-4AC2-B185-9CAAF2B0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90DC-5B82-4E09-9D89-EF45DA47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9C655-D5B4-43FF-8275-A3DA4E65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8CB52-91DC-4404-842F-C798AA1C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AECDA-44BF-4FA3-B5D1-DC190650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6D7C8-AB31-4D1E-B42B-52CECC35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3A224-F24D-4F6E-8C70-75580BC3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11211-7CCD-4605-86D7-08537FF4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7FA28-9AB4-455B-A065-DFD49F02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EF647-7D9B-4258-ABDE-3E88CBF9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4DC13-9958-495E-8A9B-2FF2A5F1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2887D-6F3B-4D95-B661-AD5A9F23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4EF6-8B80-4D2E-8733-DE58FCA9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C4E26-D3C6-49E9-9061-FD3E338C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83FA1-B394-4E03-BDC3-1299B74E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5E4B9-41E3-4BC0-9393-C163AE4D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EF22B-A969-4C91-BEBA-5645DDD5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5AB3F-1C64-42F4-AC4C-3B33127A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0E7E7-C16F-4AC4-9F92-09D90747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2DBA1-2E0F-44F9-A622-51D73DDC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64488-03D7-4FB3-A132-40B192C3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406F2-A9F4-47CF-B6C8-7AFA9076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ED8D3-0A74-4DDD-A722-3422AD48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C53A-C264-4258-9081-8391B013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CC9BB-C0DB-4D77-AD4C-CECB8CF7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4041E-2891-4E33-8391-6ED5FD08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5B9F8-5012-42DF-9770-FCC3F32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0C432-7AEC-4ABC-8894-4A1ED6F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CF5AE-F4B4-48D7-BA93-FC9A096F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A674C-7354-4D25-92A5-9B616736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008EA-E9BF-4D74-B9AB-01E05E05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D335F-04CF-45AF-A0C5-760919B3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DB2CC-0611-4D90-84DB-0EEE1A41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41F24-72D4-4FDA-994F-C4682F40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7C1A-A4E4-4EE6-9D24-F8763F74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776A4-5E1A-4CB4-BEA1-6BE42387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EF3AE-3204-42CB-A44B-ABB566C2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B97F3-8992-441A-B9C1-2E75FCAF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AA6A1-31E4-46DF-A0B0-D77347B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0CF60-7CC3-436C-93B5-D4C9B0A1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4F561-E80E-4E17-9104-08C93C0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990EF-C2E6-4F9C-9D87-D3B2BB6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B47B1-1122-4629-9647-9791A813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EBE1A7-9951-4FD1-8169-45278051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3675C-86D6-4915-B395-C1AD2161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6FCA-8681-4916-AF4C-A4BF07E3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A47AB-F50A-496F-90D2-C6068C68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A201C-38B9-485D-BE3B-DDD483D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5DCDA-E3D0-4123-86CE-D719E414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17C70-42F1-489B-8558-A81B65F7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51C7C1-AC18-48A3-ADBF-5E73207C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35478-4072-4A7B-BFC1-A1620343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08AFD-7EAE-4990-AC65-BED84415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38F44-1E96-4566-A04A-655B4366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8F6CA-855E-4359-98D1-E02D0B88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247EE-5F71-4D69-A21D-15D263EE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236E-D8BE-4E16-8390-63E69BEF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631E9B-E87F-4D14-96A4-F639BEF4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29DA9-4503-434D-9F39-09FCBFC2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6B251-5D3B-48EA-B194-68144185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48EA4-6861-4E54-82CC-7165FF06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558DC-9527-4BA0-9664-3FACEFB4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50F4C-08B8-4061-A78C-C4F7007A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FF53E-2BBE-4DCD-8075-2B547706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A34FC-BA38-47CC-9C3A-6C772126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DD347A-FD02-4DA5-A1FD-4ED58820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3A63C-6051-492E-A912-34741E65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805D-B68F-4FC1-9044-4C7F6AD7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DAB9E-E2E3-438B-BF60-6998581F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D7080-78F8-465F-8C02-1113BFF5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F4F7B-84C7-4B8D-8578-77CBD612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8CB90-ED3D-47BE-90CB-C7925A96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B44C0-1F5E-4BF0-BCA1-8CBFD0B0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98ABA3-68A0-4D3E-8B1C-153ECF0A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8B9FE-ED20-4483-82A5-9B9E2C65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D44A9-6421-4C4A-950C-07FBAA6B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50F83-ABD0-476C-B111-A2630092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FCF48-BF03-4DF4-A428-6268E7F5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6BD-CA70-4455-8ED5-A95E31B9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721C-4638-4B4E-B303-338FD248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88606-1430-414D-84CC-DC7BF485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FC804-B719-41AD-8185-64EA51A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EEB10-4EC3-4F24-B6C9-44D47363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0449E5-6005-45D4-A670-381C07D8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7681EA-207B-44AA-B5DC-E1EF7A63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14D18-2A57-4F6D-91C1-D2197C31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3B22C-563E-4CB7-B0C8-A41AB986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D15D57-634E-4EB6-A0C5-F4F866D6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30546C-94B3-4FC6-8FD9-B0B13A05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D12F5D-1C77-4E6A-97D1-28B70616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CB0D-29A2-4CEC-8D21-D4AD7A6C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E6BF1-C491-443B-88AD-6FC72288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65E18-25A4-4748-8915-1CD7E966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7D830-85F2-4248-840E-934C6A7B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171E0A-EEE7-4C41-87D9-277CCC1B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38BFE8-5489-4BA9-AF1A-692D5F1E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49521-9660-463D-A8EC-2765C0B6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3B7CD-AC3E-458F-9F12-A2B55441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0B6EF2-7100-4500-9F2A-E969C261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02FA5A-5C6F-41CE-8BAD-11A6B44F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6BC713-A8C0-437E-9F47-BBFC2CE4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2CA1-D59A-4417-93D0-1E00828F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4B4A3D-F669-4E04-93C0-EF617CBC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9B443-C3D5-41FB-9ADE-EB1084F9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B7D756-5168-45D1-9065-51C01676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1A23B7-9A31-443B-A216-E8028ED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ED55F8-E605-4AD5-A187-23179826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2B3168-7FAD-4AF9-8BC8-5ABFA7BD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9C255-269E-41BB-B14A-CFCD500C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F88AD-CF63-4B43-8CD8-861DBD78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74DA0-1564-417D-9EE5-DD964E52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0E5EF-727F-434B-8603-2B11A89A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3916-F2C0-47FA-8D8C-25B0A4A9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BA7E63-68F8-4446-9FC8-D0F6D82B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52894-F3C5-42A4-83AA-C5F93F31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E32E1F-1BE0-4EC5-A667-BD68D3EC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AABF9C-D9C6-4659-8D28-3DDEE8F0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9CCB0-C7CA-4716-B4D7-DD6C81B3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7E218-E214-45B3-ADE7-F08E487D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FD2C8D-AD18-49D0-AD51-7D75D360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41272D-AB87-4F31-9822-6BB9EEC5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549354-9E86-4451-88CB-19E4B246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C880CC-A697-420D-BBF1-C276160C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7710-A344-41D5-A8F5-01AB95C7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FDD9F-E352-460D-8268-80725C54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0E6F4-868E-4A2F-BC7E-61D2B1F1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97B7C0-4606-49BC-8ABF-9CD0E9CF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FC2A7E-9893-4FFE-B80C-F6CF3E4D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0D23C0-6B64-419B-B7DB-5D6A8EF1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A52570-4352-4EE6-AFF5-88212108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1F8FA0-796B-44AF-B18D-9BB3D72B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64B143-06AA-4315-B7E8-455D10A2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DAA6A7-ACD3-40A6-A947-11680E3D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B5F1D2-1DC4-49A8-B4B8-505B3D91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8DFD-B1A1-4839-A28B-6FA76188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4D06D2-F574-4BCE-9D0D-D88A570D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B3D38A-59EF-45E7-90F1-7B65330D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547A7-EB4A-40FD-B8D5-8B33AB59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240E75-7145-4A55-B01E-FB60A087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089FB8-E00A-48A6-8A45-D6187AE7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0C4078-707C-45FC-9110-8E94D08A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B879CC-18EF-43A6-89DB-BBF73D28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C09BFE-8B04-4872-803C-8BC5D818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CFADA5-B080-4C0B-A10B-7AD34794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16F415-CEF5-4DB4-99E7-DF3132D3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CE70-8158-4459-B366-486F7208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0BB2EF-C043-41BA-8765-E038D4F4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261551-954A-426B-8C3D-748D27B8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4A1732-DA0F-4C82-8B44-3B0B769D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2EF6A3-A9CA-49B0-94DF-874E0DD8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72C5A5-B2A2-4DFB-9DA0-5E366182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17A3B6-E320-4CFE-8CAB-BB35F91D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90E61D-F8AC-47D9-9F77-337A612E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8CCBDF-8B19-42E5-8507-68307E62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C30AAD-6AFE-4A00-A8F5-AF22625E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6D303E-CE41-4B1A-BD88-2FFD3166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85F4-4D5F-48F1-AD47-7CAD2675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F0432E-1D89-4F6F-834E-54F9E209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C6B4D9-C431-45FC-B010-BD23E82D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395DD-6C3D-4D16-943F-64931549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540548-DB9F-493A-9567-8859C109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73DEB8-973B-441E-80F2-F64AFC26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BD9BC6-8B38-4CE4-8BEF-BD81A58E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F7A5D6-E8D8-4681-A69A-307DDFBD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54106B-3C1C-4209-A46B-A5A6BDC3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193D72-5B74-4DAF-AE74-046061CD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E55D9B-CE61-4EAE-BD48-02BD8C9A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67D1-2409-4099-94A0-468C3E06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3F0583-43F5-4BF7-BC5B-A541FDF2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41EBC7-21C5-417A-A627-5C30451C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C7F4D6-47A3-4448-99C8-4479617D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12EE0D-0F0F-42BE-95C2-F8CBA750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B959FE-4434-4B4A-9515-86737369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CE3171-E74E-40AB-AAE8-C99AF606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14E446-409C-40E6-B1E9-C17DE472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3DE2B9-ED2A-4A68-BDB5-4D72F567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42800D-5C7D-46B4-A1A1-7EAB1A54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0B2E8A-C0AE-4CA3-959A-4104B487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D866-9580-4AC8-BA1E-DC41C4CA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4D4E21-4F87-4B18-A789-599BE770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C69FF0-002F-49A7-82B4-626340A5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6ABDC8-B554-4E08-B6FD-8BED4478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0DE918-1893-40FF-9C3F-4D3D4C61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704021-CECF-4431-AA72-1473E397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8392E4-9FD1-4D2F-8136-6D74CD12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D03654-C0F1-41E3-B6ED-04243F97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E220B6-1ACB-448B-9305-BA5C5AE9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10DA9C-29EA-4927-B28F-9C73AA91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D30292-2341-4010-A6AC-DF20BA6E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1B8-BBD6-4D84-9F03-D386669B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A655-9C40-4F67-B029-C02FA318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7E890A-86AC-405D-8297-5C790D60D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DD78F2-3581-42C1-9FFF-7DA3DDA7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A60919-8315-45D8-A41F-489D4ACA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A41F69-1222-41AF-A176-29509156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D3B760-2168-4CF6-A330-CDD2CD3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6CECF8-4F83-4AC0-981B-322F1624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AAB227-7118-4213-B2AA-9B3DEB8F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200697-CB9E-4D3B-A722-8160EF4E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8C520D-E35B-49A0-8315-8B366D0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18123D-252C-4B6F-A455-A9CB56F2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795F-48B4-41A0-BA9E-88077587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754F5A-229D-4B49-883F-F817EA41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230424-0D00-4B4F-A163-CFD582F3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5E8775-5152-4CB0-8D61-D2BAB9DC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4FA2B7-3F6C-4A02-8B25-859E8DA1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789832-FDBB-4825-89FC-0188525F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EB82FC-DAC0-46CE-8739-07D7ADA5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75E879-E5C7-4F00-BCBF-6AE6799F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EED39D-7783-47A4-ABF8-06111859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F9B6D8-83D4-4BC5-BABF-B87110C1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D6CF69-1E05-424C-B2B8-4222D1D6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D6F2-F5DD-4855-9F6E-8E4B3BFB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81D63F-DD3B-4CCD-A270-B558042B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DA5195-576E-4117-B2C1-145E2057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8BCBD3-F84C-4A03-851B-A899B793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351DB2-45EB-44A1-901E-8D7E46CC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6E328D-75D3-41CF-AD75-FFCB10AC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CB76DB-9472-4DA1-9F5D-311D439B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56EBB1-551C-4A09-B088-64083DA3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74F10E-E27D-4305-93B1-B545FC35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E54FB0-9059-4F59-88E5-36004B01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22F55F-26BF-4C88-A09C-F0EF6BEF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7927-95D9-4EEB-A732-36F4D3B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C7F2C4-5ECB-4AA1-8C27-F56D8101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65B8B1-96BD-45C9-B94A-536472B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E7A02B-238D-4B7E-95A4-96BEC4C0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0B8F67-3F6C-4575-8AB4-636EB4FB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AAB962-C955-4AA6-884B-CF5D6409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35969E-B2A7-4197-857C-21E51FE1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776014-BFB3-4CDD-A2F3-4AF85F29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74CBCE-D978-4765-AE82-B080AE46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26D2EC-86C2-4468-BA16-F643A2D8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E36888-F89D-44BB-BF9D-44907E42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E2123-4F50-4026-98AC-FE9F8082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E9B9F8-3826-4C60-B00B-6552891F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72F1C1-928A-44BA-893C-34A0D4B7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276545-A609-459A-96EF-71908BBD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6B1D22-6B5A-4738-8C4F-D2B3FD5F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D8FD53-95B6-4C1A-B360-D3F2D5B4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76236B-133A-456B-874B-8C67CAB8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54464E-3BE6-4623-9360-17CA8FB1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105319-0308-4316-A8B4-04D9E1BF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6C438D-F4DD-4DF6-B9EB-991447A1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4BBBB1-0B72-4860-89EA-511E2C87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D4886-5E3D-40F2-8ADB-72286515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048049-F53D-4713-A3C5-7E130E10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7E9BAC-712D-4D65-8F9F-7F18D8D6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7DDD4E-FD0A-4452-A403-49403C32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B86B4B-8224-4043-8077-1996B128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E8E519-0B85-49FA-9B98-7BA0ADE1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B57C73-B23E-41CD-AD55-CE29D12B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44F60C-767A-43A8-B31A-7ACAA10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CFE533-148E-4B6B-BB1E-C606BBD7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24B7D7-86CD-4513-88F6-E623CA77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7858E3-A132-4049-9F4D-435E5A5D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32860-E368-4770-9D13-9DF2CA44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DCC878-A1FB-4B79-B02B-FABECD43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CF9B2C-7E37-43A5-BC44-00A4A573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60F6F2-B751-452F-9D97-C0F4EE3D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A8D56B-0443-485C-B6CE-55EFBE53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443B36-991A-4245-A317-B14882EA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09C07A-C645-48E5-8779-572D15F3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EAFB9C-D4F0-4B5B-BD15-DA81AB7B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30DACC-116A-4B9E-852B-5140112A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C9A599-EF7C-470B-8561-37B80824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231FA0-D426-4087-80C0-01E3ED1F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AB702-727F-4BBA-9B27-F4B51CC7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A58FC9-DF65-4C03-9D58-5F413D0D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376E22-2A20-47D0-A6FD-6CF779FC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B101C1-31D4-44FE-8321-40B3C0D2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230E-3949-4667-ADC8-290E7CCD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A701-7DAB-4E55-8598-6102A8E4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E23-3CD9-44DF-8A61-C271841D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B67FD-5424-4A75-AD8E-A54EA5BC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AB30-2D62-4C03-8E45-EB08713E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07D99-1BC4-4174-AB13-0B9CEA81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7014-142D-4649-8378-F0C46684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C17DC-DCDC-45B7-84C1-0B24661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7AAB3-45FD-47F0-B931-0081D7F1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B0F69-381C-4132-8009-998D0DB8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5B6FF-E92B-4ED9-87E2-B981DAB3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09C5C-4A6D-4BED-BA65-ED54A552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4B01E-F670-4A40-87D1-ED59D16F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8C3-AD41-4F53-A9DB-59BA364B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72D01-D100-4A22-BEB8-C34658D7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E2006-135E-4426-BED0-D0E85B05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3DD18-1F69-4BC6-A516-513297B1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C8A3-7A64-43C7-8AC1-CF5C0512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265F0-2D88-4C36-8CB6-21E196D0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7012F-BE57-4D70-8D61-63B682BE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7D2DC-4264-4FDC-8EBE-164AAA40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B15FF-D7E0-4DD9-B611-67F31535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FA1E6-6112-450D-A1FD-C8EF7361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441BA-5F86-4E24-9577-DDC12741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319-443A-4EFC-B9D6-F154EF96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0747B-9F01-4771-A234-429F7B7C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B0687-19FE-49A2-A902-1C8A5A2D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E787D-F727-4636-ABEE-8E73FC57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EABBF-54CA-44DD-ABAC-79181EB9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810D8-B379-4BCC-9E81-B0CA7C51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1221A-B7E2-450C-8734-B5DDCBF8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BEE58-C855-4BDD-8ADE-0EF55AFE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F18D1-9CE9-4037-9679-671B6659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BD4C8-6E4E-47FB-94A6-7F36A32D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C397-94C0-4F19-9BEA-0FE10743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8C4-2A13-4C7C-A7F4-43AB4DCC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76C72-AC41-4866-A9A9-A9D93AC7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F083A-EE98-43CE-A904-9E535E3B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965CA-89B8-43A2-8264-2FC742FE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3D64-C5FA-4FCF-912E-81FE320E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C616C-1FF7-4C5C-BE0B-1A3C46A4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63E45-9B3F-4394-91CB-7DC74431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01458-7A05-426B-B417-488C2D2A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0D8FA-4EF1-42CD-AF01-E29A5819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61648-A94F-4809-AD1C-5028627F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75893-61E0-4C78-B527-9518DB14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F92-ADE7-494A-B6F5-505C0F0B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4AAB5-990A-4514-B83E-84745344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DEFC9-DA0B-4E2F-955C-AFF21A83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1D676-DBDA-43F2-A3E6-A0697BF6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8DB01-3699-47A9-AE3C-3FF717B5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61808-793B-4C94-8DF7-086DF3E9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B0054-68CD-4354-B62B-0EF819C1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59D31-60CA-44F5-94F2-57EA9345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DCA4E-F5D1-43BE-92C9-FBA89061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7D384-6B7F-45F5-8030-B2DB3852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2EDC2-1B6F-4C49-889B-334DAE28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A0A-9705-423E-B910-41381CAB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5F3BF-60FA-4E00-9686-4A1FC989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92DDA-0E7E-44E6-AC08-FCAF906B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67A9D-8A28-4409-8338-34EBE986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D65EB-6259-490D-99E4-2BE1CA64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6D281-8881-48F2-98C9-4B7AE449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BA040-88C0-414C-8F3B-E4764D09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69404-014A-4A51-99C4-9797F54C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D394B-7B95-4E8D-903D-E246821D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A8EE0-3F24-4AE6-ACC9-73745C52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CCF98-B622-4001-BF16-28FDA3A0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25.xml"/><Relationship Id="rId7" Type="http://schemas.openxmlformats.org/officeDocument/2006/relationships/slideLayout" Target="../slideLayouts/slideLayout326.xml"/><Relationship Id="rId8" Type="http://schemas.openxmlformats.org/officeDocument/2006/relationships/slideLayout" Target="../slideLayouts/slideLayout327.xml"/><Relationship Id="rId9" Type="http://schemas.openxmlformats.org/officeDocument/2006/relationships/slideLayout" Target="../slideLayouts/slideLayout328.xml"/><Relationship Id="rId10" Type="http://schemas.openxmlformats.org/officeDocument/2006/relationships/slideLayout" Target="../slideLayouts/slideLayout329.xml"/><Relationship Id="rId11" Type="http://schemas.openxmlformats.org/officeDocument/2006/relationships/slideLayout" Target="../slideLayouts/slideLayout330.xml"/><Relationship Id="rId12" Type="http://schemas.openxmlformats.org/officeDocument/2006/relationships/slideLayout" Target="../slideLayouts/slideLayout331.xml"/><Relationship Id="rId13" Type="http://schemas.openxmlformats.org/officeDocument/2006/relationships/slideLayout" Target="../slideLayouts/slideLayout332.xml"/><Relationship Id="rId14" Type="http://schemas.openxmlformats.org/officeDocument/2006/relationships/slideLayout" Target="../slideLayouts/slideLayout333.xml"/><Relationship Id="rId15" Type="http://schemas.openxmlformats.org/officeDocument/2006/relationships/slideLayout" Target="../slideLayouts/slideLayout334.xml"/><Relationship Id="rId16" Type="http://schemas.openxmlformats.org/officeDocument/2006/relationships/slideLayout" Target="../slideLayouts/slideLayout335.xml"/><Relationship Id="rId17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2AA6-3E40-4327-ACB9-89A842FB7CCD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4BD4-0453-4EC3-95AC-87FAF5DA258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CDDE-E3E0-4685-92C7-4CD57BFCACAE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F793-364A-401D-AEE5-83D2620A320C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13A8-E490-4F5D-97CE-4F377D8C66E2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B1C3-EF81-4626-8FC4-34193563769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659E-6220-416F-A867-B76F9C925A1A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643B-34BB-4FAC-ADCA-B8EBF8B6D79F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DB64-B280-486A-AF23-C8BBEE51D6AC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AACA-6C9B-45DD-A8D4-92F97D39CC7E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74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8F10-4D9A-4F5C-8F15-169A3603B6E1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7591-386A-48CD-99D8-DAFC02FCE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9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9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9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9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79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9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60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1525-12CA-41B5-AC04-D2347330E660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84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6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58D8-F5DD-4080-B83F-0FF5EDAE6731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8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8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8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9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89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67C2-4805-4634-A582-8449EDEE5B1F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3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B343-AE45-4E1E-93E9-D9B7D8894B78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8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D1B1-3BBA-41CD-A1FE-A84212087702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35CC-AEBA-4EE3-9F3D-E61E29AD71F4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07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F2BA-E811-4032-83A2-52390E47F4BE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FDF6-EB80-49DB-8C11-651F22D35725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15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5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15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6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6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6998-B1F5-4895-84EF-04B82CEC5B16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6"/>
    <p:sldLayoutId id="2147484001" r:id="rId7"/>
    <p:sldLayoutId id="2147484002" r:id="rId8"/>
    <p:sldLayoutId id="2147484003" r:id="rId9"/>
    <p:sldLayoutId id="2147484004" r:id="rId10"/>
    <p:sldLayoutId id="2147484005" r:id="rId11"/>
    <p:sldLayoutId id="2147484006" r:id="rId12"/>
    <p:sldLayoutId id="2147484007" r:id="rId13"/>
    <p:sldLayoutId id="2147484008" r:id="rId14"/>
    <p:sldLayoutId id="2147484009" r:id="rId15"/>
    <p:sldLayoutId id="2147484010" r:id="rId16"/>
    <p:sldLayoutId id="2147484011" r:id="rId17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8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8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8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C7BB-57CB-4534-BAC8-1395E07D8F3B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5845-0091-4F8D-A079-6DD522EFF3A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90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1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3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4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24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2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dt" idx="8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ftr" idx="8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 type="sldNum" idx="9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0278-0BD3-4F1B-B7F2-1ECB98C08056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29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9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0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0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30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08F2-A700-43E3-93B0-0B58F66D6313}" type="slidenum">
              <a:rPr b="0" lang="ru-RU" sz="1200" spc="-1" strike="noStrike">
                <a:solidFill>
                  <a:srgbClr val="d38e27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DEC4-6B7F-4108-89E6-6E29D7A67AEE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3CE0-E91C-4D09-AAE2-A531FC435770}" type="slidenum">
              <a:rPr b="0" lang="ru-RU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5A54-D1DB-436D-A1FD-7455028A6EA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B9A8-1350-436D-95BB-D8DDB42F531F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6A25-87FF-448E-B141-221E2CF83AF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9CA6-A68F-4299-BE19-FC9945A60BB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8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ngblog.ru/regular-and-irregular-verb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рямоугольник 1"/>
          <p:cNvSpPr/>
          <p:nvPr/>
        </p:nvSpPr>
        <p:spPr>
          <a:xfrm>
            <a:off x="1547640" y="2828880"/>
            <a:ext cx="6480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ck –tock, Tick –tock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rrily sings the clock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time to play, it’s time to work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a magic cloc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7" name="Picture 3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1899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Прямоугольник 1"/>
          <p:cNvSpPr/>
          <p:nvPr/>
        </p:nvSpPr>
        <p:spPr>
          <a:xfrm>
            <a:off x="1071720" y="571680"/>
            <a:ext cx="6500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esterday I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nt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 the park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my friends there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yed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geth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kied, skated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the park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ked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it very muc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9" name="Прямоугольник 2"/>
          <p:cNvSpPr/>
          <p:nvPr/>
        </p:nvSpPr>
        <p:spPr>
          <a:xfrm>
            <a:off x="1143000" y="314316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w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a wonderful dream. 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nt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to a green garden. 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w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a dark house.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big l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ved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in this house . </a:t>
            </a: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ned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my eyes th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0" name="Picture 22" descr="гномик 14"/>
          <p:cNvPicPr/>
          <p:nvPr/>
        </p:nvPicPr>
        <p:blipFill>
          <a:blip r:embed="rId1"/>
          <a:stretch/>
        </p:blipFill>
        <p:spPr>
          <a:xfrm>
            <a:off x="6500880" y="1357200"/>
            <a:ext cx="1844640" cy="25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3" name="Picture 3" descr="D:\ФОТО\Яна\slika-321560.jpg"/>
          <p:cNvPicPr/>
          <p:nvPr/>
        </p:nvPicPr>
        <p:blipFill>
          <a:blip r:embed="rId1"/>
          <a:stretch/>
        </p:blipFill>
        <p:spPr>
          <a:xfrm>
            <a:off x="324000" y="0"/>
            <a:ext cx="8362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Picture 2" descr="C:\Documents and Settings\Admin\Рабочий стол\картинки\844_8459fa73c3fc68becc623f3b5a998c5a.big.jpg"/>
          <p:cNvPicPr/>
          <p:nvPr/>
        </p:nvPicPr>
        <p:blipFill>
          <a:blip r:embed="rId1"/>
          <a:stretch/>
        </p:blipFill>
        <p:spPr>
          <a:xfrm>
            <a:off x="2143080" y="214200"/>
            <a:ext cx="5143680" cy="62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МОЕ ВПЕЧАТЛЕНИЕ ОТ УРОКА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468360" y="1125360"/>
            <a:ext cx="5410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УРОКЕ Я РАБОТА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ОЕЙ РАБОТАЙ НА УРОКЕ 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РИАЛ УРОКА МНЕ БЫЛ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Е НАСТРО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5435280" y="1052640"/>
            <a:ext cx="35290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АССИВН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ВОЛЕ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ДОВОЛЕ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,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ЕС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ЕСПОЛЕЗНЫЙ,                  НЕИНТЕРЕСНЫ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ШЕЕ/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ЛОХО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504d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0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0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268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subTitle"/>
          </p:nvPr>
        </p:nvSpPr>
        <p:spPr>
          <a:xfrm>
            <a:off x="1371600" y="404640"/>
            <a:ext cx="6400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2060"/>
                </a:solidFill>
                <a:latin typeface="Comic Sans MS"/>
              </a:rPr>
              <a:t>LOOKED </a:t>
            </a:r>
            <a:r>
              <a:rPr b="0" lang="ru-RU" sz="5600" spc="-1" strike="noStrike">
                <a:solidFill>
                  <a:srgbClr val="002060"/>
                </a:solidFill>
                <a:latin typeface="Comic Sans MS"/>
              </a:rPr>
              <a:t>     </a:t>
            </a:r>
            <a:r>
              <a:rPr b="0" lang="en-US" sz="5600" spc="-1" strike="noStrike">
                <a:solidFill>
                  <a:srgbClr val="002060"/>
                </a:solidFill>
                <a:latin typeface="Comic Sans MS"/>
              </a:rPr>
              <a:t>SAW </a:t>
            </a:r>
            <a:endParaRPr b="0" lang="en-US" sz="5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2060"/>
                </a:solidFill>
                <a:latin typeface="Comic Sans MS"/>
              </a:rPr>
              <a:t>DID</a:t>
            </a:r>
            <a:r>
              <a:rPr b="0" lang="ru-RU" sz="5600" spc="-1" strike="noStrike">
                <a:solidFill>
                  <a:srgbClr val="002060"/>
                </a:solidFill>
                <a:latin typeface="Comic Sans MS"/>
              </a:rPr>
              <a:t>    </a:t>
            </a:r>
            <a:r>
              <a:rPr b="0" lang="en-US" sz="5600" spc="-1" strike="noStrike">
                <a:solidFill>
                  <a:srgbClr val="002060"/>
                </a:solidFill>
                <a:latin typeface="Comic Sans MS"/>
              </a:rPr>
              <a:t> PLAYED WENT </a:t>
            </a:r>
            <a:endParaRPr b="0" lang="en-US" sz="5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2060"/>
                </a:solidFill>
                <a:latin typeface="Comic Sans MS"/>
              </a:rPr>
              <a:t>WATCHED </a:t>
            </a:r>
            <a:endParaRPr b="0" lang="en-US" sz="5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2060"/>
                </a:solidFill>
                <a:latin typeface="Comic Sans MS"/>
              </a:rPr>
              <a:t>HELPED </a:t>
            </a:r>
            <a:endParaRPr b="0" lang="en-US" sz="5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2060"/>
                </a:solidFill>
                <a:latin typeface="Comic Sans MS"/>
              </a:rPr>
              <a:t>OPENED  </a:t>
            </a:r>
            <a:endParaRPr b="0" lang="en-US" sz="5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0" name="Picture 5" descr="гномик 3"/>
          <p:cNvPicPr/>
          <p:nvPr/>
        </p:nvPicPr>
        <p:blipFill>
          <a:blip r:embed="rId1"/>
          <a:stretch/>
        </p:blipFill>
        <p:spPr>
          <a:xfrm>
            <a:off x="7236000" y="3860640"/>
            <a:ext cx="1657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Таблица 1" descr=""/>
          <p:cNvPicPr/>
          <p:nvPr/>
        </p:nvPicPr>
        <p:blipFill>
          <a:blip r:embed="rId1"/>
          <a:stretch/>
        </p:blipFill>
        <p:spPr>
          <a:xfrm>
            <a:off x="1427040" y="262080"/>
            <a:ext cx="5504040" cy="5095800"/>
          </a:xfrm>
          <a:prstGeom prst="rect">
            <a:avLst/>
          </a:prstGeom>
          <a:ln w="0">
            <a:noFill/>
          </a:ln>
        </p:spPr>
      </p:pic>
      <p:pic>
        <p:nvPicPr>
          <p:cNvPr id="1352" name="Picture 16" descr="гномик 6"/>
          <p:cNvPicPr/>
          <p:nvPr/>
        </p:nvPicPr>
        <p:blipFill>
          <a:blip r:embed="rId2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4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1355" name="Прямоугольник 3"/>
          <p:cNvSpPr/>
          <p:nvPr/>
        </p:nvSpPr>
        <p:spPr>
          <a:xfrm flipV="1" rot="10800000">
            <a:off x="213840" y="29664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KINGDOM OF THE PAST SIMPL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6" name="Picture 5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205416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57" name="TextBox 2"/>
          <p:cNvSpPr/>
          <p:nvPr/>
        </p:nvSpPr>
        <p:spPr>
          <a:xfrm>
            <a:off x="1924560" y="85716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8" name="TextBox 5"/>
          <p:cNvSpPr/>
          <p:nvPr/>
        </p:nvSpPr>
        <p:spPr>
          <a:xfrm>
            <a:off x="123840" y="2786040"/>
            <a:ext cx="428184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авильны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like – lik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ed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watch – watch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play – play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ount – count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ed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9" name="TextBox 6"/>
          <p:cNvSpPr/>
          <p:nvPr/>
        </p:nvSpPr>
        <p:spPr>
          <a:xfrm>
            <a:off x="4920840" y="2786040"/>
            <a:ext cx="3573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еправильны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sleep –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slept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swim –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swam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go –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went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have –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had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0" name="Прямоугольник 7"/>
          <p:cNvSpPr/>
          <p:nvPr/>
        </p:nvSpPr>
        <p:spPr>
          <a:xfrm>
            <a:off x="2286000" y="714240"/>
            <a:ext cx="60008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если глагол </a:t>
            </a:r>
            <a:r>
              <a:rPr b="0" lang="ru-RU" sz="2800" spc="-1" strike="noStrike" u="sng">
                <a:solidFill>
                  <a:srgbClr val="a50021"/>
                </a:solidFill>
                <a:uFillTx/>
                <a:latin typeface="Century Gothic"/>
              </a:rPr>
              <a:t>правильный,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добавляем ему окончание –ed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если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глагол не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, берем его вторую форму (из таблицы)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6" descr="гномик 4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395280" y="1111320"/>
            <a:ext cx="403848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4389480" y="1126800"/>
            <a:ext cx="4038480" cy="39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swim – swam -swu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66" name="Picture 9" descr="лист"/>
          <p:cNvPicPr/>
          <p:nvPr/>
        </p:nvPicPr>
        <p:blipFill>
          <a:blip r:embed="rId3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7" descr="гномик 12"/>
          <p:cNvPicPr/>
          <p:nvPr/>
        </p:nvPicPr>
        <p:blipFill>
          <a:blip r:embed="rId4"/>
          <a:stretch/>
        </p:blipFill>
        <p:spPr>
          <a:xfrm>
            <a:off x="712800" y="4859280"/>
            <a:ext cx="1871640" cy="18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9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0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1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2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3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4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76" name="Picture 20" descr="гномик 3"/>
          <p:cNvPicPr/>
          <p:nvPr/>
        </p:nvPicPr>
        <p:blipFill>
          <a:blip r:embed="rId1"/>
          <a:stretch/>
        </p:blipFill>
        <p:spPr>
          <a:xfrm>
            <a:off x="7858080" y="4643280"/>
            <a:ext cx="1066680" cy="1257480"/>
          </a:xfrm>
          <a:prstGeom prst="rect">
            <a:avLst/>
          </a:prstGeom>
          <a:ln w="0">
            <a:noFill/>
          </a:ln>
        </p:spPr>
      </p:pic>
      <p:sp>
        <p:nvSpPr>
          <p:cNvPr id="1377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8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9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0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1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2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3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56" dur="2000" fill="hold"/>
                                        <p:tgtEl>
                                          <p:spTgt spid="1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60" dur="2000" fill="hold"/>
                                        <p:tgtEl>
                                          <p:spTgt spid="1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64" dur="2000" fill="hold"/>
                                        <p:tgtEl>
                                          <p:spTgt spid="1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68" dur="2000" fill="hold"/>
                                        <p:tgtEl>
                                          <p:spTgt spid="1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72" dur="2000" fill="hold"/>
                                        <p:tgtEl>
                                          <p:spTgt spid="1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76" dur="2000" fill="hold"/>
                                        <p:tgtEl>
                                          <p:spTgt spid="1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80" dur="2000" fill="hold"/>
                                        <p:tgtEl>
                                          <p:spTgt spid="1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t’s have a r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5" name="Picture 6" descr="гномик 4"/>
          <p:cNvPicPr/>
          <p:nvPr/>
        </p:nvPicPr>
        <p:blipFill>
          <a:blip r:embed="rId1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7" descr="гномик 5"/>
          <p:cNvPicPr/>
          <p:nvPr/>
        </p:nvPicPr>
        <p:blipFill>
          <a:blip r:embed="rId2"/>
          <a:stretch/>
        </p:blipFill>
        <p:spPr>
          <a:xfrm>
            <a:off x="611280" y="4292640"/>
            <a:ext cx="18302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Прямоугольник 1"/>
          <p:cNvSpPr/>
          <p:nvPr/>
        </p:nvSpPr>
        <p:spPr>
          <a:xfrm>
            <a:off x="1187280" y="333360"/>
            <a:ext cx="655344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did you do yesterday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ent to school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lped my mother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went to the park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d my homewor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w a wonderful dream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read the books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wrote the letter to my friend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ent to the river,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layed footba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ched TV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17:28:21Z</dcterms:created>
  <dc:creator>User</dc:creator>
  <dc:description/>
  <dc:language>en-US</dc:language>
  <cp:lastModifiedBy>User</cp:lastModifiedBy>
  <dcterms:modified xsi:type="dcterms:W3CDTF">2021-11-24T08:18:39Z</dcterms:modified>
  <cp:revision>31</cp:revision>
  <dc:subject/>
  <dc:title>    </dc:title>
</cp:coreProperties>
</file>