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66A-47DB-49C6-B671-AD119159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BB4-8D21-4028-B1DC-6F90C70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E8A-0BB4-44C5-9CE6-FCAF675B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4DC-CAC9-4701-8DDB-9C4DE6CE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7944-1E9F-4E7C-B99E-CF8DFFA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DA3A-1131-46BA-9D81-C68C9663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656-0FC3-45EC-89D2-3F0DD3C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3139-767D-4022-9DC2-F046112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6061-DB12-4537-9E63-945ACC15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4F8-588A-4883-A20C-67D90E63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6DC-B5AF-454F-AA95-0730D91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73B-4606-45EC-980C-425F34E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48C9-8EE5-47B8-8570-2678340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BAAC-493A-4505-8A05-926EDB9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EC7-DBF9-487B-B5C4-5F2DB8FC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646-826D-449C-AAD7-C4896E09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5689-1816-4411-8FE5-1808B855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B28-2B03-4A29-B7FB-768563A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024-5F42-4F01-AE72-51DA40E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AA8-F4DB-40C7-A189-1E03960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9ED-CF29-489B-9EF7-3C29F47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15D-3AFD-4E35-AADC-5DF8D9A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ED4-B19E-44CF-B7CF-DF0D0E3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5FF-1C59-4671-A587-A4AE826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218-0D0A-447E-831B-3147FD1071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CDDF-05E3-4772-91F7-C2EDC75DD2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2133720"/>
            <a:ext cx="2808000" cy="215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39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71640" y="1773360"/>
            <a:ext cx="7272360" cy="24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1635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520720" cy="18907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51640" y="4292640"/>
            <a:ext cx="2701800" cy="174780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27280" y="1268280"/>
            <a:ext cx="3149640" cy="23511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575080" cy="19875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19640" y="3860640"/>
            <a:ext cx="1641240" cy="19861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084720" y="260280"/>
            <a:ext cx="2125800" cy="17654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39640" y="4076640"/>
            <a:ext cx="2519640" cy="18907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2133720"/>
            <a:ext cx="2808000" cy="215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133720"/>
            <a:ext cx="2808000" cy="2158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тр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151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720" y="2133720"/>
            <a:ext cx="2808000" cy="215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133720"/>
            <a:ext cx="2808000" cy="2158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тр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РТРЕТИ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95640" y="1514520"/>
            <a:ext cx="2952720" cy="38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696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Наскальная живопис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8483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АЮМСКИЙ  ПОРТР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2762280" cy="489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0668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РЕВНИЙ  ЕГИП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349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РТРЕТЫ  СОВРЕМЕННИК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2558880" cy="3313080"/>
          </a:xfrm>
          <a:prstGeom prst="rect">
            <a:avLst/>
          </a:prstGeom>
          <a:ln cap="rnd" w="76320">
            <a:solidFill>
              <a:srgbClr val="006633"/>
            </a:solidFill>
            <a:custDash>
              <a:ds d="100000" sp="1000"/>
            </a:custDash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455920" cy="3311280"/>
          </a:xfrm>
          <a:prstGeom prst="rect">
            <a:avLst/>
          </a:prstGeom>
          <a:ln cap="rnd" w="76320">
            <a:solidFill>
              <a:srgbClr val="006633"/>
            </a:solidFill>
            <a:custDash>
              <a:ds d="100000" sp="1000"/>
            </a:custDash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300400" cy="3384720"/>
          </a:xfrm>
          <a:prstGeom prst="rect">
            <a:avLst/>
          </a:prstGeom>
          <a:ln cap="rnd" w="76320">
            <a:solidFill>
              <a:srgbClr val="006633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63640" y="1557360"/>
            <a:ext cx="619308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0:35:46Z</dcterms:created>
  <dc:creator>Samsung</dc:creator>
  <dc:description/>
  <dc:language>en-US</dc:language>
  <cp:lastModifiedBy>111</cp:lastModifiedBy>
  <dcterms:modified xsi:type="dcterms:W3CDTF">2008-02-20T10:35:01Z</dcterms:modified>
  <cp:revision>21</cp:revision>
  <dc:subject/>
  <dc:title>Наскальная живопись</dc:title>
</cp:coreProperties>
</file>