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89D1-CDB3-47B1-A273-9C35D47393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ина Елена Александровна, учитель русского языка и литературы МОУ «СОШ № 62» г. Барнау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2F8C-40EB-4055-94FE-5E564099FC2C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ина Елена Александровна, учитель русского языка и литературы МОУ «СОШ № 62» г. Барнау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BCDC-E6E3-4022-9615-64765737F9EE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D20-361A-4DA6-9706-947BD90D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E33-98EC-46F7-9A55-822BC6C0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433-423A-4FB8-9403-FBCE704A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D62-EB72-4727-8C1D-7D412548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6EB2-B24F-4D8C-B006-0EEBC6B9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528D-719A-484A-99EF-3C407735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A326-6675-46F4-82F9-0F3A0895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A21E-6E4A-438A-9E10-7CFB702D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D172-9B13-43A9-AF00-E1011417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48D9-8F29-4A0E-8363-EAEDAF87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3F17-FA73-49BD-959A-64E2DCF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ECC-630B-42AE-9262-29DD4742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717F-2878-4037-A795-A2C34758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1E18-443E-4437-8A9E-49CFDA9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A5EA-2FE2-4F4B-A198-4CEE9270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B6A1-4850-4FD4-AA1B-7EC993BB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7831-6395-487F-B5F6-5B4160AB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DB6F-6E6D-4D51-973D-668BC0D2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FA3C-5DBF-4C4D-9733-564818C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511B-CCCE-4975-B3BF-4CA18389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F108-6E6F-471D-8B6E-376918D5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C52E-C492-436D-9CF8-906510DF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A50-315B-4129-998D-52A290BF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F54F-7BDD-4A5C-B0AC-D4084BEC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2CB4-B7DC-412E-B448-4C2AC2E6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542C-E0E5-4A80-9F72-8A31B6C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A4C4-A477-4866-9C52-4F503829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845D-7519-494D-8887-126A64BE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7ADB-C58D-4138-9564-89565C80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8F66-D3F7-48AB-919B-014014E4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D55-424B-428D-86D7-6D03F4A1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8D0-6325-48A1-92EF-77C0A1BA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9C8-6A63-4718-8FF5-F9C91BCB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122-B364-41A4-9769-550A651C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4E5-C5EE-4971-B9E9-75E283FA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9EC-22D3-4A06-9771-8C9B0DDC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C5B6-3A63-4FA5-AD41-9A741CB147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8836-D97E-48FF-8310-268A710D7D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878A-C1FA-4BC3-B543-E3FA2C92350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lh4.ggpht.com/litopys/SONc6Rp7eeI/AAAAAAAABcE/3cS1BBYYKf0/s400/nb_pinacoteca_bryullov_karl_portrait_of_v_a_zhukovsky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1442880" y="990720"/>
            <a:ext cx="7701120" cy="586728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2" descr=""/>
          <p:cNvPicPr/>
          <p:nvPr/>
        </p:nvPicPr>
        <p:blipFill>
          <a:blip r:embed="rId2"/>
          <a:stretch/>
        </p:blipFill>
        <p:spPr>
          <a:xfrm>
            <a:off x="-274680" y="36360"/>
            <a:ext cx="97725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1"/>
          <a:srcRect l="0" t="53751" r="21113" b="20625"/>
          <a:stretch/>
        </p:blipFill>
        <p:spPr>
          <a:xfrm>
            <a:off x="1828800" y="0"/>
            <a:ext cx="6248520" cy="23623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31" name="Picture 2" descr=""/>
          <p:cNvPicPr/>
          <p:nvPr/>
        </p:nvPicPr>
        <p:blipFill>
          <a:blip r:embed="rId2"/>
          <a:srcRect l="0" t="36877" r="2220" b="39378"/>
          <a:stretch/>
        </p:blipFill>
        <p:spPr>
          <a:xfrm>
            <a:off x="1752480" y="2666880"/>
            <a:ext cx="6705720" cy="1981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2" name="Picture 3" descr=""/>
          <p:cNvPicPr/>
          <p:nvPr/>
        </p:nvPicPr>
        <p:blipFill>
          <a:blip r:embed="rId3"/>
          <a:srcRect l="0" t="44377" r="2220" b="45000"/>
          <a:stretch/>
        </p:blipFill>
        <p:spPr>
          <a:xfrm>
            <a:off x="1676520" y="5029200"/>
            <a:ext cx="6705360" cy="129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1447920" y="482040"/>
            <a:ext cx="7696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ОЛИЦЕТВОРЕНИЕ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Образное определение, употребляемое чаще всего в переносном значении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РАВНЕНИЕ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крытое сравнение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МЕТАФОРА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риём выразительности речи, при котором неживые предметы наделены свойствами живых существ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ЭПИТЕТ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ыразительное средство языка, при котором один предмет или явление уподобляется другому 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3364560" y="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«Перепутанная цепочка»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998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то привлекает в стихотворении, о чём оно 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акое настроение оно выражает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а основании каких образов развивается художественный смысл стихотворения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акими изобразительно- выразительными средствами пользуется автор?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необычно стихотворение? В чём его неповторимость?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698A-7740-4F69-BFB2-0EF939F07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5" descr="http://inalchik.ru/wp-content/uploads/2015/05/%D0%90%D0%BB%D0%B8%D0%BC-%D0%9A%D0%B5%D1%88%D0%BE%D0%BA%D0%BE%D0%B2.jpg"/>
          <p:cNvPicPr/>
          <p:nvPr/>
        </p:nvPicPr>
        <p:blipFill>
          <a:blip r:embed="rId1"/>
          <a:stretch/>
        </p:blipFill>
        <p:spPr>
          <a:xfrm>
            <a:off x="4022640" y="3638520"/>
            <a:ext cx="2244960" cy="24019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4"/>
          <p:cNvSpPr/>
          <p:nvPr/>
        </p:nvSpPr>
        <p:spPr>
          <a:xfrm>
            <a:off x="1143360" y="594360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М.Паче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 Весна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15"/>
          <p:cNvSpPr/>
          <p:nvPr/>
        </p:nvSpPr>
        <p:spPr>
          <a:xfrm>
            <a:off x="4042800" y="60199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.П. Кешок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 Родная земля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40" name="i-main-pic" descr="Картинка 4 из 1389"/>
          <p:cNvPicPr/>
          <p:nvPr/>
        </p:nvPicPr>
        <p:blipFill>
          <a:blip r:embed="rId2"/>
          <a:stretch/>
        </p:blipFill>
        <p:spPr>
          <a:xfrm>
            <a:off x="4413240" y="-6480"/>
            <a:ext cx="1768320" cy="245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Бунин"/>
          <p:cNvPicPr/>
          <p:nvPr/>
        </p:nvPicPr>
        <p:blipFill>
          <a:blip r:embed="rId3"/>
          <a:stretch/>
        </p:blipFill>
        <p:spPr>
          <a:xfrm>
            <a:off x="6931080" y="-6480"/>
            <a:ext cx="1987560" cy="2603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Картинка 1 из 597"/>
          <p:cNvPicPr/>
          <p:nvPr/>
        </p:nvPicPr>
        <p:blipFill>
          <a:blip r:embed="rId4"/>
          <a:stretch/>
        </p:blipFill>
        <p:spPr>
          <a:xfrm>
            <a:off x="1444680" y="-6480"/>
            <a:ext cx="1914480" cy="25304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2"/>
          <p:cNvSpPr/>
          <p:nvPr/>
        </p:nvSpPr>
        <p:spPr>
          <a:xfrm>
            <a:off x="1375200" y="274320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В. А. Жуковский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«Приход весны»</a:t>
            </a: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Прямоугольник 23"/>
          <p:cNvSpPr/>
          <p:nvPr/>
        </p:nvSpPr>
        <p:spPr>
          <a:xfrm>
            <a:off x="3962520" y="2743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А.К.Толстой « Край ты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мой, родимый край..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Прямоугольник 24"/>
          <p:cNvSpPr/>
          <p:nvPr/>
        </p:nvSpPr>
        <p:spPr>
          <a:xfrm>
            <a:off x="6693480" y="28954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И. А. Бунин «Родина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Прямоугольник 25"/>
          <p:cNvSpPr/>
          <p:nvPr/>
        </p:nvSpPr>
        <p:spPr>
          <a:xfrm>
            <a:off x="6862680" y="601992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А.Шогенцук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Родина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47" name="Picture 14" descr=""/>
          <p:cNvPicPr/>
          <p:nvPr/>
        </p:nvPicPr>
        <p:blipFill>
          <a:blip r:embed="rId5"/>
          <a:stretch/>
        </p:blipFill>
        <p:spPr>
          <a:xfrm>
            <a:off x="1365120" y="3651120"/>
            <a:ext cx="2011320" cy="22989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4" descr="http://inalchik.ru/wp-content/uploads/2015/07/Ali-SHogentsukov.jpg"/>
          <p:cNvPicPr/>
          <p:nvPr/>
        </p:nvPicPr>
        <p:blipFill>
          <a:blip r:embed="rId6"/>
          <a:stretch/>
        </p:blipFill>
        <p:spPr>
          <a:xfrm>
            <a:off x="6626160" y="3578400"/>
            <a:ext cx="2524320" cy="2371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заимосвязанное изучение произведений русской и кабардинской</a:t>
            </a:r>
            <a:r>
              <a:rPr b="1" lang="ru-RU" sz="29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	</a:t>
            </a:r>
            <a:r>
              <a:rPr b="1" lang="ru-RU" sz="29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                   литературы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752480"/>
          <a:ext cx="8420040" cy="4552920"/>
        </p:xfrm>
        <a:graphic>
          <a:graphicData uri="http://schemas.openxmlformats.org/drawingml/2006/table">
            <a:tbl>
              <a:tblPr/>
              <a:tblGrid>
                <a:gridCol w="4730760"/>
                <a:gridCol w="3689280"/>
              </a:tblGrid>
              <a:tr h="455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.М.Пачев« Весна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В. А. Жуковский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«Приход весны»</a:t>
                      </a: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удалось очень лаконично, но выразительно представить образ прихода весны, оживления всего мира и передать восхищение, радость человека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Лента лицом вниз 4"/>
          <p:cNvSpPr/>
          <p:nvPr/>
        </p:nvSpPr>
        <p:spPr>
          <a:xfrm>
            <a:off x="0" y="5638680"/>
            <a:ext cx="9144000" cy="88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4688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Половина рамки 5"/>
          <p:cNvSpPr/>
          <p:nvPr/>
        </p:nvSpPr>
        <p:spPr>
          <a:xfrm rot="8202600">
            <a:off x="3769920" y="2932200"/>
            <a:ext cx="914400" cy="914400"/>
          </a:xfrm>
          <a:prstGeom prst="pie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Лента лицом вниз 6"/>
          <p:cNvSpPr/>
          <p:nvPr/>
        </p:nvSpPr>
        <p:spPr>
          <a:xfrm>
            <a:off x="0" y="5638680"/>
            <a:ext cx="9144000" cy="88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4688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9903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8221"/>
                </a:solidFill>
                <a:latin typeface="Times New Roman"/>
              </a:rPr>
              <a:t>Взаимосвязанное изучение произведений</a:t>
            </a:r>
            <a:br>
              <a:rPr sz="2800"/>
            </a:br>
            <a:r>
              <a:rPr b="1" lang="ru-RU" sz="2800" spc="-1" strike="noStrike">
                <a:solidFill>
                  <a:srgbClr val="968221"/>
                </a:solidFill>
                <a:latin typeface="Times New Roman"/>
              </a:rPr>
              <a:t> русской и кабардинской литера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1415880"/>
          <a:ext cx="8001000" cy="4919760"/>
        </p:xfrm>
        <a:graphic>
          <a:graphicData uri="http://schemas.openxmlformats.org/drawingml/2006/table">
            <a:tbl>
              <a:tblPr/>
              <a:tblGrid>
                <a:gridCol w="4157640"/>
                <a:gridCol w="3843360"/>
              </a:tblGrid>
              <a:tr h="491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А.К.Толстой « Край ты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мой, родимый край..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А.П. Кешоков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« Родная земля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Общие мотивы: природа и жизнь, природа и судьба, природа и любовь.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Арка 4"/>
          <p:cNvSpPr/>
          <p:nvPr/>
        </p:nvSpPr>
        <p:spPr>
          <a:xfrm rot="5400000">
            <a:off x="3657240" y="2971800"/>
            <a:ext cx="1143000" cy="838440"/>
          </a:xfrm>
          <a:prstGeom prst="pie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99036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</a:rPr>
              <a:t>Взаимосвязанное изучение произведений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</a:rPr>
              <a:t>русской и кабардинской литературы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1523880"/>
          <a:ext cx="9144000" cy="4992840"/>
        </p:xfrm>
        <a:graphic>
          <a:graphicData uri="http://schemas.openxmlformats.org/drawingml/2006/table">
            <a:tbl>
              <a:tblPr/>
              <a:tblGrid>
                <a:gridCol w="4789440"/>
                <a:gridCol w="4354560"/>
              </a:tblGrid>
              <a:tr h="49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. А. Бунин «Родина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А.Шогенцуков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«Родина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Удаётся представить не только портрет родного края через характерный пейзаж, но и выразить черты, роднящие человека и край, где он родился.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Арка 4"/>
          <p:cNvSpPr/>
          <p:nvPr/>
        </p:nvSpPr>
        <p:spPr>
          <a:xfrm rot="5400000">
            <a:off x="3543120" y="3162240"/>
            <a:ext cx="1143000" cy="761760"/>
          </a:xfrm>
          <a:prstGeom prst="pie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 advTm="8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Картинка 1 из 597"/>
          <p:cNvPicPr/>
          <p:nvPr/>
        </p:nvPicPr>
        <p:blipFill>
          <a:blip r:embed="rId1"/>
          <a:stretch/>
        </p:blipFill>
        <p:spPr>
          <a:xfrm>
            <a:off x="1219320" y="0"/>
            <a:ext cx="2136600" cy="289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Бунин"/>
          <p:cNvPicPr/>
          <p:nvPr/>
        </p:nvPicPr>
        <p:blipFill>
          <a:blip r:embed="rId2"/>
          <a:stretch/>
        </p:blipFill>
        <p:spPr>
          <a:xfrm>
            <a:off x="4038480" y="0"/>
            <a:ext cx="2090880" cy="2895480"/>
          </a:xfrm>
          <a:prstGeom prst="rect">
            <a:avLst/>
          </a:prstGeom>
          <a:ln w="0">
            <a:noFill/>
          </a:ln>
        </p:spPr>
      </p:pic>
      <p:pic>
        <p:nvPicPr>
          <p:cNvPr id="262" name="i-main-pic" descr="Картинка 4 из 1389"/>
          <p:cNvPicPr/>
          <p:nvPr/>
        </p:nvPicPr>
        <p:blipFill>
          <a:blip r:embed="rId3"/>
          <a:stretch/>
        </p:blipFill>
        <p:spPr>
          <a:xfrm>
            <a:off x="6934320" y="0"/>
            <a:ext cx="1855800" cy="28954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6"/>
          <p:cNvSpPr/>
          <p:nvPr/>
        </p:nvSpPr>
        <p:spPr>
          <a:xfrm>
            <a:off x="1219320" y="320040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ихотворени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Блок-схема: процесс 8"/>
          <p:cNvSpPr/>
          <p:nvPr/>
        </p:nvSpPr>
        <p:spPr>
          <a:xfrm>
            <a:off x="1219320" y="5257800"/>
            <a:ext cx="2057400" cy="762120"/>
          </a:xfrm>
          <a:prstGeom prst="flowChartProcess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4038480" y="320040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ихотворени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Прямоугольник 11"/>
          <p:cNvSpPr/>
          <p:nvPr/>
        </p:nvSpPr>
        <p:spPr>
          <a:xfrm>
            <a:off x="1219320" y="426708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Дерево решений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Прямоугольник 13"/>
          <p:cNvSpPr/>
          <p:nvPr/>
        </p:nvSpPr>
        <p:spPr>
          <a:xfrm>
            <a:off x="4038480" y="426708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Дерево решений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Блок-схема: процесс 14"/>
          <p:cNvSpPr/>
          <p:nvPr/>
        </p:nvSpPr>
        <p:spPr>
          <a:xfrm>
            <a:off x="4038480" y="5257800"/>
            <a:ext cx="2057400" cy="762120"/>
          </a:xfrm>
          <a:prstGeom prst="flowChartProcess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Прямоугольник 16"/>
          <p:cNvSpPr/>
          <p:nvPr/>
        </p:nvSpPr>
        <p:spPr>
          <a:xfrm>
            <a:off x="6858000" y="320040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ихотворени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Прямоугольник 17"/>
          <p:cNvSpPr/>
          <p:nvPr/>
        </p:nvSpPr>
        <p:spPr>
          <a:xfrm>
            <a:off x="6858000" y="426708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Дерево решений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Блок-схема: процесс 18"/>
          <p:cNvSpPr/>
          <p:nvPr/>
        </p:nvSpPr>
        <p:spPr>
          <a:xfrm>
            <a:off x="6858000" y="5181480"/>
            <a:ext cx="2057400" cy="762120"/>
          </a:xfrm>
          <a:prstGeom prst="flowChartProcess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rcRect l="0" t="37503" r="25559" b="31252"/>
          <a:stretch/>
        </p:blipFill>
        <p:spPr>
          <a:xfrm>
            <a:off x="1295280" y="-33480"/>
            <a:ext cx="78487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rcRect l="0" t="6251" r="4446" b="41253"/>
          <a:stretch/>
        </p:blipFill>
        <p:spPr>
          <a:xfrm>
            <a:off x="1828800" y="228600"/>
            <a:ext cx="6553080" cy="6400800"/>
          </a:xfrm>
          <a:prstGeom prst="rect">
            <a:avLst/>
          </a:prstGeom>
          <a:ln w="0">
            <a:noFill/>
          </a:ln>
        </p:spPr>
      </p:pic>
      <p:pic>
        <p:nvPicPr>
          <p:cNvPr id="213" name="AUD-20180302-WA001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447920" y="1843920"/>
            <a:ext cx="556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Calibri"/>
                <a:ea typeface="Times New Roman"/>
              </a:rPr>
              <a:t>ДОМАШНЕЕ ЗАДАНИ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  <a:ea typeface="Times New Roman"/>
              </a:rPr>
              <a:t>-составить  синквейн – пятистрочная стихотворная форма на тему: «Родина»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  <a:ea typeface="Times New Roman"/>
              </a:rPr>
              <a:t>-Написать сочинение-миниатюру на тему «Родной уголок природы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562360" cy="472428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3" descr=""/>
          <p:cNvPicPr/>
          <p:nvPr/>
        </p:nvPicPr>
        <p:blipFill>
          <a:blip r:embed="rId2"/>
          <a:stretch/>
        </p:blipFill>
        <p:spPr>
          <a:xfrm>
            <a:off x="-463680" y="-49320"/>
            <a:ext cx="9875880" cy="1128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6553080" cy="594360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3" descr=""/>
          <p:cNvPicPr/>
          <p:nvPr/>
        </p:nvPicPr>
        <p:blipFill>
          <a:blip r:embed="rId2"/>
          <a:stretch/>
        </p:blipFill>
        <p:spPr>
          <a:xfrm>
            <a:off x="682560" y="244440"/>
            <a:ext cx="8467920" cy="93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629400" cy="541008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396720"/>
            <a:ext cx="6375600" cy="93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285640" y="1143000"/>
            <a:ext cx="6553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«Край ты мой, родимый край…»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1" name="Picture 10" descr="книга1"/>
          <p:cNvPicPr/>
          <p:nvPr/>
        </p:nvPicPr>
        <p:blipFill>
          <a:blip r:embed="rId1"/>
          <a:stretch/>
        </p:blipFill>
        <p:spPr>
          <a:xfrm>
            <a:off x="6629400" y="518148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5120" y="-457200"/>
            <a:ext cx="6253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тихотворения о родной природ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Rectangle 7" descr=""/>
          <p:cNvPicPr/>
          <p:nvPr/>
        </p:nvPicPr>
        <p:blipFill>
          <a:blip r:embed="rId1"/>
          <a:stretch/>
        </p:blipFill>
        <p:spPr>
          <a:xfrm>
            <a:off x="-6480" y="695160"/>
            <a:ext cx="915696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Картинка 1 из 5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905120"/>
            <a:ext cx="2800080" cy="3886200"/>
          </a:xfrm>
          <a:prstGeom prst="rect">
            <a:avLst/>
          </a:prstGeom>
          <a:ln w="0">
            <a:noFill/>
          </a:ln>
        </p:spPr>
      </p:pic>
      <p:pic>
        <p:nvPicPr>
          <p:cNvPr id="225" name="i-main-pic" descr="Картинка 4 из 1389"/>
          <p:cNvPicPr/>
          <p:nvPr/>
        </p:nvPicPr>
        <p:blipFill>
          <a:blip r:embed="rId4"/>
          <a:stretch/>
        </p:blipFill>
        <p:spPr>
          <a:xfrm>
            <a:off x="6324480" y="1905120"/>
            <a:ext cx="2540160" cy="3962160"/>
          </a:xfrm>
          <a:prstGeom prst="rect">
            <a:avLst/>
          </a:prstGeom>
          <a:ln w="0">
            <a:noFill/>
          </a:ln>
        </p:spPr>
      </p:pic>
      <p:sp>
        <p:nvSpPr>
          <p:cNvPr id="226" name="Номер слайда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4029-0AB5-4D4B-8EBD-8E608F2EB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7" name="Picture 7" descr="Бунин"/>
          <p:cNvPicPr/>
          <p:nvPr/>
        </p:nvPicPr>
        <p:blipFill>
          <a:blip r:embed="rId5"/>
          <a:stretch/>
        </p:blipFill>
        <p:spPr>
          <a:xfrm>
            <a:off x="3352680" y="1905120"/>
            <a:ext cx="28069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219320" y="9144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ейзаж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</a:rPr>
              <a:t> – вид какой-либо местности и картины природы, картины природы художников. 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1219320" y="38098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ейзажная лирика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</a:rPr>
              <a:t>-стихи, посвященные изображению природы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учитель</cp:lastModifiedBy>
  <dcterms:modified xsi:type="dcterms:W3CDTF">2018-03-05T07:24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