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5C4-6743-4E62-823B-9B5C215F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B83-CAFF-4101-9EDA-8131F50A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7036-7359-49D0-A877-F6CF129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6290-C123-4F87-985C-720410B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F481-90D3-404A-B01C-3CD700C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A9AE-4DC6-4C4C-AB5C-7558C4F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DBF3-4AB9-45DC-83E9-E86C16B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1088-4C6B-4561-8CC5-C58F8657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5FA7-34CA-4F57-A629-CB1FBB6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B930-D597-448C-996A-606F6051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6A85-4316-4D8D-AFE8-F90D3493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5D1F-82D7-42D2-A9B7-E704D7D2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E27-B54C-401A-ADEE-3C06885A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6AA1-ACA0-4C44-8E12-67B5D33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3E41-93EC-4A5F-B2DA-31778CA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AA9C-E8B3-4567-9B5C-75167F57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36C0-2DF4-4278-B1B4-8220C42E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F8E0-1E76-4898-839A-9C15FBD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A4BB-129D-4941-BEBA-D4F7DDE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D474-2563-4AC3-9CA9-3194F4F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3115-A172-438F-98E0-A4E16CC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1EA0-98C8-4730-9C16-AF2B7D4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B4001-57B6-485A-97D9-7E1C2C8D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74D-B05C-40C7-9F56-DDEDD7D6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891B-BD5A-49F0-A360-BF63FDBB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0734-65D1-4530-B7EF-AAC5996C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50C4-2F38-417D-95E6-04106D8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73AB-ED53-4609-AFC8-210DBDD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DB73-C4A6-4165-82A0-5842BF5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88F7-7527-455A-A362-D5FAF2C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BA63-4951-4787-9887-25A6EDFD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034F-7E90-4F6F-8A38-49C167B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540AF-8D5A-412A-ACDF-936C15A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1E36-6084-4E78-8014-2AE49CF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DBA-82FD-4E5B-BABE-924871BF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FA18-CA53-4E82-B528-57441EBA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7413-E741-483C-9FFB-76ACC689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63258-301D-446C-A810-8B9FB306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75AB-DAA2-4C49-9150-B92E123E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8388E-4796-44E2-8A5F-60D5EB75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0DCB-6EB6-4DAB-ACA1-CE8D35F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EE91-A14A-44CB-AC2A-F87A04D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D8047-05F8-42CC-BBD9-D4104992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679BB-A2D8-4EA6-AA16-A43843F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7E1E-7884-4DBE-8E7D-B2E45A3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EE70-2D5B-437B-A711-15F77C0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1039-F0A5-4621-A9B5-E433BFD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18AF-8A77-4E18-970E-3E2007A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2097-52BC-4250-8B5D-DA4FDD9F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1DBD-D67F-4B89-AB41-86EACED6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3A68-76A8-4B6C-A85E-1531D0CF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F5E8-1DDE-4A9D-BDC7-73EF5CBC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119B-586A-4F69-80BD-FD836C8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190A-5B98-4582-99A6-097BD74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3782-FD7B-4CA0-9A0F-01E3972D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1EB6-9170-4245-AED2-20869EB7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869C-7CBE-4C9B-9E93-B43BBD01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8B59-EF2E-4341-A175-4752113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ACCF-ADAE-4CBA-9495-2FBFD46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95DA-A0E0-4E88-913E-59EF145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BC8C-6338-4131-8B44-3BED952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60C6A-C601-46CF-A5AD-4DB8778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1456-EF20-43D8-9D37-3A4E3FDA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58EF-EFD5-4852-9A69-41698360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5598-A728-4B4E-8913-46C41CFA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2F157-BA45-4053-BC04-B0A61422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248B-6CBB-489B-9D24-E2288549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7CF-723F-4ADC-9E33-ED69448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E311C-FEF6-43CD-901D-F365EC6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8B85-CCB2-4FAC-89A1-A9F50AC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2470-397D-491E-B69A-5EC1992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F70B-1003-4775-A201-F601EE0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E9FD8-48B9-431B-A4DA-7B17BC0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D367-F410-424E-9131-4B429D0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5315A-1E58-40C7-9B03-98F30822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4944-439B-4346-B80E-A1F28CDC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75FBF-DCA9-4644-ADE3-EBC58BBA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6CD96-D29F-4187-83EC-A6653C79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73B1-95AC-4720-A2AC-699BA352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18B87-5326-40A7-BFDA-2AA47E4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7F659-4E0D-42C7-8A62-48A0CBD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D3AF-B790-45C0-AF6B-636D3514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AB9F-E13E-4625-8EF7-FB3E048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26FE6-1EF6-4A6B-9C05-5B41C6B1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AEE61-E364-4A1D-A67C-E536031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12DF5-9B9E-4A36-8857-57D46E2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A8411-12CC-4D24-B816-AB08670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34D49-694B-42BB-A9E1-40B9F29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B17B-5FB8-4D69-91F9-8A8C481D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26DC-FE3A-41AD-B900-BB9A5AB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0BE3E-B5E8-4D75-8360-C5CCA9A5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00661-9432-4379-8EB6-193CCB36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A4714-6F4E-4E5D-A707-F7E869B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23805-7BDB-4615-B8D1-0C95D44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6E116-8929-4E54-9799-738B8CF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EAB8A-A3DC-4A41-8D6C-0315FB93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57A25-735B-42F8-B4EB-EA9BA860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73217-9E65-4508-B492-626E36B0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51D7-D4C1-40A6-B65B-0433365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E570D-45B7-4C27-954A-C366312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E624-0D86-4EAE-9F07-6343C30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84DA-F9FF-43B2-B201-C1B687B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39D33-DB89-4252-820A-9AD39142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BC0A-D554-4719-AD1A-A2C275C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9964-F54F-4E36-A70E-D4E9CB73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1F750-4D3E-45AD-AE1F-871E4E87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DCC75-2B8B-43EF-A48F-B2ABA6B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C7388-5204-4B65-961E-2234A69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45E5-6169-45B1-81E4-48B7FE1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8CDF5-5CDD-4563-8858-1C5B7595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B6C0-30AA-40CD-A1F3-D428AA8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7F4-176C-4468-9FE0-044114FF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6F97-CBF5-456A-8304-E8B0F7E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B3C33-3119-49A6-9199-7502B413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AEDFF-87D7-4B53-835F-8243C2A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19186-B9C0-4076-ADED-BEC4F1D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D0AAE-730A-4909-BA7C-436670FC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6CEEE-07EB-4445-94E1-5ED0BBD3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D2A77-A2AB-4495-97AE-9B5F91EA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08698-5E70-4F18-902E-31C9953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434C7-CC48-4472-92C5-A1DD5C5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39687-98B4-4C9C-AE6D-B5CC94E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460AA-C301-42C4-8C22-A3AB2661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D97-7376-4DB7-9E45-80BB43C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A6F80-AB47-47F5-B07A-E48452AF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3AC77-FE52-418B-A0A1-9BD4A5E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7F2FA-A9A1-49C0-AD8F-0BFD741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AE00A-36CE-4445-9BB9-9890F60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6F6BA-8330-48EB-9A04-F8EA25A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48E41-DE76-4596-B280-4368FAF0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9F8D0-0880-4655-8537-7B4070F7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D4AC1-2AF4-41B0-9ACD-06EF8D6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9DAA8-C3B5-4244-BA08-D565D8A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E69D0-C7B1-44E2-A725-3D088A4B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633F-BD22-4798-A440-7D98202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E7101-AD3F-49DC-B366-183C181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5E27D-52CB-41AE-B186-9CE8E0AC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7D523-6FA8-43DD-BF6E-8298A6C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2FDE1-C814-4948-A793-45493BA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DB4B9-124F-415C-8EA8-3ADCB06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B166F-8798-45FB-ACE5-22146A15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7AF6C-11F2-4FD9-A481-A991FE74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65C5A-6F4D-4D09-96AC-421FD204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1AE22-6212-4951-9C7C-79CB7EB0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A86E9-30E3-4EF7-8348-B22C915D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5BDC-2449-4B64-A769-1B81E1BE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74188-B295-4893-8835-3D78D458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DD461-1E82-4C21-AFC9-A2F4E0B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B08DC-E9CF-4B8D-86BE-CA38348E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77226-377D-4E03-8BCA-1C3F71A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8BEEB-7175-4969-9A03-C689920F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739BE-4FB1-4558-9D8B-DF9089F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4EF8B-FAE1-43E9-B8F0-00BEA6B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FA41D-6093-496E-8626-CF62438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4B995-E746-4129-81BD-42E063EB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ACE20-5BCA-40C8-B8CC-F82F9A58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20E-0057-45CA-A03D-601C7F99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9F056-0969-4385-B51C-941EC767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71CCC-B14D-4B6C-AF58-C5380921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EEC9F-8F1E-49E7-9493-46CFEAF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4D4B2-CD94-4211-9C76-F468D94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DE7C1-559A-4662-BD77-ED4068F2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0A9A6-1D3B-494D-B4C4-360AB8A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B3D04-4596-4D44-9275-9D61C2A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36BE3-FDCF-465C-B27A-3ABAEC1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A52ED-8D6C-4E49-A453-CC28AD0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3458E-B8A3-4520-A4B2-202CB57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147CF-8942-421C-AC2E-7E75EA3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BF266-C73F-4A3E-B6C2-2A16010A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3D2E3-2F9A-4911-81D1-A36A8907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E94-EAE0-4C29-B3B5-DD686E3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BFA-0A35-40A7-A058-313EC6EB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F50-ABF2-4134-9D91-98288C8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EB9-B968-48F0-9213-51F66AB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C18-ABFF-40EE-BD1E-E1A2E2B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AD5-913A-4052-9EB6-E3FC16C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930-6B9E-4EAD-84B1-D8D4C98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440C-452F-44F8-A108-D0A04740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7240-DC9C-4314-8E01-840FDFE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0F0E-8EEB-4A27-8E77-153FC13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D424-C6CA-4CAD-80B1-1EC54F06F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9630-EDB4-4417-A694-1A366ED5EF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BE9C-E915-4EFB-967A-55FFD975D3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169-CD49-4CF0-AF37-C56656F48E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589-08C9-4F45-9FC8-C704EC1822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05D-4695-4AE9-8E45-BE045C68DA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FE7-994C-4A24-94C3-DA2ED20DEE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F3B-E448-45AE-9B2B-E9C85A06EA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21E9-7529-42EC-9720-B15E0E3E8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AEC-16EB-4DEE-A564-0CA6820C6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CBF-7626-4097-82F7-D2D5D6FE8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2A37-25CD-4CC3-A487-1531CE598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EAA-BFA0-47D1-B01E-BDB2D294A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92F-20B5-484C-9F6C-831FEAF14C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430-5367-4341-AFDD-9CDD9831C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крутой.mp3" descr=""/>
          <p:cNvPicPr/>
          <p:nvPr/>
        </p:nvPicPr>
        <p:blipFill>
          <a:blip r:embed="rId1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4"/>
          <p:cNvSpPr/>
          <p:nvPr/>
        </p:nvSpPr>
        <p:spPr>
          <a:xfrm>
            <a:off x="2550960" y="1341360"/>
            <a:ext cx="64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5"/>
          <p:cNvSpPr/>
          <p:nvPr/>
        </p:nvSpPr>
        <p:spPr>
          <a:xfrm>
            <a:off x="-571680" y="428760"/>
            <a:ext cx="1011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Bookman Old Style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кажды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кажды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ам новое до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будет добрым ум у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сердце добр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07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7707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накрепко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85808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и, большие, от, справа, дороги, камн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, сосновый, слева, стоит</a:t>
            </a:r>
            <a:br>
              <a:rPr sz="4400"/>
            </a:br>
            <a:br>
              <a:rPr sz="44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4" descr="C:\Users\1\Desktop\1300334814_deti2.png"/>
          <p:cNvPicPr/>
          <p:nvPr/>
        </p:nvPicPr>
        <p:blipFill>
          <a:blip r:embed="rId1"/>
          <a:srcRect l="74558" t="-1331" r="0" b="69225"/>
          <a:stretch/>
        </p:blipFill>
        <p:spPr>
          <a:xfrm rot="21268200">
            <a:off x="7243920" y="3509640"/>
            <a:ext cx="1374480" cy="993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5" descr="C:\Users\1\Desktop\1300334814_deti2.png"/>
          <p:cNvPicPr/>
          <p:nvPr/>
        </p:nvPicPr>
        <p:blipFill>
          <a:blip r:embed="rId2"/>
          <a:srcRect l="78631" t="33450" r="577" b="30538"/>
          <a:stretch/>
        </p:blipFill>
        <p:spPr>
          <a:xfrm rot="20867400">
            <a:off x="112320" y="37573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11"/>
          <p:cNvSpPr/>
          <p:nvPr/>
        </p:nvSpPr>
        <p:spPr>
          <a:xfrm>
            <a:off x="214200" y="285840"/>
            <a:ext cx="692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цени свою раб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2"/>
          <p:cNvSpPr/>
          <p:nvPr/>
        </p:nvSpPr>
        <p:spPr>
          <a:xfrm>
            <a:off x="1214280" y="1500120"/>
            <a:ext cx="7000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я работа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обенн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142920" y="4786200"/>
            <a:ext cx="8786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о, ужасно, интересно, скучно, страшно, сначала, сегодня, правильно, отлично, бесполе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Рисунок 9" descr="D:\Natalia\ЖОНКИНА ПИСАНИНА\картинки\школьное\Рисунок2.jpg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Рисунок 7" descr="D:\Natalia\ЖОНКИНА ПИСАНИНА\1194003338_cementtonnel.png"/>
          <p:cNvPicPr/>
          <p:nvPr/>
        </p:nvPicPr>
        <p:blipFill>
          <a:blip r:embed="rId1"/>
          <a:stretch/>
        </p:blipFill>
        <p:spPr>
          <a:xfrm>
            <a:off x="5572080" y="3983040"/>
            <a:ext cx="3411720" cy="2846520"/>
          </a:xfrm>
          <a:prstGeom prst="rect">
            <a:avLst/>
          </a:prstGeom>
          <a:ln w="0">
            <a:noFill/>
          </a:ln>
        </p:spPr>
      </p:pic>
      <p:pic>
        <p:nvPicPr>
          <p:cNvPr id="891" name="Рисунок 8" descr="D:\Natalia\ЖОНКИНА ПИСАНИНА\картинки\дети\malch85.jpg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2548080"/>
          </a:xfrm>
          <a:prstGeom prst="rect">
            <a:avLst/>
          </a:prstGeom>
          <a:ln w="0">
            <a:noFill/>
          </a:ln>
        </p:spPr>
      </p:pic>
      <p:sp>
        <p:nvSpPr>
          <p:cNvPr id="892" name="TextBox 10"/>
          <p:cNvSpPr/>
          <p:nvPr/>
        </p:nvSpPr>
        <p:spPr>
          <a:xfrm>
            <a:off x="214200" y="2786040"/>
            <a:ext cx="8786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3"/>
          <p:cNvSpPr/>
          <p:nvPr/>
        </p:nvSpPr>
        <p:spPr>
          <a:xfrm>
            <a:off x="2916360" y="4724280"/>
            <a:ext cx="4968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Прямоугольник 4" descr=""/>
          <p:cNvPicPr/>
          <p:nvPr/>
        </p:nvPicPr>
        <p:blipFill>
          <a:blip r:embed="rId1"/>
          <a:stretch/>
        </p:blipFill>
        <p:spPr>
          <a:xfrm>
            <a:off x="3067200" y="426960"/>
            <a:ext cx="5832360" cy="603360"/>
          </a:xfrm>
          <a:prstGeom prst="rect">
            <a:avLst/>
          </a:prstGeom>
          <a:ln w="0">
            <a:noFill/>
          </a:ln>
        </p:spPr>
      </p:pic>
      <p:sp>
        <p:nvSpPr>
          <p:cNvPr id="852" name="Прямоугольник 6"/>
          <p:cNvSpPr/>
          <p:nvPr/>
        </p:nvSpPr>
        <p:spPr>
          <a:xfrm>
            <a:off x="2786040" y="1285920"/>
            <a:ext cx="621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 впол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говорит - другие слуш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бивай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важением относись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овор должен идти только о предмет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3"/>
          <p:cNvSpPr/>
          <p:nvPr/>
        </p:nvSpPr>
        <p:spPr>
          <a:xfrm>
            <a:off x="3071880" y="1357200"/>
            <a:ext cx="5857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описание суффиксов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-а, и -о  в наречиях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 пристав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5"/>
          <p:cNvSpPr/>
          <p:nvPr/>
        </p:nvSpPr>
        <p:spPr>
          <a:xfrm>
            <a:off x="3429000" y="214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56" name="TextBox 2"/>
          <p:cNvSpPr/>
          <p:nvPr/>
        </p:nvSpPr>
        <p:spPr>
          <a:xfrm>
            <a:off x="1187280" y="301680"/>
            <a:ext cx="59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7"/>
          <p:cNvSpPr/>
          <p:nvPr/>
        </p:nvSpPr>
        <p:spPr>
          <a:xfrm>
            <a:off x="-973080" y="428760"/>
            <a:ext cx="101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571760" y="214200"/>
          <a:ext cx="6095880" cy="5072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о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реп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ем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л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ы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г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ред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чи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в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запро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4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изредк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сно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2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дочи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6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впра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Таня</cp:lastModifiedBy>
  <dcterms:modified xsi:type="dcterms:W3CDTF">2018-02-15T16:54:32Z</dcterms:modified>
  <cp:revision>104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