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92FF-94FC-4294-9517-440B7868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18D6-0052-4701-B465-64943DDB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ACDFF-1731-43D9-B7C7-88FEA4B1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46F97-DD5C-461B-BC5C-CDCBBB0E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95385-A59C-436E-8C7B-62A0684F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89FC8-8366-4496-891F-03C89B57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CFCF9-12EB-4376-BC38-77D5E82D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813CE-EAED-47B2-9BF6-BA92F074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F4B39-A2E7-447A-B22A-CE6C8B41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5F6F2-F52E-4D71-8FE5-03566575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A66D9-5235-43F6-829B-203FBA10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0F140-11F5-433A-AC38-C9F39037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2FED-F3E7-433D-8F82-DCF6B6D89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45DAF-49E4-4329-B7BF-5EE7CCB2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A9A36-7061-48FB-9012-9AD66085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94EEE-BD3F-4835-A8FD-A019F190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E1284-E23D-4007-8B1C-29845308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63FA2-8D0D-4A8C-B822-45538460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E3AE8-50EC-40CE-B8E7-790BB6DD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61E2D-9C8C-4877-A748-A6373F9E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F34B5-5F2A-454A-B563-5B001CB2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B46D8-9555-4D53-B701-29F83B9B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DFED7-3284-41B4-9294-ACA842C4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E95F-4F70-49A9-B183-05BD441C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BDC1E-4FE0-4158-883E-2D4C1B5A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16590-5774-4BDB-9A2B-5478301FF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72F25-1C73-4C79-AE73-F2CFB3E0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FBDF0-0D63-4F6B-B13D-68FD56BC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2B02A-F74E-4A4C-919F-E4CD1901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62FF2-AFD9-4B88-896F-CBF8A203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79822-C962-4F9E-B4CD-447C6658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C9229-32C2-406D-92D1-5D7736F3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00FBB-3B42-44AA-9273-8BADA825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E2DE5-F7E4-48D1-902D-8AEE2A15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55A8-5E96-4F12-8DB9-D483299D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950B9-456C-4F9C-9C1D-7BFE3950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CF375-AA6F-4EB9-A087-2C7D2F16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27E2C-4010-4AA7-87DB-0A6E2044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BB813-8DC1-4229-A084-DB339983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70BB0-4041-4CF5-9BC2-035F2798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8BD7F-908A-47AF-83FF-10E231F0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67EA2-F58A-4FF7-B657-77C3FB5D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6B24D-BC67-4463-A914-235413CC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CA1FE-8C11-48FB-88AD-2E3B5AB9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42EC4-C7AC-4D71-A540-1EBA6B35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4A9E-3A81-4E6F-93A9-E9B92602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7F55A-278D-4B46-9E26-B0009F0B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D1057-A571-4022-BB45-8883B295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E6A8A-0E2D-45B0-B6EF-69573600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8663D-2664-4562-8D8B-CD8A1AC8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65D7E-B319-4397-9267-D45F1492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2D4E4-DE9A-4291-AD79-C7EC307A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20641-6920-432B-A01E-CA07401E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5CB00-EEEB-49C0-B215-078980EC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B0AC8-528F-48F9-857A-6EDEA37B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867A7-450B-4498-8393-D8183642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A3C4-6A29-49C0-B060-E540B642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3D970-BB4D-4740-B25F-E06B73F0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029C2-DAEE-412E-A843-E95DC30C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325B9-370B-438D-A3E6-F9BCA3B8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31B3E-0637-4C58-9970-E8D7903A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CD5DD-08C5-478C-B960-2E8442F2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C7F6A-D0DD-4FC9-93CD-4FAB5334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EBC3C-DF17-4068-A1A9-C5D51161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B9619-4C06-4955-978D-66495B15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72393-0CE5-4461-84CE-6DEFF694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C784F-C9CD-4180-BB5C-40BE73FD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D932-C86A-4898-A474-383306FC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2C834-7CAD-4F8B-9FD7-C1503FBD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D80A3-F885-4352-B337-E4057EB1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881E6-D1B5-4662-99F0-78C4B98F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477C3-2D3C-462F-A440-81AA0168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B824F-4E30-423F-B312-C55F05A3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F867B-9341-4100-85CC-D2696339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24316-4924-4464-A3EC-E5283C9B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D566E-9861-486B-AB6F-FD189A1AA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738FA-42E3-4030-B78E-A6476C1D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2652D-B18D-4F49-A449-21B7DFDF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69A7-BFF8-4E5B-9951-68E35F0E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01E3B-DF94-4F6C-BB93-56C36AE4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AF2BA-2007-43F2-9B09-4F2FDA41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BD884-F19D-4BC1-BEEB-E43FA9A4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E80E5-7C2F-4DAB-87B8-6A2F83FA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80D73-8E9A-4C75-A977-F4C5F44E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D51DE-25D1-435A-98DC-7A95E309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C6494-F13C-409F-89D5-214928F1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6ABB1-E10F-4646-A7AD-1B874DC8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FAA99-DE34-4EB8-9E72-1FA2C0D2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EB8E7-304E-49F5-A0DF-B806D27B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3157-87CF-48AC-BF73-C6BF71C6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36E19-3031-40A4-900B-0FAD952A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D9234-9E39-4306-9CCF-F2D7DC9B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66F07-D196-4404-8BB5-413D89D0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3DD1B-84D1-416F-AB6B-31E4956C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4F253-E7DF-46B7-8228-0CCC808E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25901-0D70-4F4B-B7B4-0F6287EE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57E4D-D13A-465F-BF44-05E75A91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5A402-9ADA-4C8E-B111-5C846B2F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97F41-130C-40FB-8543-08436420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E895D-2630-4704-8F74-DF8231D8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B549-C1BC-4473-BDCF-06AAD9C4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15527-19D8-4089-88DD-752BF9FA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E92E4-70C9-4C42-B7A6-6F92136F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CBF7D-33FA-4603-89E8-63B80C58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267D1-DEB5-4C8F-967F-6A76F211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C66AB-4E7F-453B-8FCB-EFEB16E0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EC1E9-36A3-4431-8112-F356A44F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526D9-AC70-4DD8-ABC4-48DCCE99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04965-B513-45AB-991B-0EF97230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07716-A6B9-4A2F-B201-92ACC7DB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85680-DF80-4A4E-97A1-F2C85E34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CAB4-3FE7-445D-AD7F-98FE8A59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7D1F-121C-4F7E-9CD8-4B8D3B6F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39062-F55E-42AC-BA79-3574F18B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C6321-BADD-48AB-8004-7C9D16CF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067AD-6E94-4A19-A512-1C086D14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B312B-48D8-4AAA-845A-82DBECA9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1DDBF-2DE4-44D2-AACB-250C60E4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1D2E9-FEF5-49D6-8C02-9EC48B17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7F59F-20D0-46CD-85A3-91B394A8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7DD38-B287-4BBF-AB6E-360DA491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B5C12-D3A3-415F-9631-821C68DF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23C35-48F2-457B-B69C-EB1BE95C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5C6A-7529-4671-B48D-40D9F783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BD024-F30B-4979-A3CB-AA27F910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86550-4975-43DE-922F-018A56D3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9538D-470E-4F01-8B6D-CFE0D100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4C7FD-5133-4D40-B890-CDCA2951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B87D1-A1DE-456D-AA88-9674FE7B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DBDD24-A8AA-4E7F-9ACD-26CD8F4E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CD969-4D70-46ED-ADFC-3F0E8595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6580E9-F482-4469-B16B-D822FB26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DD16B6-5E69-446C-920F-A47C450E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D8D4A0-3F6D-48D2-B779-C850C40E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F46D-5DEA-4A55-BF5E-9F7BD28D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D59071-BC31-4AB7-A51E-DEDF2951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4DADCB-A0BE-47AF-B8C6-585F5B2D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718B91-713D-4F8A-8723-B708B566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6E5445-9349-40A6-8396-742506CF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2DF921-C435-49A0-A47A-16591721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0FC42-07F7-412C-A2CE-0F2B1D2E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33FA3B-03AF-4BAC-9772-E90C55D2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8E5B1-AEBC-4EA0-856F-4DB8181D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558DF-260F-4DEA-9E9B-22C8C4F9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3339BD-A03B-4F71-A4D1-6B51D434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4BF2-E779-4166-AF57-DF3C6F16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13554B-7E97-4C87-8ECA-6354C4D6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C1E54D-7738-402F-9C9C-B803AD77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0543E6-839D-42EA-B698-996071DB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C87741-17A1-4824-8EC8-2B46FE02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7AF2E4-BC70-4649-AD20-CA8DE3BF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15CE16-90AD-425E-B7BE-FA403429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061247-D11B-438C-ADBA-3FC70EF4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CA0D09-F724-4B74-849F-3EEF7D5A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A27097-F0A0-489D-9B6A-21531772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AF4325-1ABC-4FF9-99B9-BA6E2511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ADB2-746D-4FAB-8039-E9ECF548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745177-50CE-4671-8B26-C771ECDE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09052C-2B0C-4109-B9D4-AFB0DE18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9969F2-65DE-46B7-A8AB-1CA7ED6F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53747B-18AF-4B66-A70B-08E0AEDA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3A98A8-EA91-477F-9183-9F325B6B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7FAD8D-B993-4199-B3AD-5BAAEE17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6989AE-FCD5-4851-A965-D83EB99B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7FC848-D0DA-404F-8F1D-26568C81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7932D6-7593-460F-A0BF-8E065756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6279E6-5F01-49B1-9A59-B9A6405C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AC20A8-BA04-473F-BB46-0636B87B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C21224-BF88-4E42-856E-46161F03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83484A-749F-4E9C-A849-94E1AA86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7DCD-AF02-4912-A69B-2AB3DA6F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0162-D6E1-46C7-A5C4-9F8BCC6F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B453-F06B-4C98-A815-81142A65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C4E1-A243-45DE-8513-026E659D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90BC-0106-4C4B-971F-BD466356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5D3B-0D93-4A76-A9CF-22DEB429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828E-6990-47C1-8C00-59EFA0E6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86C8F-12C3-4D24-9B5B-EA81BCF3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55957-B7AD-4D2E-B735-DD107116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039D7-F1A2-425E-8CA1-19ACE70A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1FB8-4E03-4232-9876-CD912674AA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091A-6D8B-42EC-92F9-8A0A899F51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DA38-D348-4D26-8078-F4E700FACA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169C-0D0B-4FBD-8425-DF0CAAC3C0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A726-C1DD-424C-8E78-092FDC82CC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7F9F-0097-4BB2-9E5A-9910CC76E5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5C9A-39AE-4441-947A-7F10B608E0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1EF2-7E44-4431-93E6-68CA207801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7A23-E109-4B97-9E9B-463582AF24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7FD4-8027-40AF-BC8D-91287AF1F2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3909-1B3A-4240-B926-439050C899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DDBD-88E2-4060-8C6F-E82C7FF048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2963-7612-457C-900F-0A736FBB22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9960-6A9C-4E72-B05E-416D1F20BD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8887-E3F4-43C3-9A40-D185CB3825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крутой.mp3" descr=""/>
          <p:cNvPicPr/>
          <p:nvPr/>
        </p:nvPicPr>
        <p:blipFill>
          <a:blip r:embed="rId1"/>
          <a:stretch/>
        </p:blipFill>
        <p:spPr>
          <a:xfrm>
            <a:off x="428760" y="61437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48" name="TextBox 4"/>
          <p:cNvSpPr/>
          <p:nvPr/>
        </p:nvSpPr>
        <p:spPr>
          <a:xfrm>
            <a:off x="2550960" y="1341360"/>
            <a:ext cx="6443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Прямоугольник 5"/>
          <p:cNvSpPr/>
          <p:nvPr/>
        </p:nvSpPr>
        <p:spPr>
          <a:xfrm>
            <a:off x="-571680" y="428760"/>
            <a:ext cx="101174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Bookman Old Style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Bookman Old Style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усть каждый ден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 каждый 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ам новое добуд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усть будет добрым ум у в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 сердце добрым буд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7707" fill="hold"/>
                                        <p:tgtEl>
                                          <p:spTgt spid="8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17707"/>
                            </p:stCondLst>
                            <p:childTnLst>
                              <p:par>
                                <p:cTn id="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 txBox="1"/>
          <p:nvPr/>
        </p:nvSpPr>
        <p:spPr>
          <a:xfrm>
            <a:off x="8604000" y="0"/>
            <a:ext cx="53964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80" name="TextBox 2"/>
          <p:cNvSpPr/>
          <p:nvPr/>
        </p:nvSpPr>
        <p:spPr>
          <a:xfrm>
            <a:off x="428760" y="428760"/>
            <a:ext cx="765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1"/>
          <p:cNvSpPr/>
          <p:nvPr/>
        </p:nvSpPr>
        <p:spPr>
          <a:xfrm>
            <a:off x="142920" y="1143000"/>
            <a:ext cx="80722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17375e"/>
                </a:solidFill>
                <a:latin typeface="Calibri"/>
              </a:rPr>
              <a:t>накрепко__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Picture 2" descr="C:\Users\1\Desktop\3nomj6pvjd.png"/>
          <p:cNvPicPr/>
          <p:nvPr/>
        </p:nvPicPr>
        <p:blipFill>
          <a:blip r:embed="rId1"/>
          <a:stretch/>
        </p:blipFill>
        <p:spPr>
          <a:xfrm>
            <a:off x="7143840" y="2374920"/>
            <a:ext cx="226044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7858080" cy="50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ли, большие, от, справа, дороги, камни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, сосновый, слева, стоит</a:t>
            </a:r>
            <a:br>
              <a:rPr sz="4400"/>
            </a:br>
            <a:br>
              <a:rPr sz="4400"/>
            </a:br>
            <a:br>
              <a:rPr sz="20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Picture 4" descr="C:\Users\1\Desktop\1300334814_deti2.png"/>
          <p:cNvPicPr/>
          <p:nvPr/>
        </p:nvPicPr>
        <p:blipFill>
          <a:blip r:embed="rId1"/>
          <a:srcRect l="74558" t="-1331" r="0" b="69225"/>
          <a:stretch/>
        </p:blipFill>
        <p:spPr>
          <a:xfrm rot="21268200">
            <a:off x="7243920" y="3509640"/>
            <a:ext cx="1374480" cy="99360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5" descr="C:\Users\1\Desktop\1300334814_deti2.png"/>
          <p:cNvPicPr/>
          <p:nvPr/>
        </p:nvPicPr>
        <p:blipFill>
          <a:blip r:embed="rId2"/>
          <a:srcRect l="78631" t="33450" r="577" b="30538"/>
          <a:stretch/>
        </p:blipFill>
        <p:spPr>
          <a:xfrm rot="20867400">
            <a:off x="112320" y="375732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886" name="TextBox 11"/>
          <p:cNvSpPr/>
          <p:nvPr/>
        </p:nvSpPr>
        <p:spPr>
          <a:xfrm>
            <a:off x="214200" y="285840"/>
            <a:ext cx="692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Оцени свою работ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на уро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12"/>
          <p:cNvSpPr/>
          <p:nvPr/>
        </p:nvSpPr>
        <p:spPr>
          <a:xfrm>
            <a:off x="1214280" y="1500120"/>
            <a:ext cx="700092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уроке мне было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тому что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уроке я работал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обенно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13"/>
          <p:cNvSpPr/>
          <p:nvPr/>
        </p:nvSpPr>
        <p:spPr>
          <a:xfrm>
            <a:off x="142920" y="4786200"/>
            <a:ext cx="87868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рошо, ужасно, интересно, скучно, страшно, сначала, сегодня, правильно, отлично, бесполез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Рисунок 9" descr="D:\Natalia\ЖОНКИНА ПИСАНИНА\картинки\школьное\Рисунок2.jpg"/>
          <p:cNvPicPr/>
          <p:nvPr/>
        </p:nvPicPr>
        <p:blipFill>
          <a:blip r:embed="rId3"/>
          <a:stretch/>
        </p:blipFill>
        <p:spPr>
          <a:xfrm>
            <a:off x="6572160" y="0"/>
            <a:ext cx="2571840" cy="2368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Рисунок 7" descr="D:\Natalia\ЖОНКИНА ПИСАНИНА\1194003338_cementtonnel.png"/>
          <p:cNvPicPr/>
          <p:nvPr/>
        </p:nvPicPr>
        <p:blipFill>
          <a:blip r:embed="rId1"/>
          <a:stretch/>
        </p:blipFill>
        <p:spPr>
          <a:xfrm>
            <a:off x="5572080" y="3983040"/>
            <a:ext cx="3411720" cy="2846520"/>
          </a:xfrm>
          <a:prstGeom prst="rect">
            <a:avLst/>
          </a:prstGeom>
          <a:ln w="0">
            <a:noFill/>
          </a:ln>
        </p:spPr>
      </p:pic>
      <p:pic>
        <p:nvPicPr>
          <p:cNvPr id="891" name="Рисунок 8" descr="D:\Natalia\ЖОНКИНА ПИСАНИНА\картинки\дети\malch85.jpg"/>
          <p:cNvPicPr/>
          <p:nvPr/>
        </p:nvPicPr>
        <p:blipFill>
          <a:blip r:embed="rId2"/>
          <a:stretch/>
        </p:blipFill>
        <p:spPr>
          <a:xfrm>
            <a:off x="285840" y="214200"/>
            <a:ext cx="2857320" cy="2548080"/>
          </a:xfrm>
          <a:prstGeom prst="rect">
            <a:avLst/>
          </a:prstGeom>
          <a:ln w="0">
            <a:noFill/>
          </a:ln>
        </p:spPr>
      </p:pic>
      <p:sp>
        <p:nvSpPr>
          <p:cNvPr id="892" name="TextBox 10"/>
          <p:cNvSpPr/>
          <p:nvPr/>
        </p:nvSpPr>
        <p:spPr>
          <a:xfrm>
            <a:off x="214200" y="2786040"/>
            <a:ext cx="87868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Спасибо за урок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TextBox 3"/>
          <p:cNvSpPr/>
          <p:nvPr/>
        </p:nvSpPr>
        <p:spPr>
          <a:xfrm>
            <a:off x="2916360" y="4724280"/>
            <a:ext cx="496872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Прямоугольник 4" descr=""/>
          <p:cNvPicPr/>
          <p:nvPr/>
        </p:nvPicPr>
        <p:blipFill>
          <a:blip r:embed="rId1"/>
          <a:stretch/>
        </p:blipFill>
        <p:spPr>
          <a:xfrm>
            <a:off x="3067200" y="426960"/>
            <a:ext cx="5832360" cy="603360"/>
          </a:xfrm>
          <a:prstGeom prst="rect">
            <a:avLst/>
          </a:prstGeom>
          <a:ln w="0">
            <a:noFill/>
          </a:ln>
        </p:spPr>
      </p:pic>
      <p:sp>
        <p:nvSpPr>
          <p:cNvPr id="852" name="Прямоугольник 6"/>
          <p:cNvSpPr/>
          <p:nvPr/>
        </p:nvSpPr>
        <p:spPr>
          <a:xfrm>
            <a:off x="2786040" y="1285920"/>
            <a:ext cx="6215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вори вполгол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ин говорит - другие слуш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еребивай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уважением относись друг к др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говор должен идти только о предмете за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Прямоугольник 3"/>
          <p:cNvSpPr/>
          <p:nvPr/>
        </p:nvSpPr>
        <p:spPr>
          <a:xfrm>
            <a:off x="3071880" y="1357200"/>
            <a:ext cx="5857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Правописание суффиксов 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-а, и -о  в наречиях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с приставк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Прямоугольник 5"/>
          <p:cNvSpPr/>
          <p:nvPr/>
        </p:nvSpPr>
        <p:spPr>
          <a:xfrm>
            <a:off x="3429000" y="214200"/>
            <a:ext cx="521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Тема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 txBox="1"/>
          <p:nvPr/>
        </p:nvSpPr>
        <p:spPr>
          <a:xfrm>
            <a:off x="8604000" y="0"/>
            <a:ext cx="53964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56" name="TextBox 2"/>
          <p:cNvSpPr/>
          <p:nvPr/>
        </p:nvSpPr>
        <p:spPr>
          <a:xfrm>
            <a:off x="1187280" y="301680"/>
            <a:ext cx="59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Прямоугольник 7"/>
          <p:cNvSpPr/>
          <p:nvPr/>
        </p:nvSpPr>
        <p:spPr>
          <a:xfrm>
            <a:off x="-973080" y="428760"/>
            <a:ext cx="101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Bookman Old Style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1571760" y="214200"/>
          <a:ext cx="6095880" cy="50720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0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 вариа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лев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прав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сух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рост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крепк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темн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ав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нов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глух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 вариа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ев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рав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ыт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егк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ух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нов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редк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чист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давн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8604000" y="0"/>
            <a:ext cx="53964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60" name="TextBox 2"/>
          <p:cNvSpPr/>
          <p:nvPr/>
        </p:nvSpPr>
        <p:spPr>
          <a:xfrm>
            <a:off x="428760" y="428760"/>
            <a:ext cx="765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1"/>
          <p:cNvSpPr/>
          <p:nvPr/>
        </p:nvSpPr>
        <p:spPr>
          <a:xfrm>
            <a:off x="142920" y="1143000"/>
            <a:ext cx="80722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17375e"/>
                </a:solidFill>
                <a:latin typeface="Calibri"/>
              </a:rPr>
              <a:t>запрост__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Picture 2" descr="C:\Users\1\Desktop\3nomj6pvjd.png"/>
          <p:cNvPicPr/>
          <p:nvPr/>
        </p:nvPicPr>
        <p:blipFill>
          <a:blip r:embed="rId1"/>
          <a:stretch/>
        </p:blipFill>
        <p:spPr>
          <a:xfrm>
            <a:off x="7143840" y="2374920"/>
            <a:ext cx="226044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 txBox="1"/>
          <p:nvPr/>
        </p:nvSpPr>
        <p:spPr>
          <a:xfrm>
            <a:off x="8604000" y="0"/>
            <a:ext cx="53964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64" name="TextBox 2"/>
          <p:cNvSpPr/>
          <p:nvPr/>
        </p:nvSpPr>
        <p:spPr>
          <a:xfrm>
            <a:off x="428760" y="428760"/>
            <a:ext cx="765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1"/>
          <p:cNvSpPr/>
          <p:nvPr/>
        </p:nvSpPr>
        <p:spPr>
          <a:xfrm>
            <a:off x="142920" y="1143000"/>
            <a:ext cx="80722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17375e"/>
                </a:solidFill>
                <a:latin typeface="Calibri"/>
              </a:rPr>
              <a:t>изредк__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2" descr="C:\Users\1\Desktop\3nomj6pvjd.png"/>
          <p:cNvPicPr/>
          <p:nvPr/>
        </p:nvPicPr>
        <p:blipFill>
          <a:blip r:embed="rId1"/>
          <a:stretch/>
        </p:blipFill>
        <p:spPr>
          <a:xfrm>
            <a:off x="7143840" y="2374920"/>
            <a:ext cx="226044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 txBox="1"/>
          <p:nvPr/>
        </p:nvSpPr>
        <p:spPr>
          <a:xfrm>
            <a:off x="8604000" y="0"/>
            <a:ext cx="53964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68" name="TextBox 2"/>
          <p:cNvSpPr/>
          <p:nvPr/>
        </p:nvSpPr>
        <p:spPr>
          <a:xfrm>
            <a:off x="428760" y="428760"/>
            <a:ext cx="765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1"/>
          <p:cNvSpPr/>
          <p:nvPr/>
        </p:nvSpPr>
        <p:spPr>
          <a:xfrm>
            <a:off x="142920" y="1143000"/>
            <a:ext cx="80722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17375e"/>
                </a:solidFill>
                <a:latin typeface="Calibri"/>
              </a:rPr>
              <a:t>снов__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" descr="C:\Users\1\Desktop\3nomj6pvjd.png"/>
          <p:cNvPicPr/>
          <p:nvPr/>
        </p:nvPicPr>
        <p:blipFill>
          <a:blip r:embed="rId1"/>
          <a:stretch/>
        </p:blipFill>
        <p:spPr>
          <a:xfrm>
            <a:off x="7143840" y="2374920"/>
            <a:ext cx="226044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8604000" y="0"/>
            <a:ext cx="53964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72" name="TextBox 2"/>
          <p:cNvSpPr/>
          <p:nvPr/>
        </p:nvSpPr>
        <p:spPr>
          <a:xfrm>
            <a:off x="428760" y="428760"/>
            <a:ext cx="765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"/>
          <p:cNvSpPr/>
          <p:nvPr/>
        </p:nvSpPr>
        <p:spPr>
          <a:xfrm>
            <a:off x="142920" y="1143000"/>
            <a:ext cx="80722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17375e"/>
                </a:solidFill>
                <a:latin typeface="Calibri"/>
              </a:rPr>
              <a:t>дочист__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2" descr="C:\Users\1\Desktop\3nomj6pvjd.png"/>
          <p:cNvPicPr/>
          <p:nvPr/>
        </p:nvPicPr>
        <p:blipFill>
          <a:blip r:embed="rId1"/>
          <a:stretch/>
        </p:blipFill>
        <p:spPr>
          <a:xfrm>
            <a:off x="7143840" y="2374920"/>
            <a:ext cx="226044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 txBox="1"/>
          <p:nvPr/>
        </p:nvSpPr>
        <p:spPr>
          <a:xfrm>
            <a:off x="8604000" y="0"/>
            <a:ext cx="53964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76" name="TextBox 2"/>
          <p:cNvSpPr/>
          <p:nvPr/>
        </p:nvSpPr>
        <p:spPr>
          <a:xfrm>
            <a:off x="428760" y="428760"/>
            <a:ext cx="765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1"/>
          <p:cNvSpPr/>
          <p:nvPr/>
        </p:nvSpPr>
        <p:spPr>
          <a:xfrm>
            <a:off x="142920" y="1143000"/>
            <a:ext cx="80722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17375e"/>
                </a:solidFill>
                <a:latin typeface="Calibri"/>
              </a:rPr>
              <a:t>вправ__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2" descr="C:\Users\1\Desktop\3nomj6pvjd.png"/>
          <p:cNvPicPr/>
          <p:nvPr/>
        </p:nvPicPr>
        <p:blipFill>
          <a:blip r:embed="rId1"/>
          <a:stretch/>
        </p:blipFill>
        <p:spPr>
          <a:xfrm>
            <a:off x="7143840" y="2374920"/>
            <a:ext cx="226044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9:19:14Z</dcterms:created>
  <dc:creator>сергей</dc:creator>
  <dc:description>Корпорация Майкрософт</dc:description>
  <cp:keywords>Фотоальбом</cp:keywords>
  <dc:language>en-US</dc:language>
  <cp:lastModifiedBy>Таня</cp:lastModifiedBy>
  <dcterms:modified xsi:type="dcterms:W3CDTF">2018-02-15T16:54:32Z</dcterms:modified>
  <cp:revision>104</cp:revision>
  <dc:subject>Фотоальбом</dc:subject>
  <dc:title>Ваш ребёнок идёт в школ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54091049</vt:lpwstr>
  </property>
</Properties>
</file>