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6B26-AD10-4E85-9E31-A2DFF854B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09D6-7468-44E7-8EB6-F8983DD1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A58B-7038-447D-A714-4EFE9E50F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6D6C-C32B-4134-AA5B-9E98D870C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0A53-5F5D-42F0-A114-ABED97F56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B8A7-3036-4A39-91DA-DE5E4574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7DAD-504D-4FEC-B11C-8D00B7ED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21F7-0DA6-4FF9-8533-8B6009EB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2A18-4289-4DDA-A4D3-9C0FBB03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367C-7907-4AE5-AC36-0D123FEC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B3E6-701F-4739-918E-35370D79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B210-A9A5-4F0A-8271-ACB05B51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0ED3-3E39-4FE7-9E67-CC67170D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685C-4297-4608-9B89-24F1990A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5AB6-E095-4181-A3DD-8CF45354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E540-5AFD-4238-B941-AF81724BB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D4A4-51C0-48B8-867A-7030D911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D1EE-B65A-43B4-A3BF-204A807F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08F7-1E65-43FF-AB07-2E9CA349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17D4-8601-4E22-923A-1367CB90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B8A9-FA71-4ABA-9A9D-E7A419FC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1C9C-F582-4DF5-8C74-1BFEC6AE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C6CC-EFFF-4CA8-9E54-5C5DE08E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B550-8698-4352-B57C-9FE81196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7B84-32D0-4F9C-893B-D83EAB8FC1D7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EFB0-440B-4BFD-B4DF-AA10D48AA7D8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infourok.ru/go.html?href=http%3A%2F%2Fenglishon-line.ru%2Fdetskie-pesny-video10.html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infourok.ru/go.html?href=https%3A%2F%2Fru.wikipedia.org%2Fwiki%2F&#163;" TargetMode="External"/><Relationship Id="rId2" Type="http://schemas.openxmlformats.org/officeDocument/2006/relationships/hyperlink" Target="https://infourok.ru/go.html?href=https%3A%2F%2Fru.wikipedia.org%2Fwiki%2F&#163;" TargetMode="External"/><Relationship Id="rId3" Type="http://schemas.openxmlformats.org/officeDocument/2006/relationships/hyperlink" Target="https://infourok.ru/go.html?href=https%3A%2F%2Fru.wikipedia.org%2Fwiki%2F&#163;" TargetMode="External"/><Relationship Id="rId4" Type="http://schemas.openxmlformats.org/officeDocument/2006/relationships/hyperlink" Target="https://infourok.ru/go.html?href=https%3A%2F%2Fru.wikipedia.org%2Fwiki%2F&#163;" TargetMode="External"/><Relationship Id="rId5" Type="http://schemas.openxmlformats.org/officeDocument/2006/relationships/hyperlink" Target="https://infourok.ru/go.html?href=https%3A%2F%2Fru.wikipedia.org%2Fwiki%2F&#163;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Arial"/>
              </a:rPr>
              <a:t>Интегрированный урок. </a:t>
            </a:r>
            <a:br>
              <a:rPr sz="7200"/>
            </a:br>
            <a:r>
              <a:rPr b="1" lang="en-US" sz="7200" spc="-1" strike="noStrike">
                <a:solidFill>
                  <a:srgbClr val="ccecff"/>
                </a:solidFill>
                <a:latin typeface="Arial"/>
              </a:rPr>
              <a:t>Английский язык и математика. </a:t>
            </a:r>
            <a:br>
              <a:rPr sz="7200"/>
            </a:br>
            <a:r>
              <a:rPr b="1" lang="en-US" sz="7200" spc="-1" strike="noStrike">
                <a:solidFill>
                  <a:srgbClr val="ccecff"/>
                </a:solidFill>
                <a:latin typeface="Arial"/>
              </a:rPr>
              <a:t>5 класс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6092640"/>
            <a:ext cx="64008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8 : 4 = 2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ight divided by four is tw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16 + 3 = 19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een plus three is ninetee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9 </a:t>
            </a: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х 9 = </a:t>
            </a: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81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ine times nine equals eighty on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44 – 10 = 34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ty four minus ten is thirty fou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8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ne, two, buckle my shoe…”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 </a:t>
            </a:r>
            <a:br>
              <a:rPr sz="4000"/>
            </a:br>
            <a:r>
              <a:rPr b="1" lang="en-US" sz="10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_x000b_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84360" y="2133720"/>
            <a:ext cx="763272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m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. Carla had 6 pence. She found 8 more. How many pence did she have in al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. There are 17 students in John’s class. Eight students are ready with their exercises. How many students aren’t ready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3. Frank must read 14 pages in the reading book and 11 pages in the history book. How many pages must he read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4. Harry wants to buy a pair of socks for </a:t>
            </a:r>
            <a:r>
              <a:rPr b="0" lang="en-US" sz="24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£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.99, a pair of boots </a:t>
            </a:r>
            <a:r>
              <a:rPr b="0" lang="en-US" sz="24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£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5.99, a cap for </a:t>
            </a:r>
            <a:r>
              <a:rPr b="0" lang="en-US" sz="2400" spc="-1" strike="noStrike" u="sng">
                <a:solidFill>
                  <a:srgbClr val="65b2ff"/>
                </a:solidFill>
                <a:uFillTx/>
                <a:latin typeface="Arial"/>
                <a:hlinkClick r:id="rId3"/>
              </a:rPr>
              <a:t>£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3.99. Is </a:t>
            </a:r>
            <a:r>
              <a:rPr b="0" lang="en-US" sz="2400" spc="-1" strike="noStrike" u="sng">
                <a:solidFill>
                  <a:srgbClr val="65b2ff"/>
                </a:solidFill>
                <a:uFillTx/>
                <a:latin typeface="Arial"/>
                <a:hlinkClick r:id="rId4"/>
              </a:rPr>
              <a:t>£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0 enough to pay for these things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5. Jane and Sue have birthdays today. Kate bought 8 pens for them yesterday. Today she has presented all pens to the girls. How many pens does each girl have now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6. Helen wanted to buy 5 cakes for tea. A cake cost </a:t>
            </a:r>
            <a:r>
              <a:rPr b="0" lang="en-US" sz="2400" spc="-1" strike="noStrike" u="sng">
                <a:solidFill>
                  <a:srgbClr val="65b2ff"/>
                </a:solidFill>
                <a:uFillTx/>
                <a:latin typeface="Arial"/>
                <a:hlinkClick r:id="rId5"/>
              </a:rPr>
              <a:t>£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.05. How much did she pay for 5 cakes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-44280"/>
            <a:ext cx="8226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eaea"/>
                </a:solidFill>
                <a:latin typeface="Arial"/>
              </a:rPr>
              <a:t>8+4=12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eaea"/>
                </a:solidFill>
                <a:latin typeface="Arial"/>
              </a:rPr>
              <a:t>16:4=4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eaea"/>
                </a:solidFill>
                <a:latin typeface="Arial"/>
              </a:rPr>
              <a:t>6-2=4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eaea"/>
                </a:solidFill>
                <a:latin typeface="Arial"/>
              </a:rPr>
              <a:t>7x2 = 14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many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792600" cy="350532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79280" y="3068640"/>
            <a:ext cx="46818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many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4468680" cy="41050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932360" y="1557360"/>
            <a:ext cx="394488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many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5003640" cy="48513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076720" y="1413000"/>
            <a:ext cx="4067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115920"/>
            <a:ext cx="8226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ag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486560" cy="20480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900000" y="3357720"/>
            <a:ext cx="7129440" cy="18716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684360" y="5391000"/>
            <a:ext cx="741672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-12960"/>
            <a:ext cx="8226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55760" y="620640"/>
          <a:ext cx="8226360" cy="6087960"/>
        </p:xfrm>
        <a:graphic>
          <a:graphicData uri="http://schemas.openxmlformats.org/drawingml/2006/table">
            <a:tbl>
              <a:tblPr/>
              <a:tblGrid>
                <a:gridCol w="2741400"/>
                <a:gridCol w="2743200"/>
                <a:gridCol w="2741760"/>
              </a:tblGrid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Название математического знак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Название действия (глагол)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66"/>
                          </a:solidFill>
                          <a:latin typeface="Arial"/>
                        </a:rPr>
                        <a:t>Используется в реч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5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ddition – 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ложени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dd – прибавлять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lus – 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люс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5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ubtraction – 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ычитани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ubtract – вычитать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inus –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инус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ultiplication – 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умножени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ultiply by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– умножать н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mes –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умножить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ivision – 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елени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ivide by – 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елить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ivided by – 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азделить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ity – 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авенств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s to \ is equal to – 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авняться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чему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quals to \ is equal to \ is – 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авн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360" y="272880"/>
            <a:ext cx="79977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lash-card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226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7272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5760" y="1196640"/>
            <a:ext cx="85089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8+8 = 1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ight plus eight equals sixtee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15-2 = 13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een minus two equals thirtee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5×3= 15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ve times three is fiftee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20 : 5 = 4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wenty divided by five equals fou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1T07:53:00Z</dcterms:created>
  <dc:creator>User</dc:creator>
  <dc:description/>
  <dc:language>en-US</dc:language>
  <cp:lastModifiedBy>User</cp:lastModifiedBy>
  <dcterms:modified xsi:type="dcterms:W3CDTF">2019-12-21T10:40:24Z</dcterms:modified>
  <cp:revision>16</cp:revision>
  <dc:subject/>
  <dc:title>Интегрированный урок.  Английский язык и математика.  5 класс</dc:title>
</cp:coreProperties>
</file>