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9C1-07CB-4836-A590-4BFA24F8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AE9-AB87-4B50-BBA2-9D7BC90C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1AD-5EFE-48D9-AF8F-2CADA1BA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87D-F4A5-41D6-B4E5-3F8D09BA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AAB-4641-4F51-971E-E1378F09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764-5649-4B61-BAD5-2FB04C5E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0F7-1DB6-4356-AAF3-33EFA12B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3D8-6446-4CF8-A8BC-4BDC123E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ADD-CAE4-4F40-9996-45E16251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AD1-8010-442F-9D4F-7F5AEC67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13C3-642A-4A20-8231-C61CEB55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599-10A8-4253-A3BE-9992BC70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A884-0CA4-4EEF-8736-57E460854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ive4fun.ru/pictures/img_46227058_430_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14300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думано кем-то просто и мудро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 При встрече здороваться: “Доброе утро!” 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брое утро солнцу и птицам! 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брое утро улыбчивым лицам! 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 каждый становится добрым, доверчивым, 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 доброе утро длится до вечер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2077920" y="665280"/>
            <a:ext cx="524376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3" descr="a120.gif"/>
          <p:cNvPicPr/>
          <p:nvPr/>
        </p:nvPicPr>
        <p:blipFill>
          <a:blip r:embed="rId1"/>
          <a:stretch/>
        </p:blipFill>
        <p:spPr>
          <a:xfrm>
            <a:off x="1042920" y="1844640"/>
            <a:ext cx="3529080" cy="3745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88ce8957ad56"/>
          <p:cNvPicPr/>
          <p:nvPr/>
        </p:nvPicPr>
        <p:blipFill>
          <a:blip r:embed="rId2"/>
          <a:stretch/>
        </p:blipFill>
        <p:spPr>
          <a:xfrm>
            <a:off x="5076720" y="1484280"/>
            <a:ext cx="29242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356920" y="857160"/>
            <a:ext cx="62866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ндерсен научил меня светлой вере в победу солнца над мраком и доброго человеческого сердца над злы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. Пауст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Картинка 2 из 26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884760"/>
            <a:ext cx="3816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Добро и зло в сказке 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Андерсена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«Снежная королев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очему маленькая, хрупкая Герда оказалась сильнее грозной Снежной королев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2320"/>
            <a:ext cx="8229600" cy="35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Добро – все положительное, хорошее, полезное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Зло – нечто дурное, вредное, приносящее беду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(Словарь С.И. Ожегов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332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332000" y="549360"/>
            <a:ext cx="5543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ДОБРО» и «ЗЛО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00000" y="1773360"/>
          <a:ext cx="7272360" cy="4206600"/>
        </p:xfrm>
        <a:graphic>
          <a:graphicData uri="http://schemas.openxmlformats.org/drawingml/2006/table">
            <a:tbl>
              <a:tblPr/>
              <a:tblGrid>
                <a:gridCol w="7272360"/>
              </a:tblGrid>
              <a:tr h="4206600">
                <a:tc>
                  <a:txBody>
                    <a:bodyPr lIns="114120" rIns="114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озы, тролль, родители, бабушка, животные, лапландка, финка, снежное войско, зеркало, ангелы, разбойники, принц, принцесса, ворон, ворона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189000"/>
          <a:ext cx="8675640" cy="7650000"/>
        </p:xfrm>
        <a:graphic>
          <a:graphicData uri="http://schemas.openxmlformats.org/drawingml/2006/table">
            <a:tbl>
              <a:tblPr/>
              <a:tblGrid>
                <a:gridCol w="8675640"/>
              </a:tblGrid>
              <a:tr h="77886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. з. на выбор: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очинение-эссе «Есть ли в моём сердце льдинки? Как их растопить?» (лень, обман, зависть, равнодушие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оставить кроссворд по сказке «Снежная королева»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     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10-12 слов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a120.gif"/>
          <p:cNvPicPr/>
          <p:nvPr/>
        </p:nvPicPr>
        <p:blipFill>
          <a:blip r:embed="rId1"/>
          <a:stretch/>
        </p:blipFill>
        <p:spPr>
          <a:xfrm>
            <a:off x="2050920" y="836640"/>
            <a:ext cx="4753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7:47:31Z</dcterms:created>
  <dc:creator>люся</dc:creator>
  <dc:description/>
  <dc:language>en-US</dc:language>
  <cp:lastModifiedBy>ШКОЛА38</cp:lastModifiedBy>
  <dcterms:modified xsi:type="dcterms:W3CDTF">2018-04-09T03:57:23Z</dcterms:modified>
  <cp:revision>55</cp:revision>
  <dc:subject/>
  <dc:title>Слайд 1</dc:title>
</cp:coreProperties>
</file>