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08A-939F-4E4C-B26F-92367DAA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79D-504F-4381-90E5-F7742336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99AA-B15C-45EE-AAB2-CFFEB46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B12-A238-4F69-9CDB-A5E2ADB9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872D-0FE9-4A01-B95F-935423C3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4C0-F851-4EFF-8A16-FAAB1C51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A9D-683F-4829-BF43-6A08CF4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74E8-19BB-4001-9851-7363D3A4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DFF-8551-4174-A0DC-187FA645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2EDF-90EF-4AA6-A619-A6B7B11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81D-EF8B-44FE-8D71-89B7265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576-71A7-4C2E-BB03-F2DE91F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E00-0E14-4C54-B2E2-BBCB6322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FF9E-1BB7-4C20-94A1-750F07BB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1D5A-8A7C-402E-BD3C-58AA506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376-ED58-4A95-9118-F3D78350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ED3-A23F-43AD-8383-25C2A6E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34D-261A-4C41-BA7F-4F79CBB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EB50-629E-46C1-AC76-5589D26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941-ABCE-4F0A-8B82-DF0F248F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E342-06A8-470B-817E-2E33CBB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E34-8A61-424D-AD4D-464C196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A3B-27B7-45A0-9D9B-EC8CB4C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A2B-B40C-4C76-ADDE-89005DF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68AE-2348-442E-8A47-C83F621F7F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AF31-1F25-4A08-9047-84C7DE4F3A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"Аутизм как форма дизонтогенеза: основная симптоматика и психологическая характеристика детей с искаженным развитием"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b2b2"/>
                </a:solidFill>
                <a:latin typeface="Arial"/>
              </a:rPr>
              <a:t>педагог-психолог Хейдорова Мария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762120"/>
            <a:ext cx="815328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b2b2"/>
                </a:solidFill>
                <a:latin typeface="Arial"/>
              </a:rPr>
              <a:t>Один из определяющих и диагностически важный признак заболевания – появление симпто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2b2b2"/>
                </a:solidFill>
                <a:latin typeface="Arial"/>
              </a:rPr>
              <a:t>в возрасте до 2,5 лет. Аутизм встречается редко, у 2–4 детей из 10000, у мальчиков в 3 раза чаще, чем у девоч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Три основных призн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ход в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2. Стереотип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3. Речевые особ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04920" y="132264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О.С.Никольская выделяет четыре группы РД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а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им отвержение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а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ой отрешённостью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ретья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с аутистическим замещ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етвёртая групп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 аутистической сверхтормозимост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ff"/>
                </a:solidFill>
                <a:latin typeface="Arial"/>
              </a:rPr>
              <a:t>Направления работы при сопровождении и в образовании людей, страдающих аутизмом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порядочение пространства и време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коммун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витие ключевых способностей: выработка навыков самообслуживания и ведения домашнего хозяйства, трудовой деятельности, поведения при работе, формирование навыков проведения свободного времени, социальных навыков и учебно-функциональных навы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66"/>
                </a:solidFill>
                <a:latin typeface="Monotype Corsiva"/>
              </a:rPr>
              <a:t>Спасибо за внимание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АУТИЗМ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(от греч. autos - сам) - отстранение от окружающей действительности, погружение в мир собственных переживаний, ориентация на самого себя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ffcc00"/>
                </a:solidFill>
                <a:uFillTx/>
                <a:latin typeface="Arial"/>
              </a:rPr>
              <a:t>Дизонтогенез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изонтогенез психики – стой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ушение темпа взаимосвяз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фофункциональных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сихологических изменений в проце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ановления личности и/ил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характера 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следова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Дизонтогенез чаще всего характеризуется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Ретардаци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отставанием в становлении разных психических функций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синхроние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что-то отстает, а что-то развивается ускоренн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Классификация типов дизонтогенеза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1720" y="1757520"/>
            <a:ext cx="800568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включает отклонения по типу отставания в созревании ВПФ – недоразвитие, задержка псих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отклонения по типу повреждения впф – поврежденное развитие (деменция) и дефицитарное развитие (тяжелые нарушения анализаторных систем, опорно-двигательного аппарата, реч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 групп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отклонения по типу </a:t>
            </a:r>
            <a:r>
              <a:rPr b="1" i="1" lang="ru-RU" sz="2400" spc="-1" strike="noStrike">
                <a:solidFill>
                  <a:srgbClr val="ffcc66"/>
                </a:solidFill>
                <a:latin typeface="Arial"/>
              </a:rPr>
              <a:t>асинхронии – искаженное развитие (РДА)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дисгармоническое развитие (психопат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91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ff"/>
                </a:solidFill>
                <a:latin typeface="Arial"/>
              </a:rPr>
              <a:t>Психологической характеристикой искажённого развития является стойкая специфика и диспропорциональность формирования всех сфер личности, возникающая на основе врождённых мозговых повреждений и проявляющаяся в первую очередь грубой патологией эмоц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способности устанавливать отношения с людьми, начиная с самого раннего возрас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гороженность от внешнего мира с игнорированием раздражителей до тех пор, пока они не становятся болезнен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достаточность принятия позы готовности при взятии на ру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достаточность коммуникативного пользования реч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красная механическая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хола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уквальность в употреблении с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436840" y="31384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228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Синдром Каннера включает 17 призн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вращённое употребление личных местои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арушение пищеварения на первом году жизн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нний страх определённых громких звуков и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вижущихся объек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нотонное повторение звуков и дви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ах изменений в обстанов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днообразие спонтанной актив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нотонные механические игры с неигров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едме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печатление хорошего интеллекта благодар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пешности в отдельных навыках и «умному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ыражению лиц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ерьёзное выражение лица, напряжённое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сутствии люд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хорошее физическое здоровь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66"/>
                </a:solidFill>
                <a:latin typeface="Comic Sans MS"/>
              </a:rPr>
              <a:t>Синдром Асперг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индром Аспергера считается более благоприятным вариантом развития.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является к трёхлетнему возрасту, достигая своего расцвета в первые школьные г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новной признак синдрома заключается в чрезмерном предпочтении ребёнком интеллектуальной деятельности при бедности эмоциональной сферы (сниженная способность к сопереживанию, использованию прошлого жизненного опыта, недостаток интуиции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бёнок плохо общается со сверстниками, обычно они его не принимаю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анности типа предпочтения игры в одиночестве, нелюбви к игрушкам, немотивированных страхов, протеста против перемен также имеются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ечевое развитие отличается своеобразием («взрослая речь», неологизмы), но нарушения её коммуникативной функции н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20-09-17T01:48:22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