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gif" ContentType="image/gif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0CD7F-00D2-4DD4-88D1-EAC9D0FEE6E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5A30B-1879-442C-9C80-D4D4FD2527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9724-29C5-47CB-9842-0AFE45930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A30F-5700-4F41-A521-1D83C12B8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A538-C7B9-469D-AC17-C69523A23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6D2E-AE5F-449F-9252-7E3367AC3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CA787-2398-42CB-BAE1-96B0BBBE6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68DC6-B8CC-46A3-80B6-AA7FFBF02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767E7-5C49-4FBE-A84E-1A7512480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1AA0B-5151-4095-A8B6-9F8811C8C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D4E44-4935-4C26-B492-0E5DE484C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6CC18-4DCC-4315-B50B-C6A658094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2CA1B-C52B-4E6C-9192-4639AB55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5AE5-BF8C-4FC2-893F-6B64AAF98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B77E2-0A02-4EA9-ABD1-4D718231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8C4FC-A270-4EE1-B5BF-9CDAE1B8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1C66A-EAE6-406A-8B0C-A3C415D35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0E8E7-C5F0-40F1-8A74-C64EC36F2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B7E75-03BC-425E-BC00-82774D3B8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43A2-9CE7-4096-8908-BE97B9BDE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5AE9-9A53-49A4-A4F2-69E386E3D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2DEE-B669-4EF9-94C6-6601653E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9156-25FE-447F-8C59-6BFC9A39B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F800-4FF3-44FD-AB9B-06A58D803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A8BE-B82A-4669-96CC-BACBD723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ED41-0C15-45C5-94C9-EE658DD3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442C1-A517-4F2A-99F6-C57186FFF3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post-279854-1298288370.png"/>
          <p:cNvPicPr/>
          <p:nvPr/>
        </p:nvPicPr>
        <p:blipFill>
          <a:blip r:embed="rId3"/>
          <a:stretch/>
        </p:blipFill>
        <p:spPr>
          <a:xfrm>
            <a:off x="7500960" y="-42876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7" descr="post-279854-1298288370.png"/>
          <p:cNvPicPr/>
          <p:nvPr/>
        </p:nvPicPr>
        <p:blipFill>
          <a:blip r:embed="rId4"/>
          <a:stretch/>
        </p:blipFill>
        <p:spPr>
          <a:xfrm>
            <a:off x="0" y="214200"/>
            <a:ext cx="2357280" cy="207180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8" descr="97e6b01896c7.png"/>
          <p:cNvPicPr/>
          <p:nvPr/>
        </p:nvPicPr>
        <p:blipFill>
          <a:blip r:embed="rId5"/>
          <a:stretch/>
        </p:blipFill>
        <p:spPr>
          <a:xfrm rot="20340000">
            <a:off x="-628200" y="-348840"/>
            <a:ext cx="3330360" cy="2681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D5A41-87EE-4009-9B79-7F51184209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11280" y="1052280"/>
            <a:ext cx="5832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рок русского языка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в 3 «А»класс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6836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Тема: «Обстоятельство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УМК «Школа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XXI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век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00000"/>
              </a:solidFill>
              <a:latin typeface="Bookman Old Style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971640" y="-573840"/>
            <a:ext cx="7704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ПРАЖНЕНИЕ  4 СТР 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м образом совершается действие – быстро, весе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сто – из кинотеатра, в Москв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ремя – летом, к вечеру, после зи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– за молок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чина действия – из-за дождя, от гроз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Bookman Old Style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1657800" y="2107080"/>
            <a:ext cx="8268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учить правило !!! Стр 90, стр. 91, упр. 5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omic Sans MS"/>
              </a:rPr>
              <a:t>Всем спасибо за урок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0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Пятое ноября.</a:t>
            </a:r>
            <a:br>
              <a:rPr sz="4400"/>
            </a:b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Классная работ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Заголовок 1"/>
          <p:cNvSpPr/>
          <p:nvPr/>
        </p:nvSpPr>
        <p:spPr>
          <a:xfrm>
            <a:off x="611280" y="19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 Black"/>
              </a:rPr>
              <a:t>Бурундуки л..бят яг..ды и плоды ш..повни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Заголовок 1"/>
          <p:cNvSpPr/>
          <p:nvPr/>
        </p:nvSpPr>
        <p:spPr>
          <a:xfrm>
            <a:off x="633240" y="31748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Заголовок 1"/>
          <p:cNvSpPr/>
          <p:nvPr/>
        </p:nvSpPr>
        <p:spPr>
          <a:xfrm>
            <a:off x="620640" y="5022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Bookman Old Style"/>
              </a:rPr>
              <a:t>Закончите предложе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71280" y="1413000"/>
            <a:ext cx="764388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 Black"/>
              </a:rPr>
              <a:t>ГЛАВНЫЕ ЧЛЕ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 Black"/>
              </a:rPr>
              <a:t>ПРЕДЛОЖЕНИЯ – это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 Black"/>
              </a:rPr>
              <a:t>_________________________________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1116000" y="256536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ОДЛЕЖАЩЕЕ и СКАЗУЕМ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971640" y="3645000"/>
            <a:ext cx="764388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 Black"/>
              </a:rPr>
              <a:t>ВТОРОСТЕПЕННЫЕ ЧЛЕ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 Black"/>
              </a:rPr>
              <a:t>ПРЕДЛОЖЕНИЯ – это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 Black"/>
              </a:rPr>
              <a:t>_____________________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Тема урока </a:t>
            </a:r>
            <a:r>
              <a:rPr b="0" lang="ru-RU" sz="4400" spc="-1" strike="noStrike">
                <a:solidFill>
                  <a:srgbClr val="c00000"/>
                </a:solidFill>
                <a:latin typeface="Arial Black"/>
              </a:rPr>
              <a:t>ОБСТОЯТЕЛЬСТВ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Заголовок 1"/>
          <p:cNvSpPr/>
          <p:nvPr/>
        </p:nvSpPr>
        <p:spPr>
          <a:xfrm>
            <a:off x="633240" y="1773360"/>
            <a:ext cx="8207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НАЮ: - Что такое обстоятельств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то обозначает обстоятельств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кие вопросы отвечае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к выделяется в предложени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 Black"/>
              </a:rPr>
              <a:t>-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каким членом связано в предложен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кую роль играет в предложен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УСЬ:-находить обстоятельства, задавать вопросы,  применять зна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Заголовок 1"/>
          <p:cNvSpPr/>
          <p:nvPr/>
        </p:nvSpPr>
        <p:spPr>
          <a:xfrm>
            <a:off x="633240" y="3193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Заголовок 1"/>
          <p:cNvSpPr/>
          <p:nvPr/>
        </p:nvSpPr>
        <p:spPr>
          <a:xfrm>
            <a:off x="620640" y="5022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755280" y="404280"/>
            <a:ext cx="8388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растут быстро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енью идут дожди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а любит гулять в парке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ицы улетают на юг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Москвы пришла посылка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755280" y="404280"/>
            <a:ext cx="8388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растут быстро. (как?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енью идут дожди. (когда?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а любит гулять в парке. (где?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тицы улетают на юг. (куда?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Москвы пришла посылка. (откуда?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755280" y="404280"/>
            <a:ext cx="8388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вопросы: Где?  Куда? Когда? Откуда? Почему? Зачем? и Как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стоятельства обозначают, где, когда, почему, зачем происходит действие, значит, описывают действия более точно, конкрет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5"/>
          <p:cNvSpPr/>
          <p:nvPr/>
        </p:nvSpPr>
        <p:spPr>
          <a:xfrm>
            <a:off x="4572000" y="1484280"/>
            <a:ext cx="4103640" cy="4321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Georgia"/>
              </a:rPr>
              <a:t>Физминут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5219640" y="1773360"/>
            <a:ext cx="3027600" cy="3743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1187280" y="1341360"/>
            <a:ext cx="30243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Bookman Old Style"/>
              </a:rPr>
              <a:t>Закончите предложе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71280" y="1413000"/>
            <a:ext cx="764388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 Black"/>
              </a:rPr>
              <a:t>ГЛАВНЫЕ ЧЛЕ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 Black"/>
              </a:rPr>
              <a:t>ПРЕДЛОЖЕНИЯ – это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 Black"/>
              </a:rPr>
              <a:t>____________________________________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1116000" y="256536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ПОДЛЕЖАЩЕЕ и СКАЗУЕМ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971640" y="3645000"/>
            <a:ext cx="764388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 Black"/>
              </a:rPr>
              <a:t>ВТОРОСТЕПЕННЫЕ ЧЛЕ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 Black"/>
              </a:rPr>
              <a:t>ПРЕДЛОЖЕНИЯ – это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 Black"/>
              </a:rPr>
              <a:t>___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 Black"/>
              </a:rPr>
              <a:t>___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 Black"/>
              </a:rPr>
              <a:t>_____________________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1476360" y="479736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ОБСТОЯТЕЛЬСТВ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2T23:19:04Z</dcterms:created>
  <dc:creator>natasha23</dc:creator>
  <dc:description/>
  <dc:language>en-US</dc:language>
  <cp:lastModifiedBy>1</cp:lastModifiedBy>
  <dcterms:modified xsi:type="dcterms:W3CDTF">2021-04-13T15:45:40Z</dcterms:modified>
  <cp:revision>33</cp:revision>
  <dc:subject/>
  <dc:title>Слайд 1</dc:title>
</cp:coreProperties>
</file>