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7E6-CC7D-4667-8D7B-86AFA89A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1C9-ECB8-4723-B837-FD2A0086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DDA-4E69-4EF2-92A6-C687FDAF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F19-FAFE-4BA3-9C2B-780E33AB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779-5892-4B81-8436-A2BF6C22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6A4-7B5B-48EE-AED9-59A45E0D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FAD-970F-4700-A8E5-11F0D64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A6A-2B0F-4964-90E3-78FC08F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5CF-618A-4CA9-923D-FFAFC50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4BD-F125-4940-A137-A68B2F4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22C-509A-45EA-AD9F-22ACE444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8C2-8379-4676-AA91-A67CE40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F47-160B-4442-96EC-96779116A2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png"/><Relationship Id="rId14" Type="http://schemas.openxmlformats.org/officeDocument/2006/relationships/image" Target="../media/image7.wmf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Дорогой добра.mp3" descr=""/>
          <p:cNvPicPr/>
          <p:nvPr/>
        </p:nvPicPr>
        <p:blipFill>
          <a:blip r:embed="rId3"/>
          <a:stretch/>
        </p:blipFill>
        <p:spPr>
          <a:xfrm>
            <a:off x="6112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 rot="201600">
            <a:off x="334440" y="9000"/>
            <a:ext cx="835056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Wooden Ship Decorated"/>
              </a:rPr>
              <a:t>Дорога  добра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 rot="19262400">
            <a:off x="395280" y="3789000"/>
            <a:ext cx="10796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6"/>
          <p:cNvGraphicFramePr/>
          <p:nvPr/>
        </p:nvGraphicFramePr>
        <p:xfrm>
          <a:off x="0" y="0"/>
          <a:ext cx="3305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30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10"/>
          <p:cNvGraphicFramePr/>
          <p:nvPr/>
        </p:nvGraphicFramePr>
        <p:xfrm>
          <a:off x="3733920" y="0"/>
          <a:ext cx="1676160" cy="685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0"/>
                    <a:ext cx="167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9" descr="j0344856"/>
          <p:cNvPicPr/>
          <p:nvPr/>
        </p:nvPicPr>
        <p:blipFill>
          <a:blip r:embed="rId8"/>
          <a:stretch/>
        </p:blipFill>
        <p:spPr>
          <a:xfrm>
            <a:off x="7164360" y="479736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6.2963E-006 L -0.48038 6.2963E-006 E">
                                      <p:cBhvr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-1.11111E-006 L -0.72448 -0.59838 E">
                                      <p:cBhvr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3"/>
          <p:cNvGraphicFramePr/>
          <p:nvPr/>
        </p:nvGraphicFramePr>
        <p:xfrm>
          <a:off x="6372360" y="333360"/>
          <a:ext cx="24922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33360"/>
                    <a:ext cx="2492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j0344856"/>
          <p:cNvPicPr/>
          <p:nvPr/>
        </p:nvPicPr>
        <p:blipFill>
          <a:blip r:embed="rId5"/>
          <a:stretch/>
        </p:blipFill>
        <p:spPr>
          <a:xfrm>
            <a:off x="7451640" y="4869000"/>
            <a:ext cx="1354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1 0.0331 L -0.65608 0.04352 E">
                                      <p:cBhvr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00017 -0.5537 E">
                                      <p:cBhvr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-0.00902 L -0.65608 0.57894 E">
                                      <p:cBhvr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5537 L -0.6849 -0.5537 E">
                                      <p:cBhvr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0.57894 L -0.36458 0.25348 E">
                                      <p:cBhvr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8 -0.65856 C -0.21129 -0.65856 -0.06285 -0.4919 -0.06285 -0.28634 C -0.06285 -0.08079 -0.21129 0.08681 -0.39358 0.08681 C -0.57622 0.08681 -0.72431 -0.08079 -0.72431 -0.28634 C -0.72431 -0.4919 -0.57622 -0.65856 -0.39358 -0.65856 Z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7 -0.65856 C -0.21145 -0.65856 -0.06284 -0.48935 -0.06284 -0.28056 C -0.06284 -0.07222 -0.21145 0.09745 -0.39357 0.09745 C -0.57604 0.09745 -0.7243 -0.07222 -0.7243 -0.28056 C -0.7243 -0.48935 -0.57604 -0.65856 -0.39357 -0.65856 Z">
                                      <p:cBhvr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 rot="19536600">
            <a:off x="6516720" y="3645000"/>
            <a:ext cx="2008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11574 L -0.3382 -0.28357 E">
                                      <p:cBhvr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3328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0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 rot="1387200">
            <a:off x="6803640" y="5013360"/>
            <a:ext cx="194472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5"/>
          <p:cNvGraphicFramePr/>
          <p:nvPr/>
        </p:nvGraphicFramePr>
        <p:xfrm>
          <a:off x="3348000" y="404640"/>
          <a:ext cx="360036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404640"/>
                    <a:ext cx="3600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1979640" y="1844640"/>
          <a:ext cx="66672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844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7"/>
          <p:cNvGraphicFramePr/>
          <p:nvPr/>
        </p:nvGraphicFramePr>
        <p:xfrm>
          <a:off x="3419640" y="2781360"/>
          <a:ext cx="666720" cy="113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81360"/>
                    <a:ext cx="6667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8"/>
          <p:cNvGraphicFramePr/>
          <p:nvPr/>
        </p:nvGraphicFramePr>
        <p:xfrm>
          <a:off x="5508720" y="2852640"/>
          <a:ext cx="666720" cy="113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852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9"/>
          <p:cNvGraphicFramePr/>
          <p:nvPr/>
        </p:nvGraphicFramePr>
        <p:xfrm>
          <a:off x="7164360" y="2492280"/>
          <a:ext cx="666720" cy="113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249228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0" descr="j0344856"/>
          <p:cNvPicPr/>
          <p:nvPr/>
        </p:nvPicPr>
        <p:blipFill>
          <a:blip r:embed="rId14"/>
          <a:stretch/>
        </p:blipFill>
        <p:spPr>
          <a:xfrm flipH="1" rot="1591800">
            <a:off x="324000" y="836640"/>
            <a:ext cx="1287000" cy="136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15"/>
          <a:stretch/>
        </p:blipFill>
        <p:spPr>
          <a:xfrm>
            <a:off x="2050920" y="0"/>
            <a:ext cx="5689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-0.06203 L -0.49202 -0.15648 E">
                                      <p:cBhvr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787 L 0.10295 0.41481 E">
                                      <p:cBhvr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179280" y="247032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j0344856"/>
          <p:cNvPicPr/>
          <p:nvPr/>
        </p:nvPicPr>
        <p:blipFill>
          <a:blip r:embed="rId4"/>
          <a:stretch/>
        </p:blipFill>
        <p:spPr>
          <a:xfrm>
            <a:off x="3492360" y="54936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j0344856"/>
          <p:cNvPicPr/>
          <p:nvPr/>
        </p:nvPicPr>
        <p:blipFill>
          <a:blip r:embed="rId5"/>
          <a:stretch/>
        </p:blipFill>
        <p:spPr>
          <a:xfrm>
            <a:off x="1258920" y="443700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344856"/>
          <p:cNvPicPr/>
          <p:nvPr/>
        </p:nvPicPr>
        <p:blipFill>
          <a:blip r:embed="rId6"/>
          <a:stretch/>
        </p:blipFill>
        <p:spPr>
          <a:xfrm>
            <a:off x="4932360" y="4508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j0344856"/>
          <p:cNvPicPr/>
          <p:nvPr/>
        </p:nvPicPr>
        <p:blipFill>
          <a:blip r:embed="rId7"/>
          <a:stretch/>
        </p:blipFill>
        <p:spPr>
          <a:xfrm>
            <a:off x="5796000" y="2276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j0344856"/>
          <p:cNvPicPr/>
          <p:nvPr/>
        </p:nvPicPr>
        <p:blipFill>
          <a:blip r:embed="rId8"/>
          <a:stretch/>
        </p:blipFill>
        <p:spPr>
          <a:xfrm>
            <a:off x="611280" y="191628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ловач Ирина</cp:lastModifiedBy>
  <dcterms:modified xsi:type="dcterms:W3CDTF">2021-03-30T16:43:28Z</dcterms:modified>
  <cp:revision>19</cp:revision>
  <dc:subject/>
  <dc:title>PowerPoint Presentation</dc:title>
</cp:coreProperties>
</file>