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20.png" ContentType="image/png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92BE-6CEB-4617-879A-61B714E69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BE0-12B4-44AD-87A8-E5EC61C21F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238-7247-488C-B9C0-907BDB73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2E1-0D40-4A46-AE83-EEF05BB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93E-3C99-4980-ABCB-4C769A20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FED-BA80-4BF5-A7AD-A41E1909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8A89-E24D-4AC7-8F9E-9D070B58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0E54-7BB8-4DD1-92EE-EA350126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579-00A9-44AB-BFA8-3BA5ABC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BF48-1127-407C-9C3E-2CBA1040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365C-D2EA-459E-8947-83898379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E327-3FD4-4429-AFB7-5FF48FF6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7D73-11A5-4B9D-82E0-0280A28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5EF-21AB-45AB-9D2A-708F0A1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01EC-AF6A-4428-8DDC-9D2772B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C42A-9A80-46EA-9281-2B058A6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8B56-5187-49B7-81D6-81612EB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30E4-97F9-47AA-85FD-2B438F5F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B7A-0CA4-413A-9897-2FE242B8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913-DA35-4B1B-83B0-3AC89660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5F9-1F5D-43D4-B4A4-289936C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E62-F325-47A7-A62F-1D98E2B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850-9553-4160-AC97-D796C64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BEF-F3CE-485C-AB1C-90AEE81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84D-4338-47F7-A46D-4A2D947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E1D-9AD4-493C-AC06-2CC5358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6A49-7EC4-4B46-B612-448D09F2B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F6C9-9307-411E-AAAA-A1C062FC48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1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6"/>
          <p:cNvSpPr txBox="1"/>
          <p:nvPr/>
        </p:nvSpPr>
        <p:spPr>
          <a:xfrm>
            <a:off x="1143000" y="457200"/>
            <a:ext cx="70102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литературного чтения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n-mamy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410440"/>
          </a:xfrm>
          <a:prstGeom prst="rect">
            <a:avLst/>
          </a:prstGeom>
          <a:ln w="0">
            <a:noFill/>
          </a:ln>
        </p:spPr>
      </p:pic>
      <p:sp>
        <p:nvSpPr>
          <p:cNvPr id="172" name="WordArt 7"/>
          <p:cNvSpPr txBox="1"/>
          <p:nvPr/>
        </p:nvSpPr>
        <p:spPr>
          <a:xfrm>
            <a:off x="304920" y="1522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Знакомство с буквой И, и»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заставка пусть говорят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74" name="заставка пусть говорят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75" name="заставка пусть говорят.mp3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6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26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26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202" name="прин1027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3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3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73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22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31" dur="3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52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17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1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76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3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C:\Users\Ольга Михайловна\Desktop\001.jpg"/>
          <p:cNvPicPr/>
          <p:nvPr/>
        </p:nvPicPr>
        <p:blipFill>
          <a:blip r:embed="rId1"/>
          <a:stretch/>
        </p:blipFill>
        <p:spPr>
          <a:xfrm>
            <a:off x="695160" y="782640"/>
            <a:ext cx="775368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231" name="прин1230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1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3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15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24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3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45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36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9" dur="3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3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http://im0-tub-ru.yandex.net/i?id=179485017-13-72&amp;n=21"/>
          <p:cNvPicPr/>
          <p:nvPr/>
        </p:nvPicPr>
        <p:blipFill>
          <a:blip r:embed="rId1"/>
          <a:stretch/>
        </p:blipFill>
        <p:spPr>
          <a:xfrm>
            <a:off x="762120" y="743040"/>
            <a:ext cx="7848360" cy="6114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66"/>
                </a:solidFill>
                <a:latin typeface="Times New Roman"/>
              </a:rPr>
              <a:t>Спасиб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заставка пусть говорят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6" name="заставка пусть говорят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026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026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Михайловна</cp:lastModifiedBy>
  <dcterms:modified xsi:type="dcterms:W3CDTF">2015-10-20T18:59:2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