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5BE8-CE12-47AF-BDB5-1E9B2E5F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2953-6694-4128-8CC2-4EA9D3FA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B59C-D55E-4EB6-B9BD-E3361F68E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EA1B-99FD-4C46-A147-ADF812D5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1324-DFB2-444E-A057-E6ED4F44A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2377-D014-4039-B5FA-4CFE2478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BEF5-2326-45C4-A213-CECDC3D3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F4F8-DD37-47E5-A688-645293E7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F04F-3A64-4F8B-B15E-83135796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CA4C-6582-4089-BEC8-018D6571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06D4-8A63-49E7-A4D2-4D72FEC9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D5DC-A97F-4B93-87B0-B563D75C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F28C-1D24-404E-8681-DFBF29CB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326C-2767-40E7-B349-5E74B0D3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C2C2-F86E-4124-9634-3C21F84E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061F-EBBB-480D-9C37-0C34316E7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EF38-A72C-4BF2-B9D1-6D9300D68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BAA3C-0DE5-4026-8D08-D7E5DA12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D7BAA-17FA-4ED7-947A-BC8FE362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B874B-74F8-4E39-8C31-33184C1F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3EE01-18F0-40AD-8858-E9363139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C43D5-E258-484E-AE8B-0484FC64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B531-5C5E-49FF-B440-F4D83155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5ABA5-9DB6-4816-B88E-E477F3D7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34FA1-5C6D-402E-B32A-33C24E72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0CA82-043A-4473-BE8D-1F406D45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609F7-3B5E-4245-B199-E53D97BC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1B51A-92F0-4E91-B0F8-E4B5FFD8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BB445-8397-416F-9886-F306D9A8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D49AE-BE94-48BA-BBE3-157A79BA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BD2F2-B606-4A0A-B190-18EA936FC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E4A25-FF19-4385-A0A7-734D2E1A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0C9EC-9D5B-4C73-BEEE-72C398AA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20C9-0A97-48B7-8069-961C91F6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2A48E-1A95-47D7-BBBF-1CC0835D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D7F10-5C3B-4065-9486-19EAF683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EFBB3-D036-4E65-86FC-03E04AC9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750E1-387F-4200-8825-73990845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5AE9E-1D35-4E05-8916-85BD3233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753CD-566E-41E7-9485-E52D303E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E70C0-6E89-4B4A-9A88-CD41A94A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C51F0-332A-4F8D-BA1F-9A46AFAA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EA178-DF5B-4D30-816E-917932FC4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34F43-666E-4F03-B89A-081FE45A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7705-2FCF-423A-A4B6-FA822AB6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4B5FE-299C-46BA-A9A0-BD3335A5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D4C2C-6D26-4012-A4D1-57265625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D422B-B759-4E54-B178-B32F6CC2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37B49-D49B-4D9D-94E1-510D9D80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78933-5A9B-40A7-85AA-B9BD6588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F0621-7000-405A-A5D4-B6C453AF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71EE9-1430-4770-90D8-50B1C45F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8200E-EA40-4249-91B3-1752F70F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8AF09-5D6E-4CA9-AA67-E3294638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E7DCB-AD4E-41D9-8223-5ED29812C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34A8-C3AF-40D9-BEB7-7FC5323A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BFB63-DFFA-43D2-B558-7842521F8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4B6AD-DFEF-40F8-8EAB-1CFF5CCB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A43DA-0EAA-4168-B2C2-9B7284BA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4C85C-42A7-49ED-A3B5-1AF0A1AB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65E86-6F4C-433C-8D71-98296528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4083D-CD2B-4AFF-9333-AA060779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C8492-7C34-4D76-9EB6-FBFF63B7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1D78E-F7CA-491E-86A4-3CB2C2B2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9CE7C-3DB2-4E16-8D35-5AE627DB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ABE3E-03CC-4D19-A922-0C1EEB31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C881-BB84-4AE6-98AD-B2C13478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8C3F3-C498-491A-A182-866B3F31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482E3-BB93-48F0-BF3F-464C4823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E9210-EF83-4F7C-BDDE-14437F87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0B4AD-F987-4504-AC69-39079618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CDBC0-C340-493E-8339-D6EBC06C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F38B3-C2C3-4CD1-8E0E-4480A0CE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2AF7B-06F7-4BDE-8C5E-8A72BD59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76979-BF8E-4713-A9CF-65838714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8FC3C-AC58-442A-B093-B830E80A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4B85F-80B6-4D6A-8266-9777F57C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2241-6036-4454-8747-EFAF520D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F9AA6-47EE-4FF5-8F57-B877EF2D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A03C6-E474-42DB-A5B0-511DDE63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C64B7-5430-4D7A-A93C-045A617F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2814C-9ABB-4474-A102-02094666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7C0AE-3DE8-42F3-80F7-24AA9E04F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9053D-CBE7-4A4B-AD70-2729D18F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843F1-4C3F-43E0-976B-BC4CA963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864BD-33B3-47C0-86E8-C14471CA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6BD8A-47BC-4B4F-83FC-AFB9054E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068A3-1864-49F7-839C-CF898633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ABFB-6117-4448-BC51-F7B3F9DB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AEFEE-5A19-4FF8-9979-66C4BF8A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3D89A-6527-4D88-947D-27AA7A19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D5508-D635-4688-A2F1-BAB2BF79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5621C-C73E-4361-8327-15AEB74C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6B2E1-BA4D-46BB-BCEC-1C672D46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21851-D008-40B6-8C73-4B2A3B3E1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CC9E9-4C13-4389-A9E5-09447E310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F420-DE5E-4F72-A9B0-C501F7E902E7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3AC2-1C30-4B78-A192-D2CDC838E04A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219F-2C76-42C8-88D1-72A0E9563142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38A0-5C9B-4627-8226-C3D4C3A72C94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8EDD-8A25-49F6-9D76-604B47320B23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89F1-BA7B-43CF-B917-164FD273E0DB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F17B-E6BD-4941-8466-EF30CDAD7B91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5BC1-3EFD-457B-9C23-746A216223AA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Citizenship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Bookman Old Style"/>
              </a:rPr>
              <a:t>Spotlight 10 Module 3 Across the curriculu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Picture 3" descr="стопка"/>
          <p:cNvPicPr/>
          <p:nvPr/>
        </p:nvPicPr>
        <p:blipFill>
          <a:blip r:embed="rId1"/>
          <a:stretch/>
        </p:blipFill>
        <p:spPr>
          <a:xfrm>
            <a:off x="6227640" y="404640"/>
            <a:ext cx="259236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228240"/>
            <a:ext cx="874872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short paragraph expressing your opinion)</a:t>
            </a:r>
            <a:endParaRPr b="0" lang="en-US" sz="2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250560" y="1125000"/>
            <a:ext cx="856908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 Education For All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y opinion, all children should have the right to a free education. They should have access to a school in their local area that is equipped with enough teachers so that the class sizes are less than 30 students to a class. The schools should also have enough books, supplies and facilities for every child. The classes should be for children of a similar age and education level so that students can get an education that is appropriate for them. I also believe that schools should teach practical subjects as well that will help children in deprived areas to find a decent jo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flexion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2565000"/>
            <a:ext cx="83628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have you learnt toda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was interesting to discover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was difficul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activity did you enjoy mos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skills would you like to develop and improv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Now I Can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Picture 8" descr="http://math.phillipmartin.info/school_teacher5.gif"/>
          <p:cNvPicPr/>
          <p:nvPr/>
        </p:nvPicPr>
        <p:blipFill>
          <a:blip r:embed="rId1"/>
          <a:srcRect l="0" t="0" r="0" b="8449"/>
          <a:stretch/>
        </p:blipFill>
        <p:spPr>
          <a:xfrm>
            <a:off x="4568760" y="333360"/>
            <a:ext cx="3851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http://img12.nnm.ru/9/8/7/d/3/f716980eb85894161c09cb35c0d.jpg"/>
          <p:cNvPicPr/>
          <p:nvPr/>
        </p:nvPicPr>
        <p:blipFill>
          <a:blip r:embed="rId1"/>
          <a:stretch/>
        </p:blipFill>
        <p:spPr>
          <a:xfrm>
            <a:off x="684360" y="5278320"/>
            <a:ext cx="1979640" cy="14860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http://www.dinaburg.eu/upload/news_foto/ef4ee02d28fd4c4ec98b96f316ddc300.jpg"/>
          <p:cNvPicPr/>
          <p:nvPr/>
        </p:nvPicPr>
        <p:blipFill>
          <a:blip r:embed="rId2"/>
          <a:stretch/>
        </p:blipFill>
        <p:spPr>
          <a:xfrm>
            <a:off x="5832360" y="4967280"/>
            <a:ext cx="2014560" cy="1508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http://uelen.ucoz.ru/titul/emblema.gif"/>
          <p:cNvPicPr/>
          <p:nvPr/>
        </p:nvPicPr>
        <p:blipFill>
          <a:blip r:embed="rId3"/>
          <a:stretch/>
        </p:blipFill>
        <p:spPr>
          <a:xfrm>
            <a:off x="2975040" y="1413000"/>
            <a:ext cx="2460600" cy="18414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5" descr="student01"/>
          <p:cNvPicPr/>
          <p:nvPr/>
        </p:nvPicPr>
        <p:blipFill>
          <a:blip r:embed="rId4"/>
          <a:stretch/>
        </p:blipFill>
        <p:spPr>
          <a:xfrm>
            <a:off x="6494400" y="1449360"/>
            <a:ext cx="1979640" cy="1582920"/>
          </a:xfrm>
          <a:prstGeom prst="rect">
            <a:avLst/>
          </a:prstGeom>
          <a:ln w="0">
            <a:noFill/>
          </a:ln>
        </p:spPr>
      </p:pic>
      <p:sp>
        <p:nvSpPr>
          <p:cNvPr id="359" name="Выноска-облако 8"/>
          <p:cNvSpPr/>
          <p:nvPr/>
        </p:nvSpPr>
        <p:spPr>
          <a:xfrm>
            <a:off x="723960" y="3297240"/>
            <a:ext cx="3635280" cy="1800360"/>
          </a:xfrm>
          <a:prstGeom prst="cloudCallout">
            <a:avLst>
              <a:gd name="adj1" fmla="val -12171"/>
              <a:gd name="adj2" fmla="val 66662"/>
            </a:avLst>
          </a:prstGeom>
          <a:solidFill>
            <a:srgbClr val="dde9ec"/>
          </a:solidFill>
          <a:ln w="19080">
            <a:solidFill>
              <a:srgbClr val="dd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Выноска-облако 9"/>
          <p:cNvSpPr/>
          <p:nvPr/>
        </p:nvSpPr>
        <p:spPr>
          <a:xfrm>
            <a:off x="4392720" y="3068640"/>
            <a:ext cx="4751280" cy="1728720"/>
          </a:xfrm>
          <a:prstGeom prst="cloudCallout">
            <a:avLst>
              <a:gd name="adj1" fmla="val -32305"/>
              <a:gd name="adj2" fmla="val 62587"/>
            </a:avLst>
          </a:prstGeom>
          <a:solidFill>
            <a:srgbClr val="dde9ec"/>
          </a:solidFill>
          <a:ln w="19080">
            <a:solidFill>
              <a:srgbClr val="dd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Выноска-облако 10"/>
          <p:cNvSpPr/>
          <p:nvPr/>
        </p:nvSpPr>
        <p:spPr>
          <a:xfrm>
            <a:off x="5364000" y="0"/>
            <a:ext cx="3780000" cy="1413000"/>
          </a:xfrm>
          <a:prstGeom prst="cloudCallout">
            <a:avLst>
              <a:gd name="adj1" fmla="val 13083"/>
              <a:gd name="adj2" fmla="val 67578"/>
            </a:avLst>
          </a:prstGeom>
          <a:solidFill>
            <a:srgbClr val="dde9ec"/>
          </a:solidFill>
          <a:ln w="19080">
            <a:solidFill>
              <a:srgbClr val="dd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Выноска-облако 11"/>
          <p:cNvSpPr/>
          <p:nvPr/>
        </p:nvSpPr>
        <p:spPr>
          <a:xfrm>
            <a:off x="0" y="404640"/>
            <a:ext cx="3672000" cy="1511640"/>
          </a:xfrm>
          <a:prstGeom prst="cloudCallout">
            <a:avLst>
              <a:gd name="adj1" fmla="val 45532"/>
              <a:gd name="adj2" fmla="val 25550"/>
            </a:avLst>
          </a:prstGeom>
          <a:solidFill>
            <a:srgbClr val="dde9ec"/>
          </a:solidFill>
          <a:ln w="19080">
            <a:solidFill>
              <a:srgbClr val="dd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e9ec"/>
                </a:solidFill>
                <a:latin typeface="Gill Sans MT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4"/>
          <p:cNvSpPr/>
          <p:nvPr/>
        </p:nvSpPr>
        <p:spPr>
          <a:xfrm>
            <a:off x="539640" y="549360"/>
            <a:ext cx="28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 children in the world should be able to go to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5"/>
          <p:cNvSpPr/>
          <p:nvPr/>
        </p:nvSpPr>
        <p:spPr>
          <a:xfrm>
            <a:off x="6156360" y="98280"/>
            <a:ext cx="28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eachers do a very hard job and should be paid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8"/>
          <p:cNvSpPr/>
          <p:nvPr/>
        </p:nvSpPr>
        <p:spPr>
          <a:xfrm>
            <a:off x="890640" y="351792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 children should expect to be helped when they have difficulties at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9"/>
          <p:cNvSpPr/>
          <p:nvPr/>
        </p:nvSpPr>
        <p:spPr>
          <a:xfrm>
            <a:off x="5435640" y="328464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asses should not have more than 30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3916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25b7e"/>
                </a:solidFill>
                <a:latin typeface="Bookman Old Style"/>
              </a:rPr>
              <a:t>How to agree/ disagree</a:t>
            </a:r>
            <a:r>
              <a:rPr b="0" lang="en-US" sz="2200" spc="-1" strike="noStrike">
                <a:solidFill>
                  <a:srgbClr val="525b7e"/>
                </a:solidFill>
                <a:latin typeface="Bookman Old Style"/>
              </a:rPr>
              <a:t>. </a:t>
            </a:r>
            <a:endParaRPr b="0" lang="en-US" sz="2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844280"/>
            <a:ext cx="822960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E. g.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es, I agree with all the statements. All children in the world should be able to go to school, as without an education they will find it difficult to make a living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School classes should be small, as it is impossible to learn in a large clas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Teachers do work hard and deserve a good salary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 also agree that children with difficulties in school should be help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Заголовок 1"/>
          <p:cNvSpPr/>
          <p:nvPr/>
        </p:nvSpPr>
        <p:spPr>
          <a:xfrm>
            <a:off x="0" y="0"/>
            <a:ext cx="893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Bookman Old Style"/>
              </a:rPr>
              <a:t>(support the  statement with justification or an exa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324000" y="1318680"/>
            <a:ext cx="20160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urnal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iness stud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 ca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 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erlea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at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727ca3"/>
              </a:buClr>
              <a:buSzPct val="76000"/>
              <a:buFont typeface="Bookman Old Style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Vocabulary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2" name="Содержимое 2"/>
          <p:cNvSpPr/>
          <p:nvPr/>
        </p:nvSpPr>
        <p:spPr>
          <a:xfrm>
            <a:off x="2124000" y="1324080"/>
            <a:ext cx="70200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pire with con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your own; without outsid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fession/study of writing or reporting news stories for the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chool subject that deals with all aspects of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ppen to you; go through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que: spe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iece of paper upon which a student’s  school grades are wri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elieve something will ha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ce and gymnastics performed to encourage crowds to cheer on sports 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ormal discussion on a particular t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rganisation of people set up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mote s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7ca3"/>
              </a:buClr>
              <a:buSzPct val="76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Reading </a:t>
            </a:r>
            <a:r>
              <a:rPr b="0" lang="en-US" sz="28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Ex. 2, p. 58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is the letter to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is the letter from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is the writer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ll the pupils and teachers at Mill House Secondary School, Greetings from Brazil! I've been here for just a week, but already I have so much to share with you about the children and teachers I've met here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letter abou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 you expect to read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he children that Mrs Myles met receiving a good education? Why/ Why no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26 Дорожка 26.wma" descr=""/>
          <p:cNvPicPr/>
          <p:nvPr/>
        </p:nvPicPr>
        <p:blipFill>
          <a:blip r:embed="rId1"/>
          <a:stretch/>
        </p:blipFill>
        <p:spPr>
          <a:xfrm>
            <a:off x="5003640" y="4797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218" nodeType="clickEffect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152182" fill="hold"/>
                                        <p:tgtEl>
                                          <p:spTgt spid="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Vocabulary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79280" y="1341360"/>
            <a:ext cx="2448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 wi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-pa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ug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nsored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ise mon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t them into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Содержимое 2"/>
          <p:cNvSpPr/>
          <p:nvPr/>
        </p:nvSpPr>
        <p:spPr>
          <a:xfrm>
            <a:off x="2633760" y="1268280"/>
            <a:ext cx="61214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share sth with somebody, you both have it, use it, or occupy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ate sth is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ped/ wanted/ anticip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ing a lot of money for the job p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ey paid to stay in a house/flat per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/mon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ic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ed or organised occasion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d to raise money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llect cash for a specific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th happen; set i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3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3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3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What is your school like?</a:t>
            </a:r>
            <a:br>
              <a:rPr sz="2900"/>
            </a:b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What would you change if any?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80" name="Picture 2" descr="http://cs10796.vkontakte.ru/u107606103/-14/x_40407e53.jpg"/>
          <p:cNvPicPr/>
          <p:nvPr/>
        </p:nvPicPr>
        <p:blipFill>
          <a:blip r:embed="rId1"/>
          <a:stretch/>
        </p:blipFill>
        <p:spPr>
          <a:xfrm>
            <a:off x="396720" y="3565440"/>
            <a:ext cx="4175280" cy="2786040"/>
          </a:xfrm>
          <a:prstGeom prst="rect">
            <a:avLst/>
          </a:prstGeom>
          <a:ln w="0">
            <a:noFill/>
          </a:ln>
        </p:spPr>
      </p:pic>
      <p:sp>
        <p:nvSpPr>
          <p:cNvPr id="381" name="Выноска-облако 4"/>
          <p:cNvSpPr/>
          <p:nvPr/>
        </p:nvSpPr>
        <p:spPr>
          <a:xfrm>
            <a:off x="3276720" y="1052640"/>
            <a:ext cx="5867280" cy="2881080"/>
          </a:xfrm>
          <a:prstGeom prst="cloudCallout">
            <a:avLst>
              <a:gd name="adj1" fmla="val -68425"/>
              <a:gd name="adj2" fmla="val 49236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I would like t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If I could I would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If only we could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28036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Bookman Old Style"/>
              </a:rPr>
              <a:t>Listening           </a:t>
            </a:r>
            <a:r>
              <a:rPr b="1" i="1" lang="en-US" sz="2400" spc="-1" strike="noStrike">
                <a:solidFill>
                  <a:srgbClr val="525b7e"/>
                </a:solidFill>
                <a:latin typeface="Bookman Old Style"/>
              </a:rPr>
              <a:t>A Child’s right to a free education</a:t>
            </a:r>
            <a:endParaRPr b="0" lang="en-US" sz="24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83" name="27 Дорожка 27.wma" descr=""/>
          <p:cNvPicPr/>
          <p:nvPr/>
        </p:nvPicPr>
        <p:blipFill>
          <a:blip r:embed="rId1"/>
          <a:stretch/>
        </p:blipFill>
        <p:spPr>
          <a:xfrm>
            <a:off x="1979640" y="49212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4" name=""/>
          <p:cNvGraphicFramePr/>
          <p:nvPr/>
        </p:nvGraphicFramePr>
        <p:xfrm>
          <a:off x="684360" y="1557360"/>
          <a:ext cx="7848360" cy="4248000"/>
        </p:xfrm>
        <a:graphic>
          <a:graphicData uri="http://schemas.openxmlformats.org/drawingml/2006/table">
            <a:tbl>
              <a:tblPr/>
              <a:tblGrid>
                <a:gridCol w="1962000"/>
                <a:gridCol w="1962000"/>
                <a:gridCol w="1962360"/>
                <a:gridCol w="1962000"/>
              </a:tblGrid>
              <a:tr h="593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az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ibe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us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1217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he benefits of going to sch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1843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he problems some children 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593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ho can hel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307" nodeType="clickEffect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64388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25b7e"/>
                </a:solidFill>
                <a:latin typeface="Bookman Old Style"/>
              </a:rPr>
              <a:t>A Child’s right to a free education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941400" y="1484280"/>
          <a:ext cx="7272360" cy="4537080"/>
        </p:xfrm>
        <a:graphic>
          <a:graphicData uri="http://schemas.openxmlformats.org/drawingml/2006/table">
            <a:tbl>
              <a:tblPr/>
              <a:tblGrid>
                <a:gridCol w="1819440"/>
                <a:gridCol w="1817640"/>
                <a:gridCol w="1817640"/>
                <a:gridCol w="1817640"/>
              </a:tblGrid>
              <a:tr h="3366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az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ibe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us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17542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he benefits of going to sch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earn to read and write, have employment opportunities, make fri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1753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he problems some children 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school, one school and one teacher for all ages, large class sizes, no fri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922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ho can hel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vernments, the med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5:21:13Z</dcterms:created>
  <dc:creator>Андреева; Тропина</dc:creator>
  <dc:description/>
  <dc:language>en-US</dc:language>
  <cp:lastModifiedBy>Пользователь</cp:lastModifiedBy>
  <dcterms:modified xsi:type="dcterms:W3CDTF">2020-11-15T15:15:22Z</dcterms:modified>
  <cp:revision>39</cp:revision>
  <dc:subject/>
  <dc:title>Citizenship</dc:title>
</cp:coreProperties>
</file>