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B96-9E73-4F0D-9CCA-530C912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669-8679-403C-B5E4-FF8B641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A70-5F75-43BF-A329-F3FC2638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062-819F-488F-8861-6F231C2A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6222-BEFC-4A12-8FE7-375523CC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35C-69BB-4EE6-AA11-FEC5972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F3B-4BFD-4FE8-8E7A-18D67D0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0469-7D5C-484B-9B84-B35EDF6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B17-14E1-41A5-B196-D9955EDB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097B-F49F-4C27-B912-A7434AE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B83-3E1A-4D10-A9E2-C3AAEED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9A2-CADA-4EF9-B41F-9AB21C8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492-3310-4362-AA3C-0FB016F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864-9ED0-4A6F-962E-79B2538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0ED5-AEC5-4624-AE46-B11793C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F23-B418-4237-B261-FB66B7D2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22A5-8B11-48E1-8D57-F084C0A2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32B-4447-48FF-9977-BCD43BF4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DB8-4366-40D4-A4FD-F234D1D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2A4-0ABD-45A2-810F-CF03ED81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DA4-238F-4009-A141-98D5E38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038-5362-487E-AEB7-3F1655A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6C6-8CF5-4727-A4C5-276ABD5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45D-673D-42E0-AC44-2B4E2E5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3EE7-B44B-401D-B11F-854914885F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377-17B6-496B-B321-A991566C33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341000"/>
            <a:ext cx="6656400" cy="3382920"/>
          </a:xfrm>
          <a:prstGeom prst="rect">
            <a:avLst/>
          </a:prstGeom>
          <a:solidFill>
            <a:srgbClr val="9ece6e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оль пальчиковой гимнастики в развит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бучающихся дошкольного возраста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енко З.А.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000" y="5516640"/>
            <a:ext cx="6032520" cy="936720"/>
          </a:xfrm>
          <a:prstGeom prst="rect">
            <a:avLst/>
          </a:prstGeom>
          <a:solidFill>
            <a:srgbClr val="5edc5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Comic Sans MS"/>
              </a:rPr>
              <a:t>«Рука – это инструмент всех инструментов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Comic Sans MS"/>
              </a:rPr>
              <a:t>Аристотель</a:t>
            </a:r>
            <a:r>
              <a:rPr b="1" lang="en-US" sz="18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160020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«Движения руки всегда тесно связаны с речью и способствуют ее развитию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.М. Бехтерев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flipV="1" rot="10800000">
            <a:off x="681120" y="2370960"/>
            <a:ext cx="74930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тский возраст – время интенсивного формирования и роста организма и психики, раскрытия способностей, становления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.А.Сухомлинский писал: «Ум ребенка находится на кончиках его пальц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795920"/>
            <a:ext cx="2089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04960" y="524160"/>
            <a:ext cx="6631560" cy="220896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вижения пальцев и кистей рук имеют особое развивающее значение, так как оказывают огромное влияние на развитие речевой и всей высшей нервной деятельности ребе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Пальчиковая гимнастика для развития речи дошкольников"/>
          <p:cNvPicPr/>
          <p:nvPr/>
        </p:nvPicPr>
        <p:blipFill>
          <a:blip r:embed="rId1"/>
          <a:stretch/>
        </p:blipFill>
        <p:spPr>
          <a:xfrm>
            <a:off x="755640" y="3357720"/>
            <a:ext cx="3724200" cy="2076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Пальчиковая гимнастика для развития речи дошкольников"/>
          <p:cNvPicPr/>
          <p:nvPr/>
        </p:nvPicPr>
        <p:blipFill>
          <a:blip r:embed="rId2"/>
          <a:stretch/>
        </p:blipFill>
        <p:spPr>
          <a:xfrm>
            <a:off x="5292720" y="4005360"/>
            <a:ext cx="17524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342200" cy="140508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гры с пальчиками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вивают мозг ребёнка, стимулируют развитие речи, творческие способности, фантаз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Кита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спространены упражнения с каменными и металлическими шар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Японии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широко используются упражнения для ладоней и пальцев с грецкими орехами и перекатывание между ладонями карандаш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осс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малолетства учат играть в «Ладушки», «Сороку - белобоку», «Козу рогатую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гулярные занятия с мелкими предметами улучшают память, деятельность сердечно - сосудистой и пищеварительной систем, устраняют эмоциональное напряжение, развивают координацию движений, силу и ловкость рук, поддерживают жизненный тону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699000">
            <a:off x="5795640" y="4867200"/>
            <a:ext cx="20890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918560" cy="113184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Пальчиковые игры разнообразны по содержанию, их разделили на группы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гры-манипуляц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южетно-пальчиковые 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альчиковые упражнения в сочетании со звуковой гимнастик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альчиковые кинезиологические упраж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альчиковые упражнения в сочетании с самомассажем кистей и пальцев ру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Театр в ру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03640" y="5013360"/>
            <a:ext cx="201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4800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льчиковые игры и упражнения – уникальное средство для развития мелкой моторики и речи в их единстве и взаимосвяз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учивание текстов с использованием «пальчиковой» гимнастики стимулирует развитие речи, пространственного, наглядно-действенного мышления, произвольного и непроизвольного внимания, слухового и зрительного восприятия, быстроту реакции и эмоциональную выразительность, способность сосредотачивать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льчиковые игры расширяют кругозор и словарный запас детей, дают первоначальные математические представления и экологические знания, обогащают знания детей о собственном теле, создают положительное эмоциональное состояние, воспитывают уверенность в себе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5300640"/>
            <a:ext cx="20163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43820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ниторинг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формированности двигательных кистевых и пальцевых навы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77208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манипуляции без предме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для детей с 3,5–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 ле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казать жестам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яд символических действий: как хмурят брови, улыбаются, здороваются, рубят дрова, посылают воздушный поцелуй и д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яд описательных действий: какой формы яблоко, огурец, палочка; показать человека высокого, худого и п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59280" y="2565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воспроизведение кистевы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и пальцевых по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вторить ряд поз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жать ручку в кулачок, распрямить ладошку и т. 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вести кисть в положение вверх, вниз, повернуть вправо, влево, поднести к подбородку, ко лбу («отдать честь»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роизвести позу «козы» и д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5445000"/>
            <a:ext cx="2590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5bd1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альчиковые игры – мощная целенаправленная тренировка для мозга ребенка, стимулирующая ег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дошкольному возрасту ребенок должен уме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вильно называть пальцы в прямой и обратной последовательности, вразнобой, с прикосновением, с показом у себя и у других, с закрытыми глаза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рошо владеть карандашом, раскрашивать, варьируя силу нажима, соединять точки точными линиями, вырезать по контуру и лепит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24360" y="4869000"/>
            <a:ext cx="2663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64720" cy="2273400"/>
          </a:xfrm>
          <a:prstGeom prst="rect">
            <a:avLst/>
          </a:prstGeom>
          <a:solidFill>
            <a:srgbClr val="9ece6e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дости  Вам, терпения и удачи  в занятиях с детьми!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47280" y="4723920"/>
            <a:ext cx="6032520" cy="1009800"/>
          </a:xfrm>
          <a:prstGeom prst="rect">
            <a:avLst/>
          </a:prstGeom>
          <a:solidFill>
            <a:srgbClr val="5edc5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07:10:38Z</dcterms:created>
  <dc:creator>Home</dc:creator>
  <dc:description/>
  <dc:language>en-US</dc:language>
  <cp:lastModifiedBy>татьяна1</cp:lastModifiedBy>
  <dcterms:modified xsi:type="dcterms:W3CDTF">2016-06-20T05:05:00Z</dcterms:modified>
  <cp:revision>14</cp:revision>
  <dc:subject/>
  <dc:title>Слайд 1</dc:title>
</cp:coreProperties>
</file>