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8.png" ContentType="image/png"/>
  <Override PartName="/ppt/media/image15.gif" ContentType="image/gif"/>
  <Override PartName="/ppt/media/image1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589B-3FE2-473A-9DED-5D169872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F76D-4FE8-466E-9D15-24F4C9E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3E13-8024-4A60-BEC9-49E9466F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1BF9-0581-44CD-B8E6-14737819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765C-464E-4FDC-88F3-674CA14F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3A4-8360-4AD5-AE85-034ACB08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2BE8-0DF9-47D4-B03A-D98B4BE1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7830-5983-4F93-BE15-FA834020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D5A7-1659-41C6-8840-D7C5382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49A4-3B6A-46CD-BF97-F9C408AA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CCE0-6D51-476F-BF0D-A3BF050B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11E0-F5AC-4DF6-A694-DCD5D22E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10BB-6CF8-44E2-BEA2-EC72D7AE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99C1-4B99-4F3A-B1C4-2E6A5809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88B4-D186-40E6-941F-5F3C47AF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D07F-951F-48D1-B2A4-BB91E3F7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46A8-ECD9-46C7-B22E-0FF35AC1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04FF-6DC7-49B5-9D68-4E6A841B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FCE2-BD09-439D-9E28-FEB12ED2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DB9D-9A7D-4C05-8CF0-5749078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ADBE-7E31-4C20-9327-FC8B27E2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6623-360C-4DF3-8401-B2825AF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7DAC-74EF-43DC-A4B0-1C411BC6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4662-E762-4695-A511-419D25F9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098D-4F9B-433C-A46B-66D9394D6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C714-BF81-4B1C-8EC2-C8E631EA65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МБОУ СОШ № 5 </a:t>
            </a:r>
            <a:br>
              <a:rPr sz="4000"/>
            </a:b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города Кузнецк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«Ре</a:t>
            </a: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@</a:t>
            </a: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л – это круто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WordArt 4"/>
          <p:cNvSpPr txBox="1"/>
          <p:nvPr/>
        </p:nvSpPr>
        <p:spPr>
          <a:xfrm>
            <a:off x="826920" y="1484280"/>
            <a:ext cx="7345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5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гитбрига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«РЕ@Л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6" name="Vyhod-komand-Festivali(muzofon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реп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8" name="WordArt 5"/>
          <p:cNvSpPr txBox="1"/>
          <p:nvPr/>
        </p:nvSpPr>
        <p:spPr>
          <a:xfrm>
            <a:off x="0" y="549360"/>
            <a:ext cx="853272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Зависимости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рНЕТ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2106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395280" y="585720"/>
            <a:ext cx="8137440" cy="4938840"/>
          </a:xfrm>
          <a:prstGeom prst="rect">
            <a:avLst/>
          </a:prstGeom>
          <a:ln w="0">
            <a:noFill/>
          </a:ln>
        </p:spPr>
      </p:pic>
      <p:pic>
        <p:nvPicPr>
          <p:cNvPr id="550" name="нарезка - флешмоб на день город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84183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Новости Украины NEWSru.ua :: Зависимость от интернета действует как абстинентный синдром"/>
          <p:cNvPicPr/>
          <p:nvPr/>
        </p:nvPicPr>
        <p:blipFill>
          <a:blip r:embed="rId1"/>
          <a:stretch/>
        </p:blipFill>
        <p:spPr>
          <a:xfrm rot="20835600">
            <a:off x="1763640" y="836280"/>
            <a:ext cx="5351400" cy="5351400"/>
          </a:xfrm>
          <a:prstGeom prst="rect">
            <a:avLst/>
          </a:prstGeom>
          <a:ln w="0">
            <a:noFill/>
          </a:ln>
        </p:spPr>
      </p:pic>
      <p:pic>
        <p:nvPicPr>
          <p:cNvPr id="518" name="реп.mp3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5" descr="DataLife Engine Версия для печати Wallpaper Abyss - Space Wallpaper - part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Oval 7"/>
          <p:cNvSpPr/>
          <p:nvPr/>
        </p:nvSpPr>
        <p:spPr>
          <a:xfrm>
            <a:off x="4284720" y="3141720"/>
            <a:ext cx="64764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8"/>
          <p:cNvSpPr/>
          <p:nvPr/>
        </p:nvSpPr>
        <p:spPr>
          <a:xfrm>
            <a:off x="6084720" y="3860640"/>
            <a:ext cx="648000" cy="574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9"/>
          <p:cNvSpPr/>
          <p:nvPr/>
        </p:nvSpPr>
        <p:spPr>
          <a:xfrm>
            <a:off x="7812000" y="4581360"/>
            <a:ext cx="647640" cy="57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10"/>
          <p:cNvSpPr/>
          <p:nvPr/>
        </p:nvSpPr>
        <p:spPr>
          <a:xfrm>
            <a:off x="6948360" y="4149720"/>
            <a:ext cx="648000" cy="57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11"/>
          <p:cNvSpPr/>
          <p:nvPr/>
        </p:nvSpPr>
        <p:spPr>
          <a:xfrm>
            <a:off x="5148360" y="3573360"/>
            <a:ext cx="647640" cy="57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032903333-beautiful-view-satellite-orbit.mp4" descr=""/>
          <p:cNvPicPr/>
          <p:nvPr/>
        </p:nvPicPr>
        <p:blipFill>
          <a:blip r:embed="rId2"/>
          <a:stretch/>
        </p:blipFill>
        <p:spPr>
          <a:xfrm>
            <a:off x="3419640" y="0"/>
            <a:ext cx="5724360" cy="3813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4" descr="Space. Часть 5. Planets. &quot; Фэнтези, фантастика, игры."/>
          <p:cNvPicPr/>
          <p:nvPr/>
        </p:nvPicPr>
        <p:blipFill>
          <a:blip r:embed="rId3"/>
          <a:stretch/>
        </p:blipFill>
        <p:spPr>
          <a:xfrm>
            <a:off x="0" y="4680000"/>
            <a:ext cx="29034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915 -0.22022 C -0.02257 -0.22022 0.0335 -0.1455 0.0335 -0.05366 C 0.0335 0.03817 -0.02257 0.11289 -0.0915 0.11289 C -0.16042 0.11289 -0.2165 0.03817 -0.2165 -0.05366 C -0.2165 -0.1455 -0.16042 -0.22022 -0.0915 -0.22022 Z">
                                      <p:cBhvr>
                                        <p:cTn id="24" dur="5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39774 -0.10294 C -0.39774 -0.26602 -0.30712 -0.39856 -0.19618 -0.39856 C -0.0849 -0.39856 0.00538 -0.26602 0.00538 -0.10294 C 0.00538 0.06014 -0.0849 0.19269 -0.19618 0.19269 C -0.30712 0.19269 -0.39774 0.06014 -0.39774 -0.10294 Z">
                                      <p:cBhvr>
                                        <p:cTn id="26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8264 -0.39509 C 0.02778 -0.24635 0.03021 -0.00994999999999999 -0.07743 0.13209 C -0.18507 0.27389 -0.36267 0.26833 -0.47326 0.11936 C -0.58385 -0.02961 -0.58593 -0.26579 -0.4783 -0.40782 C -0.37048 -0.54962 -0.19323 -0.5443 -0.08264 -0.39509 Z">
                                      <p:cBhvr>
                                        <p:cTn id="28" dur="5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45452 0.26232 C -0.68195 0.195 -0.83229 -0.06893 -0.78924 -0.32639 C -0.74618 -0.58339 -0.52587 -0.73814 -0.29844 -0.6706 C -0.07101 -0.60305 0.07899 -0.33842 0.03593 -0.08119 C -0.00712 0.17604 -0.22709 0.32986 -0.45452 0.26232 Z">
                                      <p:cBhvr>
                                        <p:cTn id="30" dur="5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2" descr="Экскурсия-прогулка по Красной площади"/>
          <p:cNvPicPr/>
          <p:nvPr/>
        </p:nvPicPr>
        <p:blipFill>
          <a:blip r:embed="rId1"/>
          <a:stretch/>
        </p:blipFill>
        <p:spPr>
          <a:xfrm>
            <a:off x="0" y="364500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4" descr="Турция. . И купол необъятный Статьи о Турции"/>
          <p:cNvPicPr/>
          <p:nvPr/>
        </p:nvPicPr>
        <p:blipFill>
          <a:blip r:embed="rId2"/>
          <a:stretch/>
        </p:blipFill>
        <p:spPr>
          <a:xfrm>
            <a:off x="5789520" y="0"/>
            <a:ext cx="3354480" cy="4149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6" descr="Отзывы туристов о путешествиях во все страны мира."/>
          <p:cNvPicPr/>
          <p:nvPr/>
        </p:nvPicPr>
        <p:blipFill>
          <a:blip r:embed="rId3"/>
          <a:stretch/>
        </p:blipFill>
        <p:spPr>
          <a:xfrm>
            <a:off x="0" y="0"/>
            <a:ext cx="5724360" cy="3541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8" descr="Международная славянская академия"/>
          <p:cNvPicPr/>
          <p:nvPr/>
        </p:nvPicPr>
        <p:blipFill>
          <a:blip r:embed="rId4"/>
          <a:stretch/>
        </p:blipFill>
        <p:spPr>
          <a:xfrm>
            <a:off x="3708360" y="2852640"/>
            <a:ext cx="5435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5" descr="Тема для роздумів: Вход - только для титульных &quot; ОКО ПЛАНЕТЫ информационно-аналитический портал"/>
          <p:cNvPicPr/>
          <p:nvPr/>
        </p:nvPicPr>
        <p:blipFill>
          <a:blip r:embed="rId1"/>
          <a:stretch/>
        </p:blipFill>
        <p:spPr>
          <a:xfrm>
            <a:off x="3765600" y="1623960"/>
            <a:ext cx="5256000" cy="5256360"/>
          </a:xfrm>
          <a:prstGeom prst="rect">
            <a:avLst/>
          </a:prstGeom>
          <a:ln w="0">
            <a:noFill/>
          </a:ln>
        </p:spPr>
      </p:pic>
      <p:sp>
        <p:nvSpPr>
          <p:cNvPr id="533" name="WordArt 7"/>
          <p:cNvSpPr txBox="1"/>
          <p:nvPr/>
        </p:nvSpPr>
        <p:spPr>
          <a:xfrm>
            <a:off x="250920" y="115920"/>
            <a:ext cx="3581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ая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опасност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    угрозой!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4" name="Zvuk_sireny_vozdushnoy_trevogi_-_Bez_nazvaniya_muzofon.com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7713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Интернет &quot; Russify.ru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1" descr="23"/>
          <p:cNvPicPr/>
          <p:nvPr/>
        </p:nvPicPr>
        <p:blipFill>
          <a:blip r:embed="rId1"/>
          <a:stretch/>
        </p:blipFill>
        <p:spPr>
          <a:xfrm>
            <a:off x="3419640" y="1484280"/>
            <a:ext cx="4390920" cy="4248360"/>
          </a:xfrm>
          <a:prstGeom prst="rect">
            <a:avLst/>
          </a:prstGeom>
          <a:ln w="0">
            <a:noFill/>
          </a:ln>
        </p:spPr>
      </p:pic>
      <p:pic>
        <p:nvPicPr>
          <p:cNvPr id="539" name="metronom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Новости за день"/>
          <p:cNvPicPr/>
          <p:nvPr/>
        </p:nvPicPr>
        <p:blipFill>
          <a:blip r:embed="rId3"/>
          <a:stretch/>
        </p:blipFill>
        <p:spPr>
          <a:xfrm rot="20079000">
            <a:off x="323640" y="6202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2265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5" descr="Кибератаки становятся все более распространенными (за последний год число компьютерных угроз, циркулирующих в интернете, удвоило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749920"/>
          </a:xfrm>
          <a:prstGeom prst="rect">
            <a:avLst/>
          </a:prstGeom>
          <a:ln w="0">
            <a:noFill/>
          </a:ln>
        </p:spPr>
      </p:pic>
      <p:pic>
        <p:nvPicPr>
          <p:cNvPr id="542" name="Большой Секрет Для Маленькой Компани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91290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«В жизни больше интересного! А всё-таки реальная жизнь красочнее!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«Твоя жизнь не ограничена компьютером. А жизнь за окном проходит мимо. Компьютер не заменит тебе друзей, семью и чувство реального счастья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Забудь пароль, сотри свой НИК, нажми Esc, и на турник! В дом ворвался кибернет  - лучше спорта защиты нет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Сделай свой выбо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Выбери себе жизнь в реальности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Не убивай свое время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Nickelback-Burn-it-to-the-ground-Vyhod-komand-I(muzofon.com).mp3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402420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9:45:07Z</dcterms:created>
  <dc:creator>WiZaRd</dc:creator>
  <dc:description/>
  <dc:language>en-US</dc:language>
  <cp:lastModifiedBy>Пользователь Windows</cp:lastModifiedBy>
  <dcterms:modified xsi:type="dcterms:W3CDTF">2020-10-19T12:01:51Z</dcterms:modified>
  <cp:revision>18</cp:revision>
  <dc:subject/>
  <dc:title>Слайд 1</dc:title>
</cp:coreProperties>
</file>