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B036-0853-4771-8868-CA91FBC966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D13A-9D15-4495-9033-284ACA937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606-C29A-403C-B974-3F31E823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9E2-2F50-4FB2-BD50-FE6E688D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048-4CFE-4A5A-B95C-A8A2D969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79A-3741-454C-80B3-ACA84DAF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9527-9FEF-46E0-810D-ECB0E876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6664-ED1B-49C1-BB2E-DEB0A215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13B-6621-4969-9E86-34B98B1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DE95-BD9E-469B-82A3-0F6EED49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E12-0646-4637-9330-5CE54E99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61B6-7BDF-4CAC-98D0-F94D06F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F5FD-ED5C-4E01-B27C-6329BA8C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9FC-3DE5-4C07-9151-273545C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5F98-0A89-47C9-9BC4-5532895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9D8-67AF-4B9D-86A8-E3CF0B3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7CED-15F7-4629-9685-B5F09F0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436-6DEA-4D5F-B654-C61D966F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0C0F-CE28-4338-AF4A-31C898C0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E1B-6A8F-47EF-985B-C4A27E87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9BA-CB4E-4DA6-84A1-87486FB0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58B-8BD6-46E4-9E33-ECB6ED7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2FF-7700-4E74-8486-8AE787CC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66B-EC6D-4CFF-80EE-6E440F17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38C-433C-446E-A307-BA401FF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F92-4520-4D81-9201-F97F46E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72A7-E516-4215-BACC-A2DB81EF1A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A07F-C2EC-48E7-8323-11F972AF66B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br>
              <a:rPr sz="6200"/>
            </a:br>
            <a:r>
              <a:rPr b="0" lang="ru-RU" sz="6200" spc="-1" strike="noStrike">
                <a:solidFill>
                  <a:srgbClr val="006633"/>
                </a:solidFill>
                <a:latin typeface="Garamond"/>
              </a:rPr>
              <a:t>Вирусы</a:t>
            </a:r>
            <a:br>
              <a:rPr sz="6200"/>
            </a:b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4" descr="Безымянный"/>
          <p:cNvPicPr/>
          <p:nvPr/>
        </p:nvPicPr>
        <p:blipFill>
          <a:blip r:embed="rId1"/>
          <a:stretch/>
        </p:blipFill>
        <p:spPr>
          <a:xfrm>
            <a:off x="5486400" y="2649600"/>
            <a:ext cx="3048120" cy="3651120"/>
          </a:xfrm>
          <a:prstGeom prst="rect">
            <a:avLst/>
          </a:prstGeom>
          <a:ln w="0">
            <a:noFill/>
          </a:ln>
        </p:spPr>
      </p:pic>
      <p:sp>
        <p:nvSpPr>
          <p:cNvPr id="95" name="Дата 1"/>
          <p:cNvSpPr/>
          <p:nvPr/>
        </p:nvSpPr>
        <p:spPr>
          <a:xfrm>
            <a:off x="228600" y="228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7F62-439F-48E9-B539-DDE55E837E84}" type="datetime">
              <a:rPr b="1" lang="ru-RU" sz="2400" spc="-1" strike="noStrike">
                <a:solidFill>
                  <a:srgbClr val="00b050"/>
                </a:solidFill>
                <a:latin typeface="Garamond"/>
              </a:rPr>
              <a:t>30.07.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Этапы жизнедеятельности виру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рикрепление вируса к клетке –хозя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Проникновение вируса в клетк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Производство вирусной нуклеиновой кислоты и вирусных бел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Самосборка вирусной частиц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Выход вируса из клет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7b18184fb46c56c5ae71389f66731483"/>
          <p:cNvPicPr/>
          <p:nvPr/>
        </p:nvPicPr>
        <p:blipFill>
          <a:blip r:embed="rId1"/>
          <a:stretch/>
        </p:blipFill>
        <p:spPr>
          <a:xfrm>
            <a:off x="609480" y="3795840"/>
            <a:ext cx="80010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Контактный путь – т. е. контагиоз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016-016-Infektsija-naruzhnykh-pokrovov-kontaktnyj-put"/>
          <p:cNvPicPr/>
          <p:nvPr/>
        </p:nvPicPr>
        <p:blipFill>
          <a:blip r:embed="rId1"/>
          <a:stretch/>
        </p:blipFill>
        <p:spPr>
          <a:xfrm>
            <a:off x="1752480" y="17524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762120" y="5715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но-бытовым - стрептодермию (гнойно-воспалительное заболевание кожных покровов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ippp_964"/>
          <p:cNvPicPr/>
          <p:nvPr/>
        </p:nvPicPr>
        <p:blipFill>
          <a:blip r:embed="rId1"/>
          <a:stretch/>
        </p:blipFill>
        <p:spPr>
          <a:xfrm>
            <a:off x="838080" y="380880"/>
            <a:ext cx="77724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4586040" cy="2789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99072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Воздушно – капельный пу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143000" y="5410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распространяются такие заболевания как грипп, корь, полиомиелит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0025-025-Gripp-ostroe-respiratornoe-zabolevanie-vyzyvaemoe-razlichnymi"/>
          <p:cNvPicPr/>
          <p:nvPr/>
        </p:nvPicPr>
        <p:blipFill>
          <a:blip r:embed="rId1"/>
          <a:stretch/>
        </p:blipFill>
        <p:spPr>
          <a:xfrm>
            <a:off x="533520" y="38088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404640"/>
            <a:ext cx="8353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Вирус гри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48320" y="1989000"/>
            <a:ext cx="39830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изна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хора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ш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ъюнктив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ин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зотеч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яжелая дыхательная недостато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4797360"/>
            <a:ext cx="50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пособы пере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оздушно-капельный п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Вирус птичьего гриппа"/>
          <p:cNvPicPr/>
          <p:nvPr/>
        </p:nvPicPr>
        <p:blipFill>
          <a:blip r:embed="rId1"/>
          <a:stretch/>
        </p:blipFill>
        <p:spPr>
          <a:xfrm>
            <a:off x="609480" y="1447920"/>
            <a:ext cx="3530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акцинаци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Picture 3" descr="images"/>
          <p:cNvPicPr/>
          <p:nvPr/>
        </p:nvPicPr>
        <p:blipFill>
          <a:blip r:embed="rId1"/>
          <a:stretch/>
        </p:blipFill>
        <p:spPr>
          <a:xfrm>
            <a:off x="5686560" y="4351320"/>
            <a:ext cx="3457440" cy="25066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179280" y="1629360"/>
            <a:ext cx="727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КЦИНЫ [от лат. vaccinus— коровий (т. к. первая В. была изготовлена из коровьей оспы)]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параты, получаемые из микробов, вирусов и продуктов их жизнедеятельности и применяемые для выработки невосприимчивости (активной иммунизаци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дей и животных с профилактическими и лечебными це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539640" y="404640"/>
            <a:ext cx="83534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Чума 21 века: ВИЧ и СПИД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16360" y="2356200"/>
            <a:ext cx="58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ИД (ВИЧ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синдром приобретенного иммунодефицита. Состояние глубочайшего иммунодефицита, развивающееся в результате действия на иммунную систему вируса иммунодефицита человека (ВИ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virus1"/>
          <p:cNvPicPr/>
          <p:nvPr/>
        </p:nvPicPr>
        <p:blipFill>
          <a:blip r:embed="rId1"/>
          <a:stretch/>
        </p:blipFill>
        <p:spPr>
          <a:xfrm>
            <a:off x="304920" y="1600200"/>
            <a:ext cx="2514600" cy="2620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539640" y="450756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Ч поражает именно те клетки человеческого организма, которые призваны бороться с инфекцией — клетки иммун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chimp1"/>
          <p:cNvPicPr/>
          <p:nvPr/>
        </p:nvPicPr>
        <p:blipFill>
          <a:blip r:embed="rId2"/>
          <a:stretch/>
        </p:blipFill>
        <p:spPr>
          <a:xfrm>
            <a:off x="5867280" y="4181400"/>
            <a:ext cx="20894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новные понят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виру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иммунодефици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348000" y="1557360"/>
            <a:ext cx="542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крошечный организм, микро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0" y="299736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отеря организмом способности сопротивляться инфекц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708360" y="5157720"/>
            <a:ext cx="525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живет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организме чело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ИЧ </a:t>
            </a:r>
            <a:r>
              <a:rPr b="0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вызывает заболевание</a:t>
            </a:r>
            <a:br>
              <a:rPr sz="3800"/>
            </a:br>
            <a:r>
              <a:rPr b="0" lang="ru-RU" sz="3800" spc="-1" strike="noStrike">
                <a:solidFill>
                  <a:srgbClr val="ff0000"/>
                </a:solidFill>
                <a:latin typeface="Garamond"/>
              </a:rPr>
              <a:t>вич-инфекц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46814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синд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иобретенн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иммуно-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дефиц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419640" y="4292640"/>
            <a:ext cx="57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отеря организмом способности сопротивляться инфекц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51280" y="2924280"/>
            <a:ext cx="529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неврожденного, а приобретенного в результате вич-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419640" y="1700280"/>
            <a:ext cx="51782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ризнаки определенного заболе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ый вопро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с вирусами – возбудителями заболеваний трудно вести борьбу и полностью их уничтож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66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Ч-инфек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в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и непостоянном половом партнере </a:t>
            </a: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(пользоваться презервативами!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гомосексуальных отношениях, при искусственном оплодотвор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спользовании </a:t>
            </a: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загрязненных медицинских инструмент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у наркоманов – одним шприц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От матери- ребенк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внутриутробно, при родах, при кормлении грудным моло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Через кров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при переливании крови, пересадке органов и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Характерные особенности вирусов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125360"/>
          <a:ext cx="8786880" cy="54946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8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ство с живыми орган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ичие от живых орган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ески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к размнож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ледствен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чив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пособляемость к меняющимся условиям окружающей сре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нешней среде не проявляют свойств живого и имеют форму кристал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 потребляют пищ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Не вырабатывают энерг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Не расту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Нет обмена вещест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меют неклеточное стро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чень маленькие разме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ростота организации (нуклеиновая кислота и бел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Занимают пограничное положение между неживой и живой матери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ый вопро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с вирусами – возбудителями заболеваний трудно вести борьбу и полностью их уничтож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2362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мостоятельная раб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чите предложения, вставив  сло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Неклеточная форма жизни, паразит на генетическом уровне, способная проникнуть в живую клетку и размножаться внутри ее это - …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Наследственная информация вируса находится в однонитчатой или двунитчатой молекуле ……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Сердцевина вируса окружена защитной белковой оболочкой, которая называется………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Вирусы бактерий называют ……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Наука, изучающая строение и поведение вирусов …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6. Один из путей передачи вирусной инфекции контагиозный т. е. ………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русы – латинское  слово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vir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я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х объединяют в  царство живой природы – царств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 Вирусы (неклеточные формы жизн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русология - наука, изучающая неклеточные формы организмов - вирус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тория открытия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609480" y="1523880"/>
            <a:ext cx="2971800" cy="480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Безымянный"/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4648320" y="5181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ус табачной моза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роение вируса табачной мозаик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51460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29718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952880" y="2106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уклеи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ислота  (ДНК или Р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2767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013360" y="3941640"/>
            <a:ext cx="46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елковая оболоч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апсид (от лат. слова «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psa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» - вместилище).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оение вирус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 (от лат. virus — яд) —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простейшая форма жизни на нашей планет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микроскопическая частица, представляющая собой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молекулы нуклеиновых кислот (ДНК или РН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лючённы в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защитную белковую оболочку (капсид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способны инфицировать живые организ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ностью сформированная инфекционная частица называется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ири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СТРОЕНИЕ ВИРУС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Рисунок 2" descr="строение вируса.jpg"/>
          <p:cNvPicPr/>
          <p:nvPr/>
        </p:nvPicPr>
        <p:blipFill>
          <a:blip r:embed="rId1"/>
          <a:stretch/>
        </p:blipFill>
        <p:spPr>
          <a:xfrm>
            <a:off x="2438280" y="1501920"/>
            <a:ext cx="4367160" cy="41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Многообразие строения вирус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84456651"/>
          <p:cNvPicPr/>
          <p:nvPr/>
        </p:nvPicPr>
        <p:blipFill>
          <a:blip r:embed="rId1"/>
          <a:stretch/>
        </p:blipFill>
        <p:spPr>
          <a:xfrm>
            <a:off x="1096920" y="1922400"/>
            <a:ext cx="1690560" cy="1606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098720" y="1308240"/>
            <a:ext cx="1457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п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98484465654"/>
          <p:cNvPicPr/>
          <p:nvPr/>
        </p:nvPicPr>
        <p:blipFill>
          <a:blip r:embed="rId2"/>
          <a:stretch/>
        </p:blipFill>
        <p:spPr>
          <a:xfrm>
            <a:off x="3900600" y="1906560"/>
            <a:ext cx="1655640" cy="1582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817800" y="1343160"/>
            <a:ext cx="1506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Image0017"/>
          <p:cNvPicPr/>
          <p:nvPr/>
        </p:nvPicPr>
        <p:blipFill>
          <a:blip r:embed="rId3"/>
          <a:stretch/>
        </p:blipFill>
        <p:spPr>
          <a:xfrm>
            <a:off x="6540480" y="1905120"/>
            <a:ext cx="1438200" cy="15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5573880" y="1343160"/>
            <a:ext cx="32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ачная моза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Image0015"/>
          <p:cNvPicPr/>
          <p:nvPr/>
        </p:nvPicPr>
        <p:blipFill>
          <a:blip r:embed="rId4"/>
          <a:stretch/>
        </p:blipFill>
        <p:spPr>
          <a:xfrm>
            <a:off x="557280" y="4503600"/>
            <a:ext cx="2592360" cy="1297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863640" y="3886200"/>
            <a:ext cx="2232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териоф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999999999455"/>
          <p:cNvPicPr/>
          <p:nvPr/>
        </p:nvPicPr>
        <p:blipFill>
          <a:blip r:embed="rId5"/>
          <a:stretch/>
        </p:blipFill>
        <p:spPr>
          <a:xfrm>
            <a:off x="3959280" y="4371840"/>
            <a:ext cx="1439640" cy="1374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3"/>
          <p:cNvSpPr/>
          <p:nvPr/>
        </p:nvSpPr>
        <p:spPr>
          <a:xfrm>
            <a:off x="3564000" y="388620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омие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8441654848"/>
          <p:cNvPicPr/>
          <p:nvPr/>
        </p:nvPicPr>
        <p:blipFill>
          <a:blip r:embed="rId6"/>
          <a:stretch/>
        </p:blipFill>
        <p:spPr>
          <a:xfrm>
            <a:off x="6540480" y="4371840"/>
            <a:ext cx="1411200" cy="144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6300720" y="3944880"/>
            <a:ext cx="215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еновир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"/>
          <p:cNvGrpSpPr/>
          <p:nvPr/>
        </p:nvGrpSpPr>
        <p:grpSpPr>
          <a:xfrm>
            <a:off x="250920" y="1071000"/>
            <a:ext cx="8641800" cy="1900800"/>
            <a:chOff x="250920" y="1071000"/>
            <a:chExt cx="8641800" cy="190080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>
              <a:off x="6824160" y="2243520"/>
              <a:ext cx="1800" cy="1929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3" idx="2"/>
            </p:cNvCxnSpPr>
            <p:nvPr/>
          </p:nvCxnSpPr>
          <p:spPr>
            <a:xfrm flipV="1">
              <a:off x="2321280" y="2243520"/>
              <a:ext cx="1440" cy="1929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4" name="_s1030"/>
            <p:cNvCxnSpPr>
              <a:stCxn id="130" idx="0"/>
              <a:endCxn id="135" idx="2"/>
            </p:cNvCxnSpPr>
            <p:nvPr/>
          </p:nvCxnSpPr>
          <p:spPr>
            <a:xfrm flipV="1" rot="16200000">
              <a:off x="5602320" y="464760"/>
              <a:ext cx="192960" cy="2251800"/>
            </a:xfrm>
            <a:prstGeom prst="bentConnector3">
              <a:avLst>
                <a:gd name="adj1" fmla="val 4953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6" name="_s1031"/>
            <p:cNvCxnSpPr>
              <a:stCxn id="133" idx="0"/>
              <a:endCxn id="135" idx="2"/>
            </p:cNvCxnSpPr>
            <p:nvPr/>
          </p:nvCxnSpPr>
          <p:spPr>
            <a:xfrm flipH="1" flipV="1" rot="5400000">
              <a:off x="3350520" y="464400"/>
              <a:ext cx="192960" cy="2252520"/>
            </a:xfrm>
            <a:prstGeom prst="bentConnector3">
              <a:avLst>
                <a:gd name="adj1" fmla="val 49532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3718440" y="1071000"/>
              <a:ext cx="1706400" cy="423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Виру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(по составу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1420920" y="1686960"/>
              <a:ext cx="1799640" cy="5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ДНК –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5924160" y="1686960"/>
              <a:ext cx="1799640" cy="556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НК 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етровирус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5"/>
            <p:cNvSpPr/>
            <p:nvPr/>
          </p:nvSpPr>
          <p:spPr>
            <a:xfrm>
              <a:off x="250920" y="2436480"/>
              <a:ext cx="4138920" cy="535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сп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герпе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4753800" y="2436480"/>
              <a:ext cx="4138920" cy="535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рипп, краснуха, бешенств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Ч, атипичная пневмо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Organization Chart 13"/>
          <p:cNvGrpSpPr/>
          <p:nvPr/>
        </p:nvGrpSpPr>
        <p:grpSpPr>
          <a:xfrm>
            <a:off x="177840" y="3781440"/>
            <a:ext cx="8641440" cy="1440360"/>
            <a:chOff x="177840" y="3781440"/>
            <a:chExt cx="8641440" cy="1440360"/>
          </a:xfrm>
        </p:grpSpPr>
        <p:cxnSp>
          <p:nvCxnSpPr>
            <p:cNvPr id="138" name="_s1039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500440" y="3380400"/>
              <a:ext cx="280080" cy="2279880"/>
            </a:xfrm>
            <a:prstGeom prst="bentConnector3">
              <a:avLst>
                <a:gd name="adj1" fmla="val 49935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41" name="_s1040"/>
            <p:cNvCxnSpPr>
              <a:stCxn id="142" idx="0"/>
              <a:endCxn id="140" idx="2"/>
            </p:cNvCxnSpPr>
            <p:nvPr/>
          </p:nvCxnSpPr>
          <p:spPr>
            <a:xfrm flipH="1" flipV="1" rot="5400000">
              <a:off x="3220200" y="3379320"/>
              <a:ext cx="280080" cy="2282400"/>
            </a:xfrm>
            <a:prstGeom prst="bentConnector3">
              <a:avLst>
                <a:gd name="adj1" fmla="val 49935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40" name="_s1041"/>
            <p:cNvSpPr/>
            <p:nvPr/>
          </p:nvSpPr>
          <p:spPr>
            <a:xfrm>
              <a:off x="3097800" y="3781440"/>
              <a:ext cx="2804040" cy="5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Вирус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(по строению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2"/>
            <p:cNvSpPr/>
            <p:nvPr/>
          </p:nvSpPr>
          <p:spPr>
            <a:xfrm>
              <a:off x="177840" y="4661640"/>
              <a:ext cx="4078080" cy="560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ст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рус табачной мозаик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3"/>
            <p:cNvSpPr/>
            <p:nvPr/>
          </p:nvSpPr>
          <p:spPr>
            <a:xfrm>
              <a:off x="4741200" y="4661640"/>
              <a:ext cx="4078080" cy="560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лож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рипп, ВИЧ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8680" y="317520"/>
            <a:ext cx="761544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лассификация  вирусов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6135840" y="44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11-27T09:33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