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BA1-73A1-4F80-930C-2883E04B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6BC-3EB3-4BCC-9B4A-7B3C913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2DC-F5CA-44E5-9840-C3637832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84C-1023-40CA-9160-3394F50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288B-20A3-40DC-9C71-E7CAB53C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4BA0-A3EB-4BA0-8F81-B009EFF3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FEEC-DA2F-4F6E-9034-B4FD5B5C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58CB-8BA6-4B07-A305-E711501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7D83-856B-4287-93C6-742187D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3E4-280D-4692-8730-49A44B1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FAC9-8AC8-4E94-9602-3CD723F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0AC-745F-4BFB-B0F5-4DE2A434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2559-7379-4769-A2FC-B89293A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09B3-0284-467D-BFB4-E62332F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D6E-539C-4641-AB9F-0B90DB5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0EB-07A1-4EBF-8160-1521FEA0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5B4-C798-4291-A260-BB58671A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CB0-1EC2-4BBE-B907-B02AA07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08A-6DF2-4DE4-852F-8066C75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F86-19E2-4771-90E8-13EB888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660-F8C1-4AD8-A4CA-D2BDAA5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12F-B263-4C47-B2D1-9FDBB56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3AD-6B22-4AF2-9A28-815E9B9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212-E1D7-4355-B177-2769C9B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ffe59d"/>
                </a:gs>
                <a:gs pos="100000">
                  <a:srgbClr val="bf7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ffe59d"/>
                </a:gs>
                <a:gs pos="100000">
                  <a:srgbClr val="bf7f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ffe59d"/>
                  </a:gs>
                  <a:gs pos="100000">
                    <a:srgbClr val="bf7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ffe59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ffe5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bf7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cc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bf7f3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470B-B53F-4A6F-A1FF-0755298B1C3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ffe59d"/>
                  </a:gs>
                  <a:gs pos="100000">
                    <a:srgbClr val="bf7f3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ffe59d"/>
                  </a:gs>
                  <a:gs pos="100000">
                    <a:srgbClr val="bf7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99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bf7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bf7f3f"/>
                </a:gs>
                <a:gs pos="100000">
                  <a:srgbClr val="cc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ffe59d"/>
                  </a:gs>
                  <a:gs pos="100000">
                    <a:srgbClr val="bf7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ffe59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ffe5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bf7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f7f3f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E4E-BC99-4C0D-A527-53EBBAE625A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785880" y="928800"/>
            <a:ext cx="78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a5100"/>
                </a:solidFill>
                <a:latin typeface="Monotype Corsiva"/>
              </a:rPr>
              <a:t>Антон  Павлович  Чехов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a5100"/>
                </a:solidFill>
                <a:latin typeface="Times New Roman"/>
              </a:rPr>
              <a:t>Очерк жизни и творчества писател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a5100"/>
                </a:solidFill>
                <a:latin typeface="Times New Roman"/>
              </a:rPr>
              <a:t>Художественное мастерств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a5100"/>
                </a:solidFill>
                <a:latin typeface="Times New Roman"/>
              </a:rPr>
              <a:t>Чехова-рассказч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a5100"/>
                </a:solidFill>
                <a:latin typeface="Times New Roman"/>
              </a:rPr>
              <a:t>Рассказ «О любв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3714840" y="3071880"/>
            <a:ext cx="17064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3905E-006 L -0.44757 -0.52329 E">
                                      <p:cBhvr>
                                        <p:cTn id="18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ahoma"/>
              </a:rPr>
              <a:t>Кто самый внимательный? 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71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116000" y="2193840"/>
            <a:ext cx="8335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каком городе родился А. П. Чех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олько детей было в семье Чеховых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 Чехов относился к своим родителям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е духовное наследство досталось детям от родителей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й спектакль чаще других любили разыгрывать в семье Чеховых? Кого играл Анто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 работал доктор Чех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е время суток Чехов оставлял для сочинительств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282680" y="5205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a5100"/>
                </a:solidFill>
                <a:latin typeface="Times New Roman"/>
              </a:rPr>
              <a:t>Художественное мастерство</a:t>
            </a:r>
            <a:br>
              <a:rPr sz="4000"/>
            </a:br>
            <a:r>
              <a:rPr b="1" i="1" lang="ru-RU" sz="4000" spc="-1" strike="noStrike">
                <a:solidFill>
                  <a:srgbClr val="7a5100"/>
                </a:solidFill>
                <a:latin typeface="Times New Roman"/>
              </a:rPr>
              <a:t>Чехова - рассказч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059120" y="3776760"/>
            <a:ext cx="4752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голов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юж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Художественная дета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Юмо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д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8" descr="2CA2T76E4CAH95HKNCAALFCVSCAVX23VGCAW0IIWKCAE384K6CA3A4Z5GCAGBFPQMCA2M7R7ZCAUTPWV2CAVRQFYICARBR3A9CAJCLBYECA4IYP4SCABDI5NXCACEQBW5CA1F85DCCA3O8XA3CAPVEITUCAGEOZ8W"/>
          <p:cNvPicPr/>
          <p:nvPr/>
        </p:nvPicPr>
        <p:blipFill>
          <a:blip r:embed="rId2"/>
          <a:stretch/>
        </p:blipFill>
        <p:spPr>
          <a:xfrm rot="546000">
            <a:off x="6516360" y="3933720"/>
            <a:ext cx="1801800" cy="2594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5460120" y="1916280"/>
            <a:ext cx="37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ткость – сестра талан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А. П. Чех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291120" y="263700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писать – это искусство сокращ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А. П. Чех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Заголовок рассказа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имеет точное идейное звуч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 rot="20884800">
            <a:off x="1335240" y="2781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 rot="202800">
            <a:off x="2341440" y="39333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Злоумышленни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430520" y="24210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ос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7"/>
          <p:cNvSpPr/>
          <p:nvPr/>
        </p:nvSpPr>
        <p:spPr>
          <a:xfrm rot="21343200">
            <a:off x="5866920" y="3573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часть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 rot="1713600">
            <a:off x="7093080" y="2852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 любв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 rot="20545800">
            <a:off x="4862520" y="451296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ловек в футляр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0"/>
          <p:cNvSpPr/>
          <p:nvPr/>
        </p:nvSpPr>
        <p:spPr>
          <a:xfrm rot="1140600">
            <a:off x="1325520" y="50515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олстый и тонки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11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1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Сюжет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6000" y="836280"/>
            <a:ext cx="760896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строится на остром, необычном полож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mso9CFE3"/>
          <p:cNvPicPr/>
          <p:nvPr/>
        </p:nvPicPr>
        <p:blipFill>
          <a:blip r:embed="rId1"/>
          <a:stretch/>
        </p:blipFill>
        <p:spPr>
          <a:xfrm>
            <a:off x="3348000" y="1844640"/>
            <a:ext cx="3359160" cy="4392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996720" y="630864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ересоли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6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Художественная деталь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заменяет многоречевые опис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mso7AB29"/>
          <p:cNvPicPr/>
          <p:nvPr/>
        </p:nvPicPr>
        <p:blipFill>
          <a:blip r:embed="rId1"/>
          <a:stretch/>
        </p:blipFill>
        <p:spPr>
          <a:xfrm>
            <a:off x="2340000" y="1773360"/>
            <a:ext cx="3854520" cy="4608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0" y="3141720"/>
            <a:ext cx="216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ец Хрюк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то подня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ерх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опуще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547640" y="2781360"/>
            <a:ext cx="1441800" cy="216000"/>
          </a:xfrm>
          <a:prstGeom prst="rightArrow">
            <a:avLst>
              <a:gd name="adj1" fmla="val 50000"/>
              <a:gd name="adj2" fmla="val 16687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443640" y="2205000"/>
            <a:ext cx="243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фискован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ыжов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5867280" y="242100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72169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300720" y="4076640"/>
            <a:ext cx="268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нель Очумел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то одева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 снимае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5724360" y="3573360"/>
            <a:ext cx="1440000" cy="360360"/>
          </a:xfrm>
          <a:prstGeom prst="leftArrow">
            <a:avLst>
              <a:gd name="adj1" fmla="val 50000"/>
              <a:gd name="adj2" fmla="val 999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12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4"/>
          <p:cNvSpPr/>
          <p:nvPr/>
        </p:nvSpPr>
        <p:spPr>
          <a:xfrm>
            <a:off x="3290040" y="64911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Хамелеон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Юмор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07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1625400" y="765000"/>
            <a:ext cx="705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- беззлобно-насмешливое отношение к чему-либ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изображение героев в смешном ви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201120" y="630864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Лошадиная фамили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8" descr="image004"/>
          <p:cNvPicPr/>
          <p:nvPr/>
        </p:nvPicPr>
        <p:blipFill>
          <a:blip r:embed="rId2"/>
          <a:stretch/>
        </p:blipFill>
        <p:spPr>
          <a:xfrm>
            <a:off x="2700360" y="1844640"/>
            <a:ext cx="404028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4537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Подтекст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381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способ построения художественного текста, основанный  на несовпадении внешнего, прямого смысла слова, и его внутреннего зна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684600" cy="5472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5779080" y="59500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Толстый и тон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1282680" y="5205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ahoma"/>
              </a:rPr>
              <a:t>Кто самый внимательный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94720" y="2060640"/>
            <a:ext cx="79578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фраза А. П. Чехова о лаконизме стал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ылатой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ми художественными приемами мастерс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ьзуется Чехов-рассказчи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такое подтекс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Рассказы  А. П. Чехова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 о любви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20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403280" cy="19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7CAY4V02PCAG0TFV0CAUW0MN5CAKRNRG3CA22IL15CAQ16Q9JCANG2Q1SCA41P8KBCA5B69IRCA1ACURQCAOFHQQ2CA225E59CA3IAFB5CAY3G4IQCAT626H7CA80BNHHCAVSUYT3CANM9PK2CANUZZEMCALKTDJ6"/>
          <p:cNvPicPr/>
          <p:nvPr/>
        </p:nvPicPr>
        <p:blipFill>
          <a:blip r:embed="rId2"/>
          <a:stretch/>
        </p:blipFill>
        <p:spPr>
          <a:xfrm>
            <a:off x="7529400" y="1268280"/>
            <a:ext cx="1614600" cy="2449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HCAS6I4LTCA6R9Y3CCA11140HCAT1R5MPCAHDGR7GCAZEI6LXCAGJM27SCAQAAZRPCAJH11VDCA2FC61OCAA9ITN0CAVAO3T2CAAX8G55CAKLIN3LCAC68L3DCAN9D8VVCA35OQEVCA65EYHACA3LWLT1CAE5IEEW"/>
          <p:cNvPicPr/>
          <p:nvPr/>
        </p:nvPicPr>
        <p:blipFill>
          <a:blip r:embed="rId3"/>
          <a:stretch/>
        </p:blipFill>
        <p:spPr>
          <a:xfrm>
            <a:off x="971640" y="4292640"/>
            <a:ext cx="1458720" cy="2274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PCA5I6S4SCAW04UGXCA7HXTX5CA680ETCCAGM3CC0CA9U64CECAJ7C6UPCAM0WW2FCA3UQZQJCAZYNPXNCA8H3U0TCAZNNQ6YCAXC2RMBCA8Z5PYUCARKAL4HCADWMME3CA206FDFCAZP2GWXCA1W2RODCA10O8D5"/>
          <p:cNvPicPr/>
          <p:nvPr/>
        </p:nvPicPr>
        <p:blipFill>
          <a:blip r:embed="rId4"/>
          <a:stretch/>
        </p:blipFill>
        <p:spPr>
          <a:xfrm>
            <a:off x="7308720" y="3429000"/>
            <a:ext cx="1357560" cy="2276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XCAJZRPW8CA3LFU48CANIEJL1CAQTITR1CA49JKLECA5IS843CAJM5HTSCAG8ZNYWCAY0RYDQCAYV90NFCA8UEJBFCA47VACKCA3QOUSVCAE1R24QCAD1ML9ICAUGOWAMCATLFKEVCALG357TCAHUDZ38CAK85CZX"/>
          <p:cNvPicPr/>
          <p:nvPr/>
        </p:nvPicPr>
        <p:blipFill>
          <a:blip r:embed="rId5"/>
          <a:stretch/>
        </p:blipFill>
        <p:spPr>
          <a:xfrm>
            <a:off x="0" y="2276640"/>
            <a:ext cx="1544760" cy="22809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4"/>
          <p:cNvSpPr/>
          <p:nvPr/>
        </p:nvSpPr>
        <p:spPr>
          <a:xfrm>
            <a:off x="3292560" y="24922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ама с собачко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2200320" y="328464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Жен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2888640" y="42210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ушеч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723920" y="47973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прыгунь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44680" y="3573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Ариадн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900240" y="5661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 любв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Психологизм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32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1619280" y="333360"/>
            <a:ext cx="67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bf7f3f"/>
                </a:solidFill>
                <a:latin typeface="Times New Roman"/>
              </a:rPr>
              <a:t>- полное, подробное и глубокое изображение чувств и эмоций, мыслей и переживаний литературного геро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32000" y="2349360"/>
            <a:ext cx="73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 П. Чехов стремится в своих рассказах  проследить динамику человеческой души в разных ее проявлениях и во всей ее глубине. Его интересует обыденная, каждодневная жизнь обыкновенных людей. Но ведь обыденность и «творит личность», и Чехов стремится обратить внимание читателя на отдельные дни и часы «маленького» обывательского существования, осмыслить их и помочь человеку жить осознан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ого внимания, по мнению писателя, достойна душа влюбленного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Monotype Corsiva"/>
              </a:rPr>
              <a:t>Антон  Павлович  Чехов</a:t>
            </a:r>
            <a:endParaRPr b="1" lang="en-US" sz="48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12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763640" y="90792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60 -19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258920" y="2205000"/>
            <a:ext cx="78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ненавижу ложь и насилие во всех видах… Моё святая святых – это человеческое тело, здоровье, ум, талант, вдохновение, любовь, абсолютная свобода, свобода от силы и лжи, в чём бы последние две ни выражали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Антон Павлович Чехов о любви: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3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1552320" y="213372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лько влюбленный имеет право на звание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988000" y="2852640"/>
            <a:ext cx="52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люблённость указывает человеку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ким он должен бы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85880" y="421488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 понял, что когда любишь, то в своих рассуждения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 этой любви нужно исходить от высшего, от боле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ажного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м счастье или несчастье, грех или добродетел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ли не нужно рассуждать вовс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«Маленькая трилогия»</a:t>
            </a:r>
            <a:br>
              <a:rPr sz="3200"/>
            </a:b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41" name="Picture 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51080" cy="1916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-3600" y="19620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Человек в футляр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51280" y="3408480"/>
            <a:ext cx="27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Крыжовни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23640" y="486900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О любв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35600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тляр от жизни, от свободы чувств и эмо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ак бы чего не вышло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492360" y="350028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тляр мелких чувств и интересов, физиологические интере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427200" y="5013360"/>
            <a:ext cx="46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тляр от любв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любви в угоду общеприняты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рм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1743120" y="923760"/>
            <a:ext cx="65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(Трилогия о «футлярной жизни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337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Рассказ «О любви»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250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image014"/>
          <p:cNvPicPr/>
          <p:nvPr/>
        </p:nvPicPr>
        <p:blipFill>
          <a:blip r:embed="rId2"/>
          <a:stretch/>
        </p:blipFill>
        <p:spPr>
          <a:xfrm>
            <a:off x="5292720" y="1268280"/>
            <a:ext cx="3581280" cy="4969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303120" y="272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732960" y="2349360"/>
            <a:ext cx="48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чему же герои Чех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тказываются от любв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 к этому относится автор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Дом в Таганроге, </a:t>
            </a:r>
            <a:br>
              <a:rPr sz="3200"/>
            </a:b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в котором 17 (29) января1860 года родился А. П. Чехов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16" name="Picture 5" descr="ml_objects1079"/>
          <p:cNvPicPr/>
          <p:nvPr/>
        </p:nvPicPr>
        <p:blipFill>
          <a:blip r:embed="rId1"/>
          <a:stretch/>
        </p:blipFill>
        <p:spPr>
          <a:xfrm>
            <a:off x="1857240" y="2000160"/>
            <a:ext cx="6461280" cy="445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292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Родители писателя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19" name="Picture 4" descr="ml_objects1077"/>
          <p:cNvPicPr/>
          <p:nvPr/>
        </p:nvPicPr>
        <p:blipFill>
          <a:blip r:embed="rId1"/>
          <a:stretch/>
        </p:blipFill>
        <p:spPr>
          <a:xfrm>
            <a:off x="4916520" y="1844640"/>
            <a:ext cx="3227400" cy="401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6" descr="ml_objects1078"/>
          <p:cNvPicPr/>
          <p:nvPr/>
        </p:nvPicPr>
        <p:blipFill>
          <a:blip r:embed="rId2"/>
          <a:stretch/>
        </p:blipFill>
        <p:spPr>
          <a:xfrm>
            <a:off x="971640" y="1844640"/>
            <a:ext cx="306216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Text Box 9"/>
          <p:cNvSpPr/>
          <p:nvPr/>
        </p:nvSpPr>
        <p:spPr>
          <a:xfrm>
            <a:off x="4862880" y="6035760"/>
            <a:ext cx="38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вгения Яковлевна Чехов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ь писа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902520" y="6035760"/>
            <a:ext cx="33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вел Егорович Чех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ец писа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11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3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140328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ец и мать – единственные для меня люди…, для которых я никогда ничего не пожалею. Если я буду высоко стоять, то это дело их ру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Семья Чеховых</a:t>
            </a:r>
            <a:br>
              <a:rPr sz="3200"/>
            </a:b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(Из воспоминаний сестры писателя)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2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Семья Чеховых.mpg" descr=""/>
          <p:cNvPicPr/>
          <p:nvPr/>
        </p:nvPicPr>
        <p:blipFill>
          <a:blip r:embed="rId2"/>
          <a:stretch/>
        </p:blipFill>
        <p:spPr>
          <a:xfrm>
            <a:off x="1714680" y="164304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&quot;А. П. Чехов-студент.&quot;"/>
          <p:cNvPicPr/>
          <p:nvPr/>
        </p:nvPicPr>
        <p:blipFill>
          <a:blip r:embed="rId1"/>
          <a:stretch/>
        </p:blipFill>
        <p:spPr>
          <a:xfrm>
            <a:off x="1763640" y="3645000"/>
            <a:ext cx="1595520" cy="21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ml_objects1081"/>
          <p:cNvPicPr/>
          <p:nvPr/>
        </p:nvPicPr>
        <p:blipFill>
          <a:blip r:embed="rId2"/>
          <a:stretch/>
        </p:blipFill>
        <p:spPr>
          <a:xfrm>
            <a:off x="0" y="4697280"/>
            <a:ext cx="171468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l_objects1087"/>
          <p:cNvPicPr/>
          <p:nvPr/>
        </p:nvPicPr>
        <p:blipFill>
          <a:blip r:embed="rId3"/>
          <a:stretch/>
        </p:blipFill>
        <p:spPr>
          <a:xfrm>
            <a:off x="3492360" y="2421000"/>
            <a:ext cx="1611360" cy="208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659240" y="500040"/>
            <a:ext cx="506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a5100"/>
                </a:solidFill>
                <a:latin typeface="Times New Roman"/>
              </a:rPr>
              <a:t>Из воспоминаний И. А. Бун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a51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415240" y="58053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84 году мордастей, независимей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419640" y="4724280"/>
            <a:ext cx="55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у же приблизительно пору портрет, написанный братом: губастый, башкирский мал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64000" y="371628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90 году: красивость смелог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много взгляда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9" descr="ml_objects1082"/>
          <p:cNvPicPr/>
          <p:nvPr/>
        </p:nvPicPr>
        <p:blipFill>
          <a:blip r:embed="rId4"/>
          <a:stretch/>
        </p:blipFill>
        <p:spPr>
          <a:xfrm>
            <a:off x="5148360" y="1484280"/>
            <a:ext cx="1544400" cy="20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6732720" y="2565360"/>
            <a:ext cx="24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92 году: типичный земский доктор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11" descr="&quot;А. П. Чехов после возвращения из клиники с таксой Хиной. Мелихово.&quot;"/>
          <p:cNvPicPr/>
          <p:nvPr/>
        </p:nvPicPr>
        <p:blipFill>
          <a:blip r:embed="rId5"/>
          <a:stretch/>
        </p:blipFill>
        <p:spPr>
          <a:xfrm>
            <a:off x="6948360" y="333360"/>
            <a:ext cx="1667160" cy="2158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900000" y="184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97 году: в пенсне, смотрит холодно, в упо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786320" y="616572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Чехова каждый год менялось лицо… В 79 году по окончан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имназии волосы на прямой ряд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6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71680" y="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Московский дом писа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Дом Чехова в Москве.mpg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5386680" cy="421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mso8A7A1"/>
          <p:cNvPicPr/>
          <p:nvPr/>
        </p:nvPicPr>
        <p:blipFill>
          <a:blip r:embed="rId3"/>
          <a:stretch/>
        </p:blipFill>
        <p:spPr>
          <a:xfrm rot="21572400">
            <a:off x="4943160" y="801720"/>
            <a:ext cx="3984480" cy="3475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0" y="621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Журналы, в которых А. П. Чехов печатал свои рассказы</a:t>
            </a:r>
            <a:endParaRPr b="1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pic>
        <p:nvPicPr>
          <p:cNvPr id="147" name="Picture 13" descr="mso8A7A1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5084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600" y="2421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трекоз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82520" y="306864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путни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2720" y="378936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скол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26880" y="4508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олн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1640" y="531972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верчо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52720" y="60930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Зрител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664680" y="227664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азвлече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603840" y="314172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усский сатир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сто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6445800" y="59500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вет и тен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6614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Будильни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mso8A7A1"/>
          <p:cNvPicPr/>
          <p:nvPr/>
        </p:nvPicPr>
        <p:blipFill>
          <a:blip r:embed="rId1"/>
          <a:stretch/>
        </p:blipFill>
        <p:spPr>
          <a:xfrm>
            <a:off x="2484360" y="2997360"/>
            <a:ext cx="4392720" cy="3423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547280" y="640080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е сборники рассказов А. П. Чех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763640" y="836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a5100"/>
                </a:solidFill>
                <a:latin typeface="Times New Roman"/>
              </a:rPr>
              <a:t>Псевдонимы А. П. Чех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68360" y="28526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. Ч - 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548840" y="2997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5560" y="486720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рач без пациен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-54000" y="35733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Брат моего бр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42160" y="501336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Человек без селезё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884640" y="395604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. Балдас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300120" y="198900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тоша Чехо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12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рулёва</dc:creator>
  <dc:description/>
  <dc:language>en-US</dc:language>
  <cp:lastModifiedBy>Хрулёва</cp:lastModifiedBy>
  <dcterms:modified xsi:type="dcterms:W3CDTF">2021-01-20T06:47:36Z</dcterms:modified>
  <cp:revision>28</cp:revision>
  <dc:subject/>
  <dc:title>PowerPoint Presentation</dc:title>
</cp:coreProperties>
</file>