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AE5-816E-4D60-B49F-7A428BB4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F77-6F5E-4DB1-98DB-968A5D2C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E20-6838-4019-BF0A-03769155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28F-822E-4407-B180-A793D992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F4C9-1BB9-40C8-9C78-F086F27E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4716-C4B3-4343-8C97-448C8B5F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DAFD-7706-4DA2-9F0C-9E947D12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0341-5B9E-450F-8F16-8038CBD9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8764-D55A-4789-974D-D173F7FF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83DA-AC45-4F1E-99A3-BC84FD69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5E28-FFA2-407A-B439-75F0E7FB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CD2-F376-43CB-8676-823D7445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BBD9-8E10-42D4-8080-3CC13FE3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0F94-AD52-44E1-A9F6-97A7F993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3729-6AA8-4571-951E-352DDD3E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5C64-7F77-44DE-A829-B7F36AF8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4F8C-F8C4-4349-A2B1-9CD860C0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8A0-CB67-4186-9C4A-FCF5FFFD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AC8-D12B-4FDF-A7AE-B5745234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B3F-4862-4D2C-8221-576B5971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6FA4-ECB6-481C-BB7B-35D975E6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9E0-ED51-445F-8ED0-8A3530AB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C70D-49ED-4E4B-9CA8-08AEFD2A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16B-4329-4A12-A620-67D0A273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0748-CFB7-4DF4-A3AE-EEEE6CDF4F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F9F8-75DF-4B34-9327-C9B4F53096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7920" y="6480"/>
            <a:ext cx="91360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762120" y="228600"/>
            <a:ext cx="8001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на Морфолог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533520" y="2133720"/>
            <a:ext cx="4647960" cy="4267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6629400" y="4495680"/>
            <a:ext cx="2133720" cy="1905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ю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038480" y="16765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г Самостоятельных часте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5943600" y="3733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г служебных часте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1143000" y="3048120"/>
            <a:ext cx="30492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1143000" y="3048120"/>
            <a:ext cx="30492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1523880" y="3048120"/>
            <a:ext cx="30492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лаг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1905120" y="3048120"/>
            <a:ext cx="30456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2362320" y="3048120"/>
            <a:ext cx="30456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2819520" y="3048120"/>
            <a:ext cx="30456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епри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200400" y="3048120"/>
            <a:ext cx="30492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657600" y="3048120"/>
            <a:ext cx="30492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им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4191120" y="4038480"/>
            <a:ext cx="304560" cy="1447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066680" y="3200400"/>
            <a:ext cx="454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1558440" y="40384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2289960" y="3735000"/>
            <a:ext cx="45468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гадай часть реч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дя(н-нн)ая гор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(а-я)щ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егоубо(р-рь)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(е-и)ре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ло(ч–чь)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р(и-е)пучий с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(е-и)лёные е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35809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0" lang="ru-RU" sz="8000" spc="-1" strike="noStrike">
                <a:solidFill>
                  <a:srgbClr val="330033"/>
                </a:solidFill>
                <a:latin typeface="Times New Roman"/>
              </a:rPr>
              <a:t>НАРЕЧИЕ.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е: Измени словосочета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вариант                      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лю особенно         яркое  о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о лицам в ед.ч )          (по родам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орфологические  призна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лю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шь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т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ое 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ие 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ая 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486080" y="2971800"/>
            <a:ext cx="6438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нтаксическая роль нареч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212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предложении –обстоятель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8"/>
          <p:cNvGrpSpPr/>
          <p:nvPr/>
        </p:nvGrpSpPr>
        <p:grpSpPr>
          <a:xfrm>
            <a:off x="366840" y="-66190680"/>
            <a:ext cx="8164440" cy="0"/>
            <a:chOff x="366840" y="-66190680"/>
            <a:chExt cx="8164440" cy="0"/>
          </a:xfrm>
        </p:grpSpPr>
        <p:sp>
          <p:nvSpPr>
            <p:cNvPr id="129" name="Line 19"/>
            <p:cNvSpPr/>
            <p:nvPr/>
          </p:nvSpPr>
          <p:spPr>
            <a:xfrm>
              <a:off x="366840" y="-66190680"/>
              <a:ext cx="251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>
              <a:off x="6020640" y="-66190680"/>
              <a:ext cx="251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1257480" y="2209680"/>
            <a:ext cx="678168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858080" cy="60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Отлично, 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    замечательно,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             великолепно!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5943600" y="609480"/>
            <a:ext cx="3057480" cy="22766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kit</cp:lastModifiedBy>
  <dcterms:modified xsi:type="dcterms:W3CDTF">2020-12-07T12:58:45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