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5640" y="812520"/>
            <a:ext cx="711684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1"/>
          </p:nvPr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347703DB-6B5F-4198-A7B4-1F2F4135AD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E2D962BE-CF05-4CE0-BFAE-B9C3C99987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C5CC447F-74A4-4461-B1CF-7FAF3EECFF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9CCF14B3-BD8A-49F8-B86D-43B4A9EA43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D7F66A45-A444-42E8-B079-69DB678058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9991AC5D-E7ED-4234-B5B0-02973082EC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0ADD9855-989E-4E21-8A1F-DF0B305648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5A9E3132-65FF-4E92-B95C-CE1663D7C0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3D462F29-8CBC-40EA-9BBE-3C77D15B78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389ED072-5556-481F-8BF8-91C44B0B30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A7A2F685-514D-4107-852D-00531DE31C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032421D5-3BD6-45E0-A194-01122AB871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B5903321-F7DC-4EE5-9DBC-E5D4DF79CA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4D1F3C18-60F1-479A-8383-04C1653B7D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036C96BA-D26C-4C5C-B56B-739177CA69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42B4AD4E-7FF2-4C24-B547-0CFFC211AC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B8DE7820-3D25-4FEB-AB88-0AF2FCC163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8AE6AEA0-5633-4E8B-A0D5-A2CADFB191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A6408778-0782-45EC-B283-E12EAEBBBF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566BF92E-A5AB-4CDF-8AE8-6A287F4EC3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A8777C46-3FB7-48BB-9BBE-FD08EC0330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F9B9E273-9112-4569-9DF4-0D9CDF3F18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41E304C7-2503-4CD7-B90F-7E56B01A80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A09F4B4B-EA50-404B-AE78-6A5A8DAFAE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4063AA4D-9213-459B-BAC9-2ED82439FE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1BBB76E5-C6F8-4887-A5F1-6178117B0A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1A222A3E-762A-466D-9D62-557E75573F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C56E4509-D186-4B67-8359-AAE8AFF6D6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fld id="{C92BB12F-F9AE-422B-98A5-B9E0F98055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20680"/>
            <a:ext cx="82152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0680"/>
            <a:ext cx="82152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15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6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108000" y="0"/>
            <a:ext cx="9140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39640" y="565200"/>
            <a:ext cx="8126640" cy="60944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57200" y="25560"/>
            <a:ext cx="8226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детский сад №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Хоровая капелла Удмуртии - Гимн Удмуртии (www.hotplayer.ru).mp3" descr=""/>
          <p:cNvPicPr/>
          <p:nvPr/>
        </p:nvPicPr>
        <p:blipFill>
          <a:blip r:embed="rId2"/>
          <a:stretch/>
        </p:blipFill>
        <p:spPr>
          <a:xfrm>
            <a:off x="8556480" y="622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420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0" y="312840"/>
            <a:ext cx="4711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ыбери достопримечательность Сарап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 rot="360000">
            <a:off x="79200" y="479088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713120" y="393840"/>
            <a:ext cx="4140360" cy="30240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398520" y="1928880"/>
            <a:ext cx="3916440" cy="293832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4680000" y="3780000"/>
            <a:ext cx="4251240" cy="28270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457200" y="260280"/>
            <a:ext cx="39686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а какой реке стоит город Сарапул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85840" y="4572000"/>
            <a:ext cx="1974600" cy="1941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3025800" y="4319640"/>
            <a:ext cx="5792760" cy="23940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179280" y="1878120"/>
            <a:ext cx="4319640" cy="22701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44" name="Picture 5" descr=""/>
          <p:cNvPicPr/>
          <p:nvPr/>
        </p:nvPicPr>
        <p:blipFill>
          <a:blip r:embed="rId4"/>
          <a:stretch/>
        </p:blipFill>
        <p:spPr>
          <a:xfrm>
            <a:off x="4680000" y="539640"/>
            <a:ext cx="4319640" cy="251964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285840" y="214200"/>
            <a:ext cx="3968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ыбери краеведческий музей Сарапу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42880" y="485928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500720" y="3780000"/>
            <a:ext cx="4471920" cy="28764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136440" y="1857240"/>
            <a:ext cx="4106880" cy="28558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4525920" y="426960"/>
            <a:ext cx="4471920" cy="29926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14200" y="179280"/>
            <a:ext cx="38545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ие растен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тут в Удмурт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854520" cy="28893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00720" y="3419640"/>
            <a:ext cx="4332240" cy="31734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714240" y="4643280"/>
            <a:ext cx="1974960" cy="194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4"/>
          <a:stretch/>
        </p:blipFill>
        <p:spPr>
          <a:xfrm>
            <a:off x="4500720" y="453960"/>
            <a:ext cx="4319280" cy="27846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692360" y="2492280"/>
            <a:ext cx="59133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СПАСИБО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00040" y="4643280"/>
            <a:ext cx="1974960" cy="19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12840" y="185760"/>
            <a:ext cx="41115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называется край, в котором мы живём?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400720" y="222120"/>
            <a:ext cx="3541680" cy="26560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334120" y="3959280"/>
            <a:ext cx="3663720" cy="251784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365120" y="2103480"/>
            <a:ext cx="3673440" cy="27543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264960" y="4724280"/>
            <a:ext cx="1974960" cy="19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4788000" y="428760"/>
            <a:ext cx="1539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157720" y="3646440"/>
            <a:ext cx="1540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85840" y="4714920"/>
            <a:ext cx="1974600" cy="1941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4788000" y="500040"/>
            <a:ext cx="3951360" cy="262404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4788000" y="3751200"/>
            <a:ext cx="3951360" cy="28162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534960" y="1855800"/>
            <a:ext cx="4013280" cy="26748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sp>
        <p:nvSpPr>
          <p:cNvPr id="104" name="Rectangle 7"/>
          <p:cNvSpPr/>
          <p:nvPr/>
        </p:nvSpPr>
        <p:spPr>
          <a:xfrm>
            <a:off x="179280" y="220680"/>
            <a:ext cx="44989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азовите столицу Удмурт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214200" y="326880"/>
            <a:ext cx="8498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то коренные жители Удмурт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14200" y="4643280"/>
            <a:ext cx="1974960" cy="194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285840" y="1111320"/>
            <a:ext cx="3808440" cy="26985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148360" y="1181160"/>
            <a:ext cx="3564000" cy="266364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09" name="Picture 5" descr=""/>
          <p:cNvPicPr/>
          <p:nvPr/>
        </p:nvPicPr>
        <p:blipFill>
          <a:blip r:embed="rId4"/>
          <a:stretch/>
        </p:blipFill>
        <p:spPr>
          <a:xfrm>
            <a:off x="3060720" y="4140360"/>
            <a:ext cx="3060720" cy="255888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250920"/>
            <a:ext cx="38260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ой цветок является символом Удмуртии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7120" y="487368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169920" y="1798560"/>
            <a:ext cx="4149720" cy="284472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4487760" y="3959280"/>
            <a:ext cx="4511880" cy="269712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500720" y="541440"/>
            <a:ext cx="4530600" cy="28782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357120" y="360360"/>
            <a:ext cx="38260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кажи удмуртский орнамен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00040" y="485928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4500720" y="474840"/>
            <a:ext cx="4284360" cy="276372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4500720" y="3780000"/>
            <a:ext cx="4319280" cy="29430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179280" y="1979640"/>
            <a:ext cx="4033800" cy="267804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179280" y="182520"/>
            <a:ext cx="4138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ое животное обитает в Удмурт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892760" y="3695760"/>
            <a:ext cx="3925800" cy="27828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857160" y="482112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179280" y="1979640"/>
            <a:ext cx="4319640" cy="27255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4859280" y="179280"/>
            <a:ext cx="3959280" cy="32385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720720" y="179280"/>
            <a:ext cx="359892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называется город в котором мы живё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85840" y="4714920"/>
            <a:ext cx="1974600" cy="1941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859280" y="360360"/>
            <a:ext cx="4138560" cy="28782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4890960" y="3780000"/>
            <a:ext cx="4106880" cy="268596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  <p:pic>
        <p:nvPicPr>
          <p:cNvPr id="129" name="Picture 5" descr=""/>
          <p:cNvPicPr/>
          <p:nvPr/>
        </p:nvPicPr>
        <p:blipFill>
          <a:blip r:embed="rId4"/>
          <a:stretch/>
        </p:blipFill>
        <p:spPr>
          <a:xfrm>
            <a:off x="324000" y="1716120"/>
            <a:ext cx="4174920" cy="2782800"/>
          </a:xfrm>
          <a:prstGeom prst="rect">
            <a:avLst/>
          </a:prstGeom>
          <a:ln w="72000">
            <a:solidFill>
              <a:srgbClr val="0000ff"/>
            </a:solidFill>
            <a:round/>
          </a:ln>
        </p:spPr>
      </p:pic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457200" y="360360"/>
            <a:ext cx="8326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кажи герб города Сарап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85840" y="4714920"/>
            <a:ext cx="1974600" cy="194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3289320" y="2114640"/>
            <a:ext cx="2662200" cy="328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436680" y="1438200"/>
            <a:ext cx="2590560" cy="306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6300720" y="3284640"/>
            <a:ext cx="262908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02:13:22Z</dcterms:created>
  <dc:creator>User</dc:creator>
  <dc:description/>
  <dc:language>en-US</dc:language>
  <cp:lastModifiedBy>11</cp:lastModifiedBy>
  <dcterms:modified xsi:type="dcterms:W3CDTF">2020-11-11T09:46:56Z</dcterms:modified>
  <cp:revision>1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4</vt:r8>
  </property>
</Properties>
</file>